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B3FC-9672-4844-AC7E-F80C7DA8A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iversified portfiolio across all PPP active Member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st diversified in UK, other countries concentrated in sectors or few large pro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Greece = few large projects (Sparta airport, Rion Antion bridge, Eglatiya Highwa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enmark = Ores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86600" y="247680"/>
            <a:ext cx="166680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C86-A011-4451-8581-AE5F7899C68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20120" y="6488280"/>
            <a:ext cx="37476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FR" sz="1300" spc="-1" strike="noStrike">
                <a:solidFill>
                  <a:srgbClr val="003f71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4821120"/>
            <a:ext cx="8982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91440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The EIB financing of PPPs in Portugal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edro Eiras Ant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Banco Europeu de Investimento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ADB, 89 de Dezembro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1828800"/>
            <a:ext cx="86104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project exposure limited initially to 75% (30% for real toll projects) but with maturing of programme, more aggressive approach subsequently adopted for key projects with robust traffic/financial pro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guarantees of up to 100% envisaged for some sche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ackages have consisted of syndications of Portuguese banks, Portuguese/international banks and international banks. Also monoline guarant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9052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ook : on basis of very positive experience to date further strong support envisaged for future road PPP’s and possibility of extension to other sectors, notably health, in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le of European Investment Bank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way projects financed by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28600" y="1447920"/>
            <a:ext cx="8763120" cy="5056200"/>
            <a:chOff x="228600" y="1447920"/>
            <a:chExt cx="8763120" cy="5056200"/>
          </a:xfrm>
        </p:grpSpPr>
        <p:sp>
          <p:nvSpPr>
            <p:cNvPr id="266" name=""/>
            <p:cNvSpPr/>
            <p:nvPr/>
          </p:nvSpPr>
          <p:spPr>
            <a:xfrm>
              <a:off x="2087640" y="1455840"/>
              <a:ext cx="6897600" cy="428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520" y="1882800"/>
              <a:ext cx="8748720" cy="26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520" y="2146320"/>
              <a:ext cx="1852560" cy="1450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1960" y="3233880"/>
              <a:ext cx="1403280" cy="36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6520" y="3595680"/>
              <a:ext cx="1852560" cy="1089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6520" y="4683240"/>
              <a:ext cx="8748720" cy="365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520" y="5045040"/>
              <a:ext cx="1852560" cy="1452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08560" y="6134040"/>
              <a:ext cx="137664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1760" y="1460520"/>
              <a:ext cx="164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N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8880" y="1482840"/>
              <a:ext cx="104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cessiona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4760" y="1482840"/>
              <a:ext cx="90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oan Amou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35840" y="148284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41000" y="14828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n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1720" y="1482840"/>
              <a:ext cx="57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uarant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5680" y="1681200"/>
              <a:ext cx="45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UR 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08280" y="1681200"/>
              <a:ext cx="30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60480" y="1681200"/>
              <a:ext cx="32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6440" y="1897200"/>
              <a:ext cx="113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hadow t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040" y="223056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ira Inter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23160" y="2230560"/>
              <a:ext cx="73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utv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52880" y="2230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77320" y="22305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8320" y="22305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21080" y="223668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 + E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400" y="259380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a da Pr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5080" y="259380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2880" y="2593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77320" y="2593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18320" y="259380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4040" y="26002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400" y="2955960"/>
              <a:ext cx="113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ior N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4480" y="2955960"/>
              <a:ext cx="67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52880" y="2955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77320" y="295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18320" y="29559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14040" y="29624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6000" y="33177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ga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06600" y="331776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52880" y="3317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77320" y="3317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70800" y="33177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47720" y="332424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3880" y="3681360"/>
              <a:ext cx="148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ira Litoral/Al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5080" y="368136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5288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77320" y="36813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8320" y="368136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14040" y="36878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9960" y="4043520"/>
              <a:ext cx="113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ande Por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5080" y="4043520"/>
              <a:ext cx="79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52880" y="40435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7320" y="4043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18320" y="404352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14040" y="404964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400" y="4405320"/>
              <a:ext cx="106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te Lit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06600" y="440532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s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52880" y="4405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7520" y="4405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0800" y="44053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47720" y="441180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o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3840" y="47480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eal t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5680" y="5021280"/>
              <a:ext cx="137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nte Vasco 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8920" y="5241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37840" y="5130720"/>
              <a:ext cx="90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sop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52880" y="51307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77320" y="513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70800" y="51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4040" y="51372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5320" y="5492880"/>
              <a:ext cx="135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iria Motor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43480" y="549288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52880" y="5492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7320" y="5492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18320" y="54928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(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14040" y="54990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6040" y="5856120"/>
              <a:ext cx="151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ves Motor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4400" y="58561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en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52880" y="5856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77320" y="58561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70800" y="58561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(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14040" y="58626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400" y="6218280"/>
              <a:ext cx="116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toral Cen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9800" y="6218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i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2880" y="62182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77320" y="6218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4880" y="6218280"/>
              <a:ext cx="117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7 (6)   Min 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4040" y="6224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77920" y="1447920"/>
              <a:ext cx="180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77920" y="1447920"/>
              <a:ext cx="1764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2760" y="1463760"/>
              <a:ext cx="180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2760" y="1463760"/>
              <a:ext cx="1584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26160" y="1463760"/>
              <a:ext cx="144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6160" y="1463760"/>
              <a:ext cx="1728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00640" y="1463760"/>
              <a:ext cx="180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0640" y="1463760"/>
              <a:ext cx="1584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74040" y="1463760"/>
              <a:ext cx="1440" cy="42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4040" y="1463760"/>
              <a:ext cx="17280" cy="42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7792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920" y="2154240"/>
              <a:ext cx="176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276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2760" y="2154240"/>
              <a:ext cx="158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26160" y="2154240"/>
              <a:ext cx="144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26160" y="2154240"/>
              <a:ext cx="1728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00640" y="2154240"/>
              <a:ext cx="180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00640" y="2154240"/>
              <a:ext cx="1584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74040" y="2154240"/>
              <a:ext cx="1440" cy="25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74040" y="2154240"/>
              <a:ext cx="17280" cy="253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7792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77920" y="5054760"/>
              <a:ext cx="176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276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2760" y="5054760"/>
              <a:ext cx="158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6160" y="5054760"/>
              <a:ext cx="144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6160" y="5054760"/>
              <a:ext cx="1728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00640" y="5054760"/>
              <a:ext cx="180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00640" y="5054760"/>
              <a:ext cx="1584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74040" y="5054760"/>
              <a:ext cx="1440" cy="14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74040" y="5054760"/>
              <a:ext cx="17280" cy="14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75880" y="1463760"/>
              <a:ext cx="1440" cy="504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75880" y="1463760"/>
              <a:ext cx="15840" cy="504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1874880"/>
              <a:ext cx="1440" cy="46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" y="1874880"/>
              <a:ext cx="15840" cy="462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5560" y="1447920"/>
              <a:ext cx="689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95560" y="1447920"/>
              <a:ext cx="689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440" y="18748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4440" y="187488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440" y="213840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440" y="213840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440" y="250020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4440" y="250020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4440" y="28623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40" y="2862360"/>
              <a:ext cx="87472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4440" y="32259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4440" y="32259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4440" y="358776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440" y="35877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440" y="394956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4440" y="3949560"/>
              <a:ext cx="87472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4440" y="431316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440" y="431316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4440" y="46753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4440" y="46753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4440" y="50371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4440" y="5037120"/>
              <a:ext cx="87472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4440" y="540072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440" y="54007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4440" y="5762520"/>
              <a:ext cx="874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440" y="576252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4440" y="61246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4440" y="6124680"/>
              <a:ext cx="87472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440" y="6488280"/>
              <a:ext cx="874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440" y="6488280"/>
              <a:ext cx="874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28600" y="1522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way projects financed by E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0880" y="1522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OTORWAY PROJECTS            RISK MANAGEMENT CYCLE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920" y="1219320"/>
            <a:ext cx="8604000" cy="5488920"/>
            <a:chOff x="304920" y="1219320"/>
            <a:chExt cx="8604000" cy="5488920"/>
          </a:xfrm>
        </p:grpSpPr>
        <p:sp>
          <p:nvSpPr>
            <p:cNvPr id="419" name=""/>
            <p:cNvSpPr/>
            <p:nvPr/>
          </p:nvSpPr>
          <p:spPr>
            <a:xfrm>
              <a:off x="380880" y="6477120"/>
              <a:ext cx="121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Source: CG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920" y="1219320"/>
              <a:ext cx="8604000" cy="5244840"/>
            </a:xfrm>
            <a:prstGeom prst="rect">
              <a:avLst/>
            </a:prstGeom>
            <a:solidFill>
              <a:srgbClr val="ffffcc"/>
            </a:solidFill>
            <a:ln w="127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3400" y="6024600"/>
              <a:ext cx="350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90600" y="3976560"/>
              <a:ext cx="73915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509920" y="1386000"/>
              <a:ext cx="0" cy="45720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0600" y="3962520"/>
              <a:ext cx="304920" cy="83808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3962520"/>
              <a:ext cx="304920" cy="129528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00080" y="3962520"/>
              <a:ext cx="304920" cy="167616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05000" y="3962520"/>
              <a:ext cx="304920" cy="190476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00880" y="39765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n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81320" y="3062160"/>
              <a:ext cx="1066680" cy="914400"/>
            </a:xfrm>
            <a:prstGeom prst="line">
              <a:avLst/>
            </a:prstGeom>
            <a:ln cap="sq"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348000" y="2300400"/>
              <a:ext cx="2209680" cy="761760"/>
            </a:xfrm>
            <a:prstGeom prst="line">
              <a:avLst/>
            </a:prstGeom>
            <a:ln cap="sq"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557680" y="1995120"/>
              <a:ext cx="3124440" cy="304920"/>
            </a:xfrm>
            <a:prstGeom prst="line">
              <a:avLst/>
            </a:prstGeom>
            <a:ln cap="sq"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09920" y="3519360"/>
              <a:ext cx="6248160" cy="0"/>
            </a:xfrm>
            <a:prstGeom prst="line">
              <a:avLst/>
            </a:prstGeom>
            <a:ln cap="sq"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509920" y="3290400"/>
              <a:ext cx="6248160" cy="2286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66920" y="2833200"/>
              <a:ext cx="2286000" cy="114300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652920" y="2680920"/>
              <a:ext cx="1371600" cy="15228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29200" y="2676600"/>
              <a:ext cx="1523880" cy="38088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8400" y="3062160"/>
              <a:ext cx="685800" cy="914400"/>
            </a:xfrm>
            <a:prstGeom prst="line">
              <a:avLst/>
            </a:prstGeom>
            <a:ln cap="sq"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86480" y="169056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3366ff"/>
                  </a:solidFill>
                  <a:latin typeface="Arial"/>
                </a:rPr>
                <a:t>Reven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912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43680" y="3976560"/>
              <a:ext cx="15264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7560" y="4572000"/>
              <a:ext cx="402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Equipment replacement and major widen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4680" y="3519360"/>
              <a:ext cx="162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9933"/>
                  </a:solidFill>
                  <a:latin typeface="Arial"/>
                </a:rPr>
                <a:t>Fixed O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35560" y="32907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993300"/>
                  </a:solidFill>
                  <a:latin typeface="Arial"/>
                </a:rPr>
                <a:t>Variable O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7640" y="2833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d60093"/>
                  </a:solidFill>
                  <a:latin typeface="Arial"/>
                </a:rPr>
                <a:t>Financial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8000" y="3976560"/>
              <a:ext cx="3886200" cy="990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82840" y="4967280"/>
              <a:ext cx="192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pital Amort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509920" y="2604960"/>
              <a:ext cx="1447560" cy="1526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957480" y="245232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57480" y="2452680"/>
              <a:ext cx="838440" cy="76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795920" y="2223720"/>
              <a:ext cx="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5920" y="2224080"/>
              <a:ext cx="68580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481720" y="245232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81720" y="2452680"/>
              <a:ext cx="53316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014880" y="2376000"/>
              <a:ext cx="0" cy="228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4880" y="2376360"/>
              <a:ext cx="762120" cy="3812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77000" y="260496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77000" y="2604960"/>
              <a:ext cx="76212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539120" y="2757240"/>
              <a:ext cx="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39120" y="2757600"/>
              <a:ext cx="304560" cy="1522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843680" y="2604600"/>
              <a:ext cx="0" cy="304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43680" y="2604960"/>
              <a:ext cx="914400" cy="5335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24520" y="2376360"/>
              <a:ext cx="152280" cy="15264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0480" y="1995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5240" y="1612800"/>
              <a:ext cx="1206360" cy="3373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reake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78440" y="22496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cc00"/>
                  </a:solidFill>
                  <a:latin typeface="Arial"/>
                </a:rPr>
                <a:t>Prof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0600" y="29718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29600" y="2332080"/>
              <a:ext cx="546120" cy="3373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682120" y="1995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82120" y="2681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9120" y="5410080"/>
              <a:ext cx="128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nve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3400" y="6019920"/>
              <a:ext cx="4495680" cy="237960"/>
            </a:xfrm>
            <a:prstGeom prst="rect">
              <a:avLst/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3440" y="6015600"/>
              <a:ext cx="27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ISK CONCENTRATION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81720" y="6008760"/>
              <a:ext cx="276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ASH FLOW STABILITY Z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5640" y="161064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2360" y="2743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1200" y="3976560"/>
              <a:ext cx="15228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57680" y="3976560"/>
              <a:ext cx="15264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1880" y="3976560"/>
              <a:ext cx="152640" cy="4572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3380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53320" y="3976560"/>
              <a:ext cx="152280" cy="228600"/>
            </a:xfrm>
            <a:prstGeom prst="rect">
              <a:avLst/>
            </a:prstGeom>
            <a:solidFill>
              <a:srgbClr val="000080"/>
            </a:solidFill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609480" y="1371600"/>
          <a:ext cx="8001000" cy="5315040"/>
        </p:xfrm>
        <a:graphic>
          <a:graphicData uri="http://schemas.openxmlformats.org/drawingml/2006/table">
            <a:tbl>
              <a:tblPr/>
              <a:tblGrid>
                <a:gridCol w="1295640"/>
                <a:gridCol w="1676160"/>
                <a:gridCol w="2210040"/>
                <a:gridCol w="2819160"/>
              </a:tblGrid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umed by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red fully or partially to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red fully or partially to contr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 real toll, convertion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 in approved corridor, Grantor otherw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op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&amp;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/Reven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ed if shadow to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 Maje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ly insur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aire/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or partial CPI index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380880" y="2286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MOTORWAY PROJECTS          TYPICAL RISK ALLOCATION MATRIX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7240" y="162000"/>
            <a:ext cx="9020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354560" y="4516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54560" y="46702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Portuguese SCUTS</a:t>
            </a:r>
            <a:br>
              <a:rPr sz="36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Typical contractu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30600" y="3009960"/>
            <a:ext cx="16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-52200" bIns="-522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52280" y="1427040"/>
            <a:ext cx="8780760" cy="5075280"/>
            <a:chOff x="152280" y="1427040"/>
            <a:chExt cx="8780760" cy="5075280"/>
          </a:xfrm>
        </p:grpSpPr>
        <p:grpSp>
          <p:nvGrpSpPr>
            <p:cNvPr id="489" name=""/>
            <p:cNvGrpSpPr/>
            <p:nvPr/>
          </p:nvGrpSpPr>
          <p:grpSpPr>
            <a:xfrm>
              <a:off x="671400" y="1992240"/>
              <a:ext cx="3240360" cy="3179880"/>
              <a:chOff x="671400" y="1992240"/>
              <a:chExt cx="3240360" cy="3179880"/>
            </a:xfrm>
          </p:grpSpPr>
          <p:sp>
            <p:nvSpPr>
              <p:cNvPr id="490" name=""/>
              <p:cNvSpPr/>
              <p:nvPr/>
            </p:nvSpPr>
            <p:spPr>
              <a:xfrm>
                <a:off x="671400" y="2055960"/>
                <a:ext cx="3076560" cy="3043080"/>
              </a:xfrm>
              <a:custGeom>
                <a:avLst/>
                <a:gdLst/>
                <a:ahLst/>
                <a:rect l="l" t="t" r="r" b="b"/>
                <a:pathLst>
                  <a:path w="1938" h="1917">
                    <a:moveTo>
                      <a:pt x="1938" y="0"/>
                    </a:moveTo>
                    <a:lnTo>
                      <a:pt x="0" y="0"/>
                    </a:lnTo>
                    <a:lnTo>
                      <a:pt x="0" y="1917"/>
                    </a:lnTo>
                    <a:lnTo>
                      <a:pt x="81" y="191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26000" y="1992240"/>
                <a:ext cx="185760" cy="1364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0" y="86"/>
                    </a:moveTo>
                    <a:lnTo>
                      <a:pt x="117" y="46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6160" y="5035680"/>
                <a:ext cx="17460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581280" y="2819520"/>
              <a:ext cx="914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18240" y="4267080"/>
              <a:ext cx="167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ccounting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398760" y="1455840"/>
              <a:ext cx="2179800" cy="1038240"/>
              <a:chOff x="3398760" y="1455840"/>
              <a:chExt cx="2179800" cy="1038240"/>
            </a:xfrm>
          </p:grpSpPr>
          <p:sp>
            <p:nvSpPr>
              <p:cNvPr id="496" name=""/>
              <p:cNvSpPr/>
              <p:nvPr/>
            </p:nvSpPr>
            <p:spPr>
              <a:xfrm>
                <a:off x="4389480" y="1455840"/>
                <a:ext cx="1189080" cy="1038240"/>
              </a:xfrm>
              <a:custGeom>
                <a:avLst/>
                <a:gdLst/>
                <a:ahLst/>
                <a:rect l="l" t="t" r="r" b="b"/>
                <a:pathLst>
                  <a:path w="749" h="654">
                    <a:moveTo>
                      <a:pt x="624" y="65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749" y="556"/>
                    </a:lnTo>
                    <a:lnTo>
                      <a:pt x="624" y="654"/>
                    </a:lnTo>
                    <a:close/>
                  </a:path>
                </a:pathLst>
              </a:custGeom>
              <a:solidFill>
                <a:srgbClr val="cf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98760" y="1609560"/>
                <a:ext cx="1981440" cy="884520"/>
              </a:xfrm>
              <a:custGeom>
                <a:avLst/>
                <a:gdLst/>
                <a:ahLst/>
                <a:rect l="l" t="t" r="r" b="b"/>
                <a:pathLst>
                  <a:path w="1248" h="557">
                    <a:moveTo>
                      <a:pt x="624" y="0"/>
                    </a:moveTo>
                    <a:lnTo>
                      <a:pt x="0" y="557"/>
                    </a:lnTo>
                    <a:lnTo>
                      <a:pt x="1248" y="557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c4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113360" y="1981080"/>
              <a:ext cx="755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Host 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(Gran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270240" y="3832200"/>
              <a:ext cx="2367000" cy="1230480"/>
              <a:chOff x="3270240" y="3832200"/>
              <a:chExt cx="2367000" cy="1230480"/>
            </a:xfrm>
          </p:grpSpPr>
          <p:sp>
            <p:nvSpPr>
              <p:cNvPr id="500" name=""/>
              <p:cNvSpPr/>
              <p:nvPr/>
            </p:nvSpPr>
            <p:spPr>
              <a:xfrm>
                <a:off x="3457440" y="3832200"/>
                <a:ext cx="24444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29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11360" y="3832200"/>
                <a:ext cx="24480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98"/>
                    </a:moveTo>
                    <a:lnTo>
                      <a:pt x="0" y="109"/>
                    </a:lnTo>
                    <a:lnTo>
                      <a:pt x="124" y="12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76440" y="385128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40080" y="385920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3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147" y="0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69040" y="4826160"/>
                <a:ext cx="233280" cy="18072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7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03960" y="479736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0" y="115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15120" y="4761000"/>
                <a:ext cx="222120" cy="191880"/>
              </a:xfrm>
              <a:custGeom>
                <a:avLst/>
                <a:gdLst/>
                <a:ahLst/>
                <a:rect l="l" t="t" r="r" b="b"/>
                <a:pathLst>
                  <a:path w="140" h="121">
                    <a:moveTo>
                      <a:pt x="0" y="121"/>
                    </a:moveTo>
                    <a:lnTo>
                      <a:pt x="15" y="98"/>
                    </a:lnTo>
                    <a:lnTo>
                      <a:pt x="140" y="0"/>
                    </a:lnTo>
                    <a:lnTo>
                      <a:pt x="125" y="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38880" y="472608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38880" y="4014720"/>
                <a:ext cx="198360" cy="865080"/>
              </a:xfrm>
              <a:custGeom>
                <a:avLst/>
                <a:gdLst/>
                <a:ahLst/>
                <a:rect l="l" t="t" r="r" b="b"/>
                <a:pathLst>
                  <a:path w="125" h="545">
                    <a:moveTo>
                      <a:pt x="0" y="545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448"/>
                    </a:lnTo>
                    <a:lnTo>
                      <a:pt x="0" y="545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38880" y="397836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38880" y="39956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1e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8880" y="3978360"/>
                <a:ext cx="198360" cy="17280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0e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15120" y="3941640"/>
                <a:ext cx="222120" cy="192240"/>
              </a:xfrm>
              <a:custGeom>
                <a:avLst/>
                <a:gdLst/>
                <a:ahLst/>
                <a:rect l="l" t="t" r="r" b="b"/>
                <a:pathLst>
                  <a:path w="140" h="121">
                    <a:moveTo>
                      <a:pt x="15" y="12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23"/>
                    </a:lnTo>
                    <a:lnTo>
                      <a:pt x="15" y="121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27720" y="396072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1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fd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15120" y="3941640"/>
                <a:ext cx="210960" cy="17316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ddd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03960" y="39146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15120" y="3924360"/>
                <a:ext cx="198360" cy="17280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dbd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403960" y="391464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d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69040" y="3887640"/>
                <a:ext cx="233280" cy="18108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22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17"/>
                    </a:lnTo>
                    <a:lnTo>
                      <a:pt x="22" y="114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80200" y="3895560"/>
                <a:ext cx="222120" cy="173160"/>
              </a:xfrm>
              <a:custGeom>
                <a:avLst/>
                <a:gdLst/>
                <a:ahLst/>
                <a:rect l="l" t="t" r="r" b="b"/>
                <a:pathLst>
                  <a:path w="140" h="109">
                    <a:moveTo>
                      <a:pt x="15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12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d4d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69040" y="388764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fc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4120" y="385920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2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18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57880" y="38782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bc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34120" y="3859200"/>
                <a:ext cx="222120" cy="173160"/>
              </a:xfrm>
              <a:custGeom>
                <a:avLst/>
                <a:gdLst/>
                <a:ahLst/>
                <a:rect l="l" t="t" r="r" b="b"/>
                <a:pathLst>
                  <a:path w="140" h="109">
                    <a:moveTo>
                      <a:pt x="15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12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c6c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99200" y="385128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322960" y="38512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1c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99200" y="3851280"/>
                <a:ext cx="22212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bab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53120" y="3832200"/>
                <a:ext cx="24444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109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54" y="12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75440" y="384192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b4b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53120" y="383220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da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05240" y="3832200"/>
                <a:ext cx="24480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30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54" y="0"/>
                    </a:lnTo>
                    <a:lnTo>
                      <a:pt x="30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29360" y="38322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a6a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5240" y="383220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03520" y="3832200"/>
                <a:ext cx="1900440" cy="155520"/>
              </a:xfrm>
              <a:custGeom>
                <a:avLst/>
                <a:gdLst/>
                <a:ahLst/>
                <a:rect l="l" t="t" r="r" b="b"/>
                <a:pathLst>
                  <a:path w="1197" h="98">
                    <a:moveTo>
                      <a:pt x="107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197" y="0"/>
                    </a:lnTo>
                    <a:lnTo>
                      <a:pt x="1072" y="98"/>
                    </a:lnTo>
                    <a:close/>
                  </a:path>
                </a:pathLst>
              </a:custGeom>
              <a:solidFill>
                <a:srgbClr val="989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70240" y="3987720"/>
                <a:ext cx="2168640" cy="1074960"/>
              </a:xfrm>
              <a:custGeom>
                <a:avLst/>
                <a:gdLst/>
                <a:ahLst/>
                <a:rect l="l" t="t" r="r" b="b"/>
                <a:pathLst>
                  <a:path w="1366" h="677">
                    <a:moveTo>
                      <a:pt x="147" y="0"/>
                    </a:moveTo>
                    <a:lnTo>
                      <a:pt x="118" y="0"/>
                    </a:lnTo>
                    <a:lnTo>
                      <a:pt x="89" y="11"/>
                    </a:lnTo>
                    <a:lnTo>
                      <a:pt x="67" y="17"/>
                    </a:lnTo>
                    <a:lnTo>
                      <a:pt x="44" y="34"/>
                    </a:lnTo>
                    <a:lnTo>
                      <a:pt x="22" y="51"/>
                    </a:lnTo>
                    <a:lnTo>
                      <a:pt x="15" y="69"/>
                    </a:lnTo>
                    <a:lnTo>
                      <a:pt x="0" y="92"/>
                    </a:lnTo>
                    <a:lnTo>
                      <a:pt x="0" y="114"/>
                    </a:lnTo>
                    <a:lnTo>
                      <a:pt x="0" y="562"/>
                    </a:lnTo>
                    <a:lnTo>
                      <a:pt x="0" y="585"/>
                    </a:lnTo>
                    <a:lnTo>
                      <a:pt x="15" y="608"/>
                    </a:lnTo>
                    <a:lnTo>
                      <a:pt x="22" y="625"/>
                    </a:lnTo>
                    <a:lnTo>
                      <a:pt x="44" y="642"/>
                    </a:lnTo>
                    <a:lnTo>
                      <a:pt x="67" y="660"/>
                    </a:lnTo>
                    <a:lnTo>
                      <a:pt x="89" y="665"/>
                    </a:lnTo>
                    <a:lnTo>
                      <a:pt x="118" y="677"/>
                    </a:lnTo>
                    <a:lnTo>
                      <a:pt x="147" y="677"/>
                    </a:lnTo>
                    <a:lnTo>
                      <a:pt x="1219" y="677"/>
                    </a:lnTo>
                    <a:lnTo>
                      <a:pt x="1249" y="677"/>
                    </a:lnTo>
                    <a:lnTo>
                      <a:pt x="1278" y="665"/>
                    </a:lnTo>
                    <a:lnTo>
                      <a:pt x="1300" y="660"/>
                    </a:lnTo>
                    <a:lnTo>
                      <a:pt x="1322" y="642"/>
                    </a:lnTo>
                    <a:lnTo>
                      <a:pt x="1344" y="625"/>
                    </a:lnTo>
                    <a:lnTo>
                      <a:pt x="1351" y="608"/>
                    </a:lnTo>
                    <a:lnTo>
                      <a:pt x="1366" y="585"/>
                    </a:lnTo>
                    <a:lnTo>
                      <a:pt x="1366" y="562"/>
                    </a:lnTo>
                    <a:lnTo>
                      <a:pt x="1366" y="114"/>
                    </a:lnTo>
                    <a:lnTo>
                      <a:pt x="1366" y="92"/>
                    </a:lnTo>
                    <a:lnTo>
                      <a:pt x="1351" y="69"/>
                    </a:lnTo>
                    <a:lnTo>
                      <a:pt x="1344" y="51"/>
                    </a:lnTo>
                    <a:lnTo>
                      <a:pt x="1322" y="34"/>
                    </a:lnTo>
                    <a:lnTo>
                      <a:pt x="1300" y="17"/>
                    </a:lnTo>
                    <a:lnTo>
                      <a:pt x="1278" y="11"/>
                    </a:lnTo>
                    <a:lnTo>
                      <a:pt x="1249" y="0"/>
                    </a:lnTo>
                    <a:lnTo>
                      <a:pt x="1219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c4c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523680" y="4114800"/>
              <a:ext cx="181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roject Concession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(Special Facilitating Co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826160"/>
              <a:ext cx="810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4516560"/>
              <a:ext cx="1409760" cy="473040"/>
            </a:xfrm>
            <a:custGeom>
              <a:avLst/>
              <a:gdLst/>
              <a:ahLst/>
              <a:rect l="l" t="t" r="r" b="b"/>
              <a:pathLst>
                <a:path w="888" h="298">
                  <a:moveTo>
                    <a:pt x="888" y="149"/>
                  </a:moveTo>
                  <a:lnTo>
                    <a:pt x="756" y="103"/>
                  </a:lnTo>
                  <a:lnTo>
                    <a:pt x="756" y="45"/>
                  </a:lnTo>
                  <a:lnTo>
                    <a:pt x="573" y="45"/>
                  </a:lnTo>
                  <a:lnTo>
                    <a:pt x="441" y="0"/>
                  </a:lnTo>
                  <a:lnTo>
                    <a:pt x="316" y="45"/>
                  </a:lnTo>
                  <a:lnTo>
                    <a:pt x="132" y="45"/>
                  </a:lnTo>
                  <a:lnTo>
                    <a:pt x="132" y="103"/>
                  </a:lnTo>
                  <a:lnTo>
                    <a:pt x="0" y="149"/>
                  </a:lnTo>
                  <a:lnTo>
                    <a:pt x="132" y="195"/>
                  </a:lnTo>
                  <a:lnTo>
                    <a:pt x="132" y="252"/>
                  </a:lnTo>
                  <a:lnTo>
                    <a:pt x="316" y="252"/>
                  </a:lnTo>
                  <a:lnTo>
                    <a:pt x="441" y="298"/>
                  </a:lnTo>
                  <a:lnTo>
                    <a:pt x="573" y="252"/>
                  </a:lnTo>
                  <a:lnTo>
                    <a:pt x="756" y="252"/>
                  </a:lnTo>
                  <a:lnTo>
                    <a:pt x="756" y="195"/>
                  </a:lnTo>
                  <a:lnTo>
                    <a:pt x="888" y="149"/>
                  </a:lnTo>
                  <a:close/>
                </a:path>
              </a:pathLst>
            </a:custGeom>
            <a:solidFill>
              <a:srgbClr val="ffffcc"/>
            </a:solidFill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26320" y="463392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0000"/>
                  </a:solidFill>
                  <a:latin typeface="Arial"/>
                </a:rPr>
                <a:t>=&lt;"BBB"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835200" y="1755720"/>
              <a:ext cx="1223640" cy="682560"/>
              <a:chOff x="835200" y="1755720"/>
              <a:chExt cx="1223640" cy="682560"/>
            </a:xfrm>
          </p:grpSpPr>
          <p:sp>
            <p:nvSpPr>
              <p:cNvPr id="540" name=""/>
              <p:cNvSpPr/>
              <p:nvPr/>
            </p:nvSpPr>
            <p:spPr>
              <a:xfrm>
                <a:off x="880920" y="1755720"/>
                <a:ext cx="23364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008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58960" y="17654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009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6720" y="22478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49320" y="222084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0480" y="1819440"/>
                <a:ext cx="198360" cy="555480"/>
              </a:xfrm>
              <a:custGeom>
                <a:avLst/>
                <a:gdLst/>
                <a:ahLst/>
                <a:rect l="l" t="t" r="r" b="b"/>
                <a:pathLst>
                  <a:path w="125" h="350">
                    <a:moveTo>
                      <a:pt x="0" y="350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253"/>
                    </a:lnTo>
                    <a:lnTo>
                      <a:pt x="0" y="350"/>
                    </a:lnTo>
                    <a:close/>
                  </a:path>
                </a:pathLst>
              </a:custGeom>
              <a:solidFill>
                <a:srgbClr val="00b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49320" y="17924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00b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36720" y="177336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00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14400" y="17654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00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9480" y="17557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009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15840" y="1755720"/>
                <a:ext cx="1060560" cy="155520"/>
              </a:xfrm>
              <a:custGeom>
                <a:avLst/>
                <a:gdLst/>
                <a:ahLst/>
                <a:rect l="l" t="t" r="r" b="b"/>
                <a:pathLst>
                  <a:path w="668" h="98">
                    <a:moveTo>
                      <a:pt x="54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668" y="0"/>
                    </a:lnTo>
                    <a:lnTo>
                      <a:pt x="544" y="98"/>
                    </a:lnTo>
                    <a:close/>
                  </a:path>
                </a:pathLst>
              </a:custGeom>
              <a:solidFill>
                <a:srgbClr val="007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35200" y="1911240"/>
                <a:ext cx="1025280" cy="527040"/>
              </a:xfrm>
              <a:custGeom>
                <a:avLst/>
                <a:gdLst/>
                <a:ahLst/>
                <a:rect l="l" t="t" r="r" b="b"/>
                <a:pathLst>
                  <a:path w="646" h="332">
                    <a:moveTo>
                      <a:pt x="51" y="0"/>
                    </a:moveTo>
                    <a:lnTo>
                      <a:pt x="29" y="5"/>
                    </a:lnTo>
                    <a:lnTo>
                      <a:pt x="15" y="11"/>
                    </a:lnTo>
                    <a:lnTo>
                      <a:pt x="7" y="22"/>
                    </a:lnTo>
                    <a:lnTo>
                      <a:pt x="0" y="40"/>
                    </a:lnTo>
                    <a:lnTo>
                      <a:pt x="0" y="292"/>
                    </a:lnTo>
                    <a:lnTo>
                      <a:pt x="7" y="309"/>
                    </a:lnTo>
                    <a:lnTo>
                      <a:pt x="15" y="321"/>
                    </a:lnTo>
                    <a:lnTo>
                      <a:pt x="29" y="327"/>
                    </a:lnTo>
                    <a:lnTo>
                      <a:pt x="51" y="332"/>
                    </a:lnTo>
                    <a:lnTo>
                      <a:pt x="595" y="332"/>
                    </a:lnTo>
                    <a:lnTo>
                      <a:pt x="617" y="327"/>
                    </a:lnTo>
                    <a:lnTo>
                      <a:pt x="631" y="321"/>
                    </a:lnTo>
                    <a:lnTo>
                      <a:pt x="639" y="309"/>
                    </a:lnTo>
                    <a:lnTo>
                      <a:pt x="646" y="292"/>
                    </a:lnTo>
                    <a:lnTo>
                      <a:pt x="646" y="40"/>
                    </a:lnTo>
                    <a:lnTo>
                      <a:pt x="639" y="22"/>
                    </a:lnTo>
                    <a:lnTo>
                      <a:pt x="631" y="11"/>
                    </a:lnTo>
                    <a:lnTo>
                      <a:pt x="617" y="5"/>
                    </a:lnTo>
                    <a:lnTo>
                      <a:pt x="595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9c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1359000" y="1946160"/>
              <a:ext cx="810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760" y="210168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928800" y="5635800"/>
              <a:ext cx="1245960" cy="446040"/>
              <a:chOff x="928800" y="5635800"/>
              <a:chExt cx="1245960" cy="446040"/>
            </a:xfrm>
          </p:grpSpPr>
          <p:sp>
            <p:nvSpPr>
              <p:cNvPr id="554" name=""/>
              <p:cNvSpPr/>
              <p:nvPr/>
            </p:nvSpPr>
            <p:spPr>
              <a:xfrm>
                <a:off x="963720" y="56358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950760" y="5635800"/>
                <a:ext cx="20988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98"/>
                    </a:moveTo>
                    <a:lnTo>
                      <a:pt x="0" y="109"/>
                    </a:lnTo>
                    <a:lnTo>
                      <a:pt x="125" y="12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54080" y="590076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0" y="103"/>
                    </a:moveTo>
                    <a:lnTo>
                      <a:pt x="14" y="97"/>
                    </a:lnTo>
                    <a:lnTo>
                      <a:pt x="139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76400" y="58816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76400" y="5681520"/>
                <a:ext cx="198360" cy="355680"/>
              </a:xfrm>
              <a:custGeom>
                <a:avLst/>
                <a:gdLst/>
                <a:ahLst/>
                <a:rect l="l" t="t" r="r" b="b"/>
                <a:pathLst>
                  <a:path w="125" h="224">
                    <a:moveTo>
                      <a:pt x="0" y="22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6400" y="56642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54080" y="5654520"/>
                <a:ext cx="220680" cy="16380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941480" y="5635800"/>
                <a:ext cx="211320" cy="17280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19160" y="56358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85680" y="5635800"/>
                <a:ext cx="1132200" cy="15552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588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713" y="0"/>
                    </a:lnTo>
                    <a:lnTo>
                      <a:pt x="588" y="9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28800" y="5791320"/>
                <a:ext cx="1047600" cy="290520"/>
              </a:xfrm>
              <a:custGeom>
                <a:avLst/>
                <a:gdLst/>
                <a:ahLst/>
                <a:rect l="l" t="t" r="r" b="b"/>
                <a:pathLst>
                  <a:path w="660" h="183">
                    <a:moveTo>
                      <a:pt x="36" y="0"/>
                    </a:moveTo>
                    <a:lnTo>
                      <a:pt x="22" y="0"/>
                    </a:lnTo>
                    <a:lnTo>
                      <a:pt x="14" y="11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155"/>
                    </a:lnTo>
                    <a:lnTo>
                      <a:pt x="0" y="166"/>
                    </a:lnTo>
                    <a:lnTo>
                      <a:pt x="14" y="172"/>
                    </a:lnTo>
                    <a:lnTo>
                      <a:pt x="22" y="183"/>
                    </a:lnTo>
                    <a:lnTo>
                      <a:pt x="36" y="183"/>
                    </a:lnTo>
                    <a:lnTo>
                      <a:pt x="624" y="183"/>
                    </a:lnTo>
                    <a:lnTo>
                      <a:pt x="638" y="183"/>
                    </a:lnTo>
                    <a:lnTo>
                      <a:pt x="646" y="172"/>
                    </a:lnTo>
                    <a:lnTo>
                      <a:pt x="660" y="166"/>
                    </a:lnTo>
                    <a:lnTo>
                      <a:pt x="660" y="155"/>
                    </a:lnTo>
                    <a:lnTo>
                      <a:pt x="660" y="29"/>
                    </a:lnTo>
                    <a:lnTo>
                      <a:pt x="660" y="17"/>
                    </a:lnTo>
                    <a:lnTo>
                      <a:pt x="646" y="11"/>
                    </a:lnTo>
                    <a:lnTo>
                      <a:pt x="638" y="0"/>
                    </a:lnTo>
                    <a:lnTo>
                      <a:pt x="6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194120" y="581832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Ban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963720" y="5981760"/>
              <a:ext cx="1211040" cy="446040"/>
              <a:chOff x="963720" y="5981760"/>
              <a:chExt cx="1211040" cy="446040"/>
            </a:xfrm>
          </p:grpSpPr>
          <p:sp>
            <p:nvSpPr>
              <p:cNvPr id="567" name=""/>
              <p:cNvSpPr/>
              <p:nvPr/>
            </p:nvSpPr>
            <p:spPr>
              <a:xfrm>
                <a:off x="998640" y="59817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85680" y="5981760"/>
                <a:ext cx="20988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98"/>
                    </a:moveTo>
                    <a:lnTo>
                      <a:pt x="0" y="109"/>
                    </a:lnTo>
                    <a:lnTo>
                      <a:pt x="125" y="12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4080" y="624672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0" y="103"/>
                    </a:moveTo>
                    <a:lnTo>
                      <a:pt x="14" y="97"/>
                    </a:lnTo>
                    <a:lnTo>
                      <a:pt x="139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76400" y="622764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76400" y="6027840"/>
                <a:ext cx="198360" cy="355320"/>
              </a:xfrm>
              <a:custGeom>
                <a:avLst/>
                <a:gdLst/>
                <a:ahLst/>
                <a:rect l="l" t="t" r="r" b="b"/>
                <a:pathLst>
                  <a:path w="125" h="224">
                    <a:moveTo>
                      <a:pt x="0" y="22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76400" y="601020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54080" y="600084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41480" y="5981760"/>
                <a:ext cx="211320" cy="172800"/>
              </a:xfrm>
              <a:custGeom>
                <a:avLst/>
                <a:gdLst/>
                <a:ahLst/>
                <a:rect l="l" t="t" r="r" b="b"/>
                <a:pathLst>
                  <a:path w="133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19160" y="59817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20600" y="5981760"/>
                <a:ext cx="1097280" cy="155520"/>
              </a:xfrm>
              <a:custGeom>
                <a:avLst/>
                <a:gdLst/>
                <a:ahLst/>
                <a:rect l="l" t="t" r="r" b="b"/>
                <a:pathLst>
                  <a:path w="691" h="98">
                    <a:moveTo>
                      <a:pt x="566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691" y="0"/>
                    </a:lnTo>
                    <a:lnTo>
                      <a:pt x="566" y="9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63720" y="6137280"/>
                <a:ext cx="1012680" cy="290520"/>
              </a:xfrm>
              <a:custGeom>
                <a:avLst/>
                <a:gdLst/>
                <a:ahLst/>
                <a:rect l="l" t="t" r="r" b="b"/>
                <a:pathLst>
                  <a:path w="638" h="183">
                    <a:moveTo>
                      <a:pt x="36" y="0"/>
                    </a:moveTo>
                    <a:lnTo>
                      <a:pt x="22" y="0"/>
                    </a:lnTo>
                    <a:lnTo>
                      <a:pt x="14" y="11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155"/>
                    </a:lnTo>
                    <a:lnTo>
                      <a:pt x="0" y="166"/>
                    </a:lnTo>
                    <a:lnTo>
                      <a:pt x="14" y="172"/>
                    </a:lnTo>
                    <a:lnTo>
                      <a:pt x="22" y="183"/>
                    </a:lnTo>
                    <a:lnTo>
                      <a:pt x="36" y="183"/>
                    </a:lnTo>
                    <a:lnTo>
                      <a:pt x="602" y="183"/>
                    </a:lnTo>
                    <a:lnTo>
                      <a:pt x="616" y="183"/>
                    </a:lnTo>
                    <a:lnTo>
                      <a:pt x="624" y="172"/>
                    </a:lnTo>
                    <a:lnTo>
                      <a:pt x="638" y="166"/>
                    </a:lnTo>
                    <a:lnTo>
                      <a:pt x="638" y="155"/>
                    </a:lnTo>
                    <a:lnTo>
                      <a:pt x="638" y="29"/>
                    </a:lnTo>
                    <a:lnTo>
                      <a:pt x="638" y="17"/>
                    </a:lnTo>
                    <a:lnTo>
                      <a:pt x="624" y="11"/>
                    </a:lnTo>
                    <a:lnTo>
                      <a:pt x="616" y="0"/>
                    </a:lnTo>
                    <a:lnTo>
                      <a:pt x="60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1206720" y="616428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Ban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781360" y="5481720"/>
              <a:ext cx="1014480" cy="536400"/>
              <a:chOff x="2781360" y="5481720"/>
              <a:chExt cx="1014480" cy="536400"/>
            </a:xfrm>
          </p:grpSpPr>
          <p:sp>
            <p:nvSpPr>
              <p:cNvPr id="580" name=""/>
              <p:cNvSpPr/>
              <p:nvPr/>
            </p:nvSpPr>
            <p:spPr>
              <a:xfrm>
                <a:off x="282744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0512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73360" y="58276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86320" y="58006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97120" y="5545080"/>
                <a:ext cx="198720" cy="409680"/>
              </a:xfrm>
              <a:custGeom>
                <a:avLst/>
                <a:gdLst/>
                <a:ahLst/>
                <a:rect l="l" t="t" r="r" b="b"/>
                <a:pathLst>
                  <a:path w="125" h="258">
                    <a:moveTo>
                      <a:pt x="0" y="258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86320" y="55180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7" y="114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73360" y="5499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5140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16480" y="5481720"/>
                <a:ext cx="23148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62360" y="5481720"/>
                <a:ext cx="850680" cy="154080"/>
              </a:xfrm>
              <a:custGeom>
                <a:avLst/>
                <a:gdLst/>
                <a:ahLst/>
                <a:rect l="l" t="t" r="r" b="b"/>
                <a:pathLst>
                  <a:path w="536" h="97">
                    <a:moveTo>
                      <a:pt x="41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36" y="0"/>
                    </a:lnTo>
                    <a:lnTo>
                      <a:pt x="412" y="97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81360" y="5635800"/>
                <a:ext cx="815760" cy="382320"/>
              </a:xfrm>
              <a:custGeom>
                <a:avLst/>
                <a:gdLst/>
                <a:ahLst/>
                <a:rect l="l" t="t" r="r" b="b"/>
                <a:pathLst>
                  <a:path w="514" h="241">
                    <a:moveTo>
                      <a:pt x="51" y="0"/>
                    </a:moveTo>
                    <a:lnTo>
                      <a:pt x="29" y="6"/>
                    </a:lnTo>
                    <a:lnTo>
                      <a:pt x="15" y="12"/>
                    </a:lnTo>
                    <a:lnTo>
                      <a:pt x="7" y="23"/>
                    </a:lnTo>
                    <a:lnTo>
                      <a:pt x="0" y="40"/>
                    </a:lnTo>
                    <a:lnTo>
                      <a:pt x="0" y="201"/>
                    </a:lnTo>
                    <a:lnTo>
                      <a:pt x="7" y="218"/>
                    </a:lnTo>
                    <a:lnTo>
                      <a:pt x="15" y="230"/>
                    </a:lnTo>
                    <a:lnTo>
                      <a:pt x="29" y="236"/>
                    </a:lnTo>
                    <a:lnTo>
                      <a:pt x="51" y="241"/>
                    </a:lnTo>
                    <a:lnTo>
                      <a:pt x="463" y="241"/>
                    </a:lnTo>
                    <a:lnTo>
                      <a:pt x="485" y="236"/>
                    </a:lnTo>
                    <a:lnTo>
                      <a:pt x="499" y="230"/>
                    </a:lnTo>
                    <a:lnTo>
                      <a:pt x="507" y="218"/>
                    </a:lnTo>
                    <a:lnTo>
                      <a:pt x="514" y="201"/>
                    </a:lnTo>
                    <a:lnTo>
                      <a:pt x="514" y="40"/>
                    </a:lnTo>
                    <a:lnTo>
                      <a:pt x="507" y="23"/>
                    </a:lnTo>
                    <a:lnTo>
                      <a:pt x="499" y="12"/>
                    </a:lnTo>
                    <a:lnTo>
                      <a:pt x="485" y="6"/>
                    </a:lnTo>
                    <a:lnTo>
                      <a:pt x="463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981600" y="5508720"/>
              <a:ext cx="968400" cy="546120"/>
              <a:chOff x="3981600" y="5508720"/>
              <a:chExt cx="968400" cy="546120"/>
            </a:xfrm>
          </p:grpSpPr>
          <p:sp>
            <p:nvSpPr>
              <p:cNvPr id="592" name=""/>
              <p:cNvSpPr/>
              <p:nvPr/>
            </p:nvSpPr>
            <p:spPr>
              <a:xfrm>
                <a:off x="4029120" y="5508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360" y="551808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27520" y="586440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40120" y="5837400"/>
                <a:ext cx="209880" cy="18072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51280" y="5572080"/>
                <a:ext cx="198720" cy="419040"/>
              </a:xfrm>
              <a:custGeom>
                <a:avLst/>
                <a:gdLst/>
                <a:ahLst/>
                <a:rect l="l" t="t" r="r" b="b"/>
                <a:pathLst>
                  <a:path w="125" h="264">
                    <a:moveTo>
                      <a:pt x="0" y="26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67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0120" y="5545080"/>
                <a:ext cx="20988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727520" y="5526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05200" y="551808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70280" y="55087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103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64040" y="5508720"/>
                <a:ext cx="803160" cy="155520"/>
              </a:xfrm>
              <a:custGeom>
                <a:avLst/>
                <a:gdLst/>
                <a:ahLst/>
                <a:rect l="l" t="t" r="r" b="b"/>
                <a:pathLst>
                  <a:path w="506" h="98">
                    <a:moveTo>
                      <a:pt x="38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506" y="0"/>
                    </a:lnTo>
                    <a:lnTo>
                      <a:pt x="382" y="98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1600" y="5664240"/>
                <a:ext cx="769680" cy="390600"/>
              </a:xfrm>
              <a:custGeom>
                <a:avLst/>
                <a:gdLst/>
                <a:ahLst/>
                <a:rect l="l" t="t" r="r" b="b"/>
                <a:pathLst>
                  <a:path w="485" h="246">
                    <a:moveTo>
                      <a:pt x="52" y="0"/>
                    </a:moveTo>
                    <a:lnTo>
                      <a:pt x="30" y="5"/>
                    </a:lnTo>
                    <a:lnTo>
                      <a:pt x="15" y="11"/>
                    </a:lnTo>
                    <a:lnTo>
                      <a:pt x="8" y="22"/>
                    </a:lnTo>
                    <a:lnTo>
                      <a:pt x="0" y="40"/>
                    </a:lnTo>
                    <a:lnTo>
                      <a:pt x="0" y="206"/>
                    </a:lnTo>
                    <a:lnTo>
                      <a:pt x="8" y="223"/>
                    </a:lnTo>
                    <a:lnTo>
                      <a:pt x="15" y="235"/>
                    </a:lnTo>
                    <a:lnTo>
                      <a:pt x="30" y="240"/>
                    </a:lnTo>
                    <a:lnTo>
                      <a:pt x="52" y="246"/>
                    </a:lnTo>
                    <a:lnTo>
                      <a:pt x="434" y="246"/>
                    </a:lnTo>
                    <a:lnTo>
                      <a:pt x="456" y="240"/>
                    </a:lnTo>
                    <a:lnTo>
                      <a:pt x="470" y="235"/>
                    </a:lnTo>
                    <a:lnTo>
                      <a:pt x="478" y="223"/>
                    </a:lnTo>
                    <a:lnTo>
                      <a:pt x="485" y="206"/>
                    </a:lnTo>
                    <a:lnTo>
                      <a:pt x="485" y="40"/>
                    </a:lnTo>
                    <a:lnTo>
                      <a:pt x="478" y="22"/>
                    </a:lnTo>
                    <a:lnTo>
                      <a:pt x="470" y="11"/>
                    </a:lnTo>
                    <a:lnTo>
                      <a:pt x="456" y="5"/>
                    </a:lnTo>
                    <a:lnTo>
                      <a:pt x="434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205240" y="5481720"/>
              <a:ext cx="990720" cy="536400"/>
              <a:chOff x="5205240" y="5481720"/>
              <a:chExt cx="990720" cy="536400"/>
            </a:xfrm>
          </p:grpSpPr>
          <p:sp>
            <p:nvSpPr>
              <p:cNvPr id="604" name=""/>
              <p:cNvSpPr/>
              <p:nvPr/>
            </p:nvSpPr>
            <p:spPr>
              <a:xfrm>
                <a:off x="525312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29360" y="5489640"/>
                <a:ext cx="220680" cy="16488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5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75280" y="58276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86440" y="58006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0" y="114"/>
                    </a:moveTo>
                    <a:lnTo>
                      <a:pt x="8" y="97"/>
                    </a:lnTo>
                    <a:lnTo>
                      <a:pt x="132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99040" y="5545080"/>
                <a:ext cx="196920" cy="409680"/>
              </a:xfrm>
              <a:custGeom>
                <a:avLst/>
                <a:gdLst/>
                <a:ahLst/>
                <a:rect l="l" t="t" r="r" b="b"/>
                <a:pathLst>
                  <a:path w="124" h="258">
                    <a:moveTo>
                      <a:pt x="0" y="258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24" y="1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86440" y="5518080"/>
                <a:ext cx="209520" cy="181080"/>
              </a:xfrm>
              <a:custGeom>
                <a:avLst/>
                <a:gdLst/>
                <a:ahLst/>
                <a:rect l="l" t="t" r="r" b="b"/>
                <a:pathLst>
                  <a:path w="132" h="114">
                    <a:moveTo>
                      <a:pt x="8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8" y="114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75280" y="54990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51520" y="5489640"/>
                <a:ext cx="222120" cy="16488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16600" y="54817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88040" y="5481720"/>
                <a:ext cx="826920" cy="154080"/>
              </a:xfrm>
              <a:custGeom>
                <a:avLst/>
                <a:gdLst/>
                <a:ahLst/>
                <a:rect l="l" t="t" r="r" b="b"/>
                <a:pathLst>
                  <a:path w="521" h="97">
                    <a:moveTo>
                      <a:pt x="396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21" y="0"/>
                    </a:lnTo>
                    <a:lnTo>
                      <a:pt x="396" y="97"/>
                    </a:lnTo>
                    <a:close/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05240" y="5635800"/>
                <a:ext cx="793800" cy="382320"/>
              </a:xfrm>
              <a:custGeom>
                <a:avLst/>
                <a:gdLst/>
                <a:ahLst/>
                <a:rect l="l" t="t" r="r" b="b"/>
                <a:pathLst>
                  <a:path w="500" h="241">
                    <a:moveTo>
                      <a:pt x="52" y="0"/>
                    </a:moveTo>
                    <a:lnTo>
                      <a:pt x="30" y="6"/>
                    </a:lnTo>
                    <a:lnTo>
                      <a:pt x="15" y="12"/>
                    </a:lnTo>
                    <a:lnTo>
                      <a:pt x="8" y="23"/>
                    </a:lnTo>
                    <a:lnTo>
                      <a:pt x="0" y="40"/>
                    </a:lnTo>
                    <a:lnTo>
                      <a:pt x="0" y="201"/>
                    </a:lnTo>
                    <a:lnTo>
                      <a:pt x="8" y="218"/>
                    </a:lnTo>
                    <a:lnTo>
                      <a:pt x="15" y="230"/>
                    </a:lnTo>
                    <a:lnTo>
                      <a:pt x="30" y="236"/>
                    </a:lnTo>
                    <a:lnTo>
                      <a:pt x="52" y="241"/>
                    </a:lnTo>
                    <a:lnTo>
                      <a:pt x="448" y="241"/>
                    </a:lnTo>
                    <a:lnTo>
                      <a:pt x="470" y="236"/>
                    </a:lnTo>
                    <a:lnTo>
                      <a:pt x="485" y="230"/>
                    </a:lnTo>
                    <a:lnTo>
                      <a:pt x="492" y="218"/>
                    </a:lnTo>
                    <a:lnTo>
                      <a:pt x="500" y="201"/>
                    </a:lnTo>
                    <a:lnTo>
                      <a:pt x="500" y="40"/>
                    </a:lnTo>
                    <a:lnTo>
                      <a:pt x="492" y="23"/>
                    </a:lnTo>
                    <a:lnTo>
                      <a:pt x="485" y="12"/>
                    </a:lnTo>
                    <a:lnTo>
                      <a:pt x="470" y="6"/>
                    </a:lnTo>
                    <a:lnTo>
                      <a:pt x="44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608280" y="5791320"/>
              <a:ext cx="373320" cy="117360"/>
              <a:chOff x="3608280" y="5791320"/>
              <a:chExt cx="373320" cy="117360"/>
            </a:xfrm>
          </p:grpSpPr>
          <p:sp>
            <p:nvSpPr>
              <p:cNvPr id="616" name=""/>
              <p:cNvSpPr/>
              <p:nvPr/>
            </p:nvSpPr>
            <p:spPr>
              <a:xfrm>
                <a:off x="3691080" y="5837400"/>
                <a:ext cx="198360" cy="172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08280" y="579132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74" h="63">
                    <a:moveTo>
                      <a:pt x="74" y="0"/>
                    </a:moveTo>
                    <a:lnTo>
                      <a:pt x="0" y="29"/>
                    </a:lnTo>
                    <a:lnTo>
                      <a:pt x="66" y="6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65680" y="5808600"/>
                <a:ext cx="115920" cy="100080"/>
              </a:xfrm>
              <a:custGeom>
                <a:avLst/>
                <a:gdLst/>
                <a:ahLst/>
                <a:rect l="l" t="t" r="r" b="b"/>
                <a:pathLst>
                  <a:path w="73" h="63">
                    <a:moveTo>
                      <a:pt x="0" y="63"/>
                    </a:moveTo>
                    <a:lnTo>
                      <a:pt x="73" y="40"/>
                    </a:lnTo>
                    <a:lnTo>
                      <a:pt x="7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751280" y="5791320"/>
              <a:ext cx="466920" cy="117360"/>
              <a:chOff x="4751280" y="5791320"/>
              <a:chExt cx="466920" cy="117360"/>
            </a:xfrm>
          </p:grpSpPr>
          <p:sp>
            <p:nvSpPr>
              <p:cNvPr id="620" name=""/>
              <p:cNvSpPr/>
              <p:nvPr/>
            </p:nvSpPr>
            <p:spPr>
              <a:xfrm flipV="1">
                <a:off x="4844880" y="5837400"/>
                <a:ext cx="268560" cy="172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51280" y="5808600"/>
                <a:ext cx="128520" cy="10008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73" y="0"/>
                    </a:moveTo>
                    <a:lnTo>
                      <a:pt x="0" y="40"/>
                    </a:lnTo>
                    <a:lnTo>
                      <a:pt x="81" y="6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089680" y="5791320"/>
                <a:ext cx="128520" cy="9972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7" y="63"/>
                    </a:moveTo>
                    <a:lnTo>
                      <a:pt x="81" y="29"/>
                    </a:lnTo>
                    <a:lnTo>
                      <a:pt x="0" y="0"/>
                    </a:lnTo>
                    <a:lnTo>
                      <a:pt x="7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5800" y="2209680"/>
              <a:ext cx="233280" cy="2924280"/>
              <a:chOff x="685800" y="2209680"/>
              <a:chExt cx="233280" cy="2924280"/>
            </a:xfrm>
          </p:grpSpPr>
          <p:sp>
            <p:nvSpPr>
              <p:cNvPr id="624" name=""/>
              <p:cNvSpPr/>
              <p:nvPr/>
            </p:nvSpPr>
            <p:spPr>
              <a:xfrm>
                <a:off x="768600" y="2328840"/>
                <a:ext cx="150480" cy="2805120"/>
              </a:xfrm>
              <a:custGeom>
                <a:avLst/>
                <a:gdLst/>
                <a:ahLst/>
                <a:rect l="l" t="t" r="r" b="b"/>
                <a:pathLst>
                  <a:path w="95" h="1767">
                    <a:moveTo>
                      <a:pt x="95" y="1767"/>
                    </a:moveTo>
                    <a:lnTo>
                      <a:pt x="0" y="1767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" y="2209680"/>
                <a:ext cx="176400" cy="146160"/>
              </a:xfrm>
              <a:custGeom>
                <a:avLst/>
                <a:gdLst/>
                <a:ahLst/>
                <a:rect l="l" t="t" r="r" b="b"/>
                <a:pathLst>
                  <a:path w="111" h="92">
                    <a:moveTo>
                      <a:pt x="111" y="92"/>
                    </a:moveTo>
                    <a:lnTo>
                      <a:pt x="59" y="0"/>
                    </a:lnTo>
                    <a:lnTo>
                      <a:pt x="0" y="92"/>
                    </a:lnTo>
                    <a:lnTo>
                      <a:pt x="111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59400" y="4952880"/>
              <a:ext cx="1771920" cy="847800"/>
              <a:chOff x="6359400" y="4952880"/>
              <a:chExt cx="1771920" cy="847800"/>
            </a:xfrm>
          </p:grpSpPr>
          <p:sp>
            <p:nvSpPr>
              <p:cNvPr id="627" name=""/>
              <p:cNvSpPr/>
              <p:nvPr/>
            </p:nvSpPr>
            <p:spPr>
              <a:xfrm>
                <a:off x="6453360" y="4952880"/>
                <a:ext cx="255240" cy="16380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7" y="97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61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a6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07280" y="4962600"/>
                <a:ext cx="244440" cy="181080"/>
              </a:xfrm>
              <a:custGeom>
                <a:avLst/>
                <a:gdLst/>
                <a:ahLst/>
                <a:rect l="l" t="t" r="r" b="b"/>
                <a:pathLst>
                  <a:path w="154" h="114">
                    <a:moveTo>
                      <a:pt x="29" y="97"/>
                    </a:moveTo>
                    <a:lnTo>
                      <a:pt x="0" y="114"/>
                    </a:lnTo>
                    <a:lnTo>
                      <a:pt x="124" y="17"/>
                    </a:lnTo>
                    <a:lnTo>
                      <a:pt x="154" y="0"/>
                    </a:lnTo>
                    <a:lnTo>
                      <a:pt x="29" y="97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86880" y="5572080"/>
                <a:ext cx="233280" cy="192240"/>
              </a:xfrm>
              <a:custGeom>
                <a:avLst/>
                <a:gdLst/>
                <a:ahLst/>
                <a:rect l="l" t="t" r="r" b="b"/>
                <a:pathLst>
                  <a:path w="147" h="121">
                    <a:moveTo>
                      <a:pt x="0" y="121"/>
                    </a:moveTo>
                    <a:lnTo>
                      <a:pt x="22" y="98"/>
                    </a:lnTo>
                    <a:lnTo>
                      <a:pt x="147" y="0"/>
                    </a:lnTo>
                    <a:lnTo>
                      <a:pt x="125" y="23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21800" y="5526000"/>
                <a:ext cx="209520" cy="2016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27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29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32600" y="5072040"/>
                <a:ext cx="198720" cy="609480"/>
              </a:xfrm>
              <a:custGeom>
                <a:avLst/>
                <a:gdLst/>
                <a:ahLst/>
                <a:rect l="l" t="t" r="r" b="b"/>
                <a:pathLst>
                  <a:path w="125" h="384">
                    <a:moveTo>
                      <a:pt x="0" y="38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86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21800" y="502596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7" y="126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29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32600" y="5043600"/>
                <a:ext cx="198720" cy="182520"/>
              </a:xfrm>
              <a:custGeom>
                <a:avLst/>
                <a:gdLst/>
                <a:ahLst/>
                <a:rect l="l" t="t" r="r" b="b"/>
                <a:pathLst>
                  <a:path w="125" h="115">
                    <a:moveTo>
                      <a:pt x="0" y="115"/>
                    </a:moveTo>
                    <a:lnTo>
                      <a:pt x="0" y="98"/>
                    </a:lnTo>
                    <a:lnTo>
                      <a:pt x="118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e1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800" y="502596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7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ed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886880" y="4989600"/>
                <a:ext cx="233280" cy="190440"/>
              </a:xfrm>
              <a:custGeom>
                <a:avLst/>
                <a:gdLst/>
                <a:ahLst/>
                <a:rect l="l" t="t" r="r" b="b"/>
                <a:pathLst>
                  <a:path w="147" h="120">
                    <a:moveTo>
                      <a:pt x="22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23"/>
                    </a:lnTo>
                    <a:lnTo>
                      <a:pt x="22" y="120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10640" y="500688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b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97680" y="499896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3" y="5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d5d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886880" y="498960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840800" y="4962600"/>
                <a:ext cx="244440" cy="181080"/>
              </a:xfrm>
              <a:custGeom>
                <a:avLst/>
                <a:gdLst/>
                <a:ahLst/>
                <a:rect l="l" t="t" r="r" b="b"/>
                <a:pathLst>
                  <a:path w="154" h="114">
                    <a:moveTo>
                      <a:pt x="29" y="114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54" y="17"/>
                    </a:lnTo>
                    <a:lnTo>
                      <a:pt x="29" y="114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875720" y="49798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cb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62760" y="4970520"/>
                <a:ext cx="211320" cy="16488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c3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840800" y="496260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bb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81760" y="4952880"/>
                <a:ext cx="257400" cy="163800"/>
              </a:xfrm>
              <a:custGeom>
                <a:avLst/>
                <a:gdLst/>
                <a:ahLst/>
                <a:rect l="l" t="t" r="r" b="b"/>
                <a:pathLst>
                  <a:path w="162" h="103">
                    <a:moveTo>
                      <a:pt x="3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62" y="6"/>
                    </a:lnTo>
                    <a:lnTo>
                      <a:pt x="37" y="103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816680" y="4962600"/>
                <a:ext cx="22248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1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b4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781760" y="4952880"/>
                <a:ext cx="233640" cy="154080"/>
              </a:xfrm>
              <a:custGeom>
                <a:avLst/>
                <a:gdLst/>
                <a:ahLst/>
                <a:rect l="l" t="t" r="r" b="b"/>
                <a:pathLst>
                  <a:path w="147" h="97">
                    <a:moveTo>
                      <a:pt x="2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6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a6a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12040" y="4952880"/>
                <a:ext cx="1468440" cy="154080"/>
              </a:xfrm>
              <a:custGeom>
                <a:avLst/>
                <a:gdLst/>
                <a:ahLst/>
                <a:rect l="l" t="t" r="r" b="b"/>
                <a:pathLst>
                  <a:path w="925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925" y="0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98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59400" y="5106960"/>
                <a:ext cx="1573200" cy="693720"/>
              </a:xfrm>
              <a:custGeom>
                <a:avLst/>
                <a:gdLst/>
                <a:ahLst/>
                <a:rect l="l" t="t" r="r" b="b"/>
                <a:pathLst>
                  <a:path w="991" h="437">
                    <a:moveTo>
                      <a:pt x="96" y="0"/>
                    </a:moveTo>
                    <a:lnTo>
                      <a:pt x="59" y="6"/>
                    </a:lnTo>
                    <a:lnTo>
                      <a:pt x="30" y="23"/>
                    </a:lnTo>
                    <a:lnTo>
                      <a:pt x="8" y="46"/>
                    </a:lnTo>
                    <a:lnTo>
                      <a:pt x="0" y="75"/>
                    </a:lnTo>
                    <a:lnTo>
                      <a:pt x="0" y="362"/>
                    </a:lnTo>
                    <a:lnTo>
                      <a:pt x="8" y="391"/>
                    </a:lnTo>
                    <a:lnTo>
                      <a:pt x="30" y="414"/>
                    </a:lnTo>
                    <a:lnTo>
                      <a:pt x="59" y="431"/>
                    </a:lnTo>
                    <a:lnTo>
                      <a:pt x="96" y="437"/>
                    </a:lnTo>
                    <a:lnTo>
                      <a:pt x="896" y="437"/>
                    </a:lnTo>
                    <a:lnTo>
                      <a:pt x="933" y="431"/>
                    </a:lnTo>
                    <a:lnTo>
                      <a:pt x="962" y="414"/>
                    </a:lnTo>
                    <a:lnTo>
                      <a:pt x="984" y="391"/>
                    </a:lnTo>
                    <a:lnTo>
                      <a:pt x="991" y="362"/>
                    </a:lnTo>
                    <a:lnTo>
                      <a:pt x="991" y="75"/>
                    </a:lnTo>
                    <a:lnTo>
                      <a:pt x="984" y="46"/>
                    </a:lnTo>
                    <a:lnTo>
                      <a:pt x="962" y="23"/>
                    </a:lnTo>
                    <a:lnTo>
                      <a:pt x="933" y="6"/>
                    </a:lnTo>
                    <a:lnTo>
                      <a:pt x="89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c4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6747120" y="5257800"/>
              <a:ext cx="864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ffffff"/>
                  </a:solidFill>
                  <a:latin typeface="Arial"/>
                </a:rPr>
                <a:t>Contra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ffffff"/>
                  </a:solidFill>
                  <a:latin typeface="Arial"/>
                </a:rPr>
                <a:t>Consort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497560" y="4707000"/>
              <a:ext cx="1655640" cy="399960"/>
              <a:chOff x="5497560" y="4707000"/>
              <a:chExt cx="1655640" cy="399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637240" y="4770360"/>
                <a:ext cx="1515960" cy="336600"/>
              </a:xfrm>
              <a:custGeom>
                <a:avLst/>
                <a:gdLst/>
                <a:ahLst/>
                <a:rect l="l" t="t" r="r" b="b"/>
                <a:pathLst>
                  <a:path w="955" h="212">
                    <a:moveTo>
                      <a:pt x="955" y="212"/>
                    </a:moveTo>
                    <a:lnTo>
                      <a:pt x="955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97560" y="4707000"/>
                <a:ext cx="17460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110" y="0"/>
                    </a:moveTo>
                    <a:lnTo>
                      <a:pt x="0" y="46"/>
                    </a:lnTo>
                    <a:lnTo>
                      <a:pt x="110" y="8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742000" y="1427040"/>
              <a:ext cx="2633760" cy="811440"/>
              <a:chOff x="5742000" y="1427040"/>
              <a:chExt cx="2633760" cy="811440"/>
            </a:xfrm>
          </p:grpSpPr>
          <p:sp>
            <p:nvSpPr>
              <p:cNvPr id="653" name=""/>
              <p:cNvSpPr/>
              <p:nvPr/>
            </p:nvSpPr>
            <p:spPr>
              <a:xfrm>
                <a:off x="5742000" y="1427040"/>
                <a:ext cx="1411200" cy="811440"/>
              </a:xfrm>
              <a:custGeom>
                <a:avLst/>
                <a:gdLst/>
                <a:ahLst/>
                <a:rect l="l" t="t" r="r" b="b"/>
                <a:pathLst>
                  <a:path w="889" h="511">
                    <a:moveTo>
                      <a:pt x="764" y="98"/>
                    </a:moveTo>
                    <a:lnTo>
                      <a:pt x="0" y="511"/>
                    </a:lnTo>
                    <a:lnTo>
                      <a:pt x="125" y="414"/>
                    </a:lnTo>
                    <a:lnTo>
                      <a:pt x="889" y="0"/>
                    </a:lnTo>
                    <a:lnTo>
                      <a:pt x="764" y="98"/>
                    </a:lnTo>
                    <a:close/>
                  </a:path>
                </a:pathLst>
              </a:custGeom>
              <a:solidFill>
                <a:srgbClr val="c19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4840" y="1427040"/>
                <a:ext cx="1420920" cy="811440"/>
              </a:xfrm>
              <a:custGeom>
                <a:avLst/>
                <a:gdLst/>
                <a:ahLst/>
                <a:rect l="l" t="t" r="r" b="b"/>
                <a:pathLst>
                  <a:path w="895" h="511">
                    <a:moveTo>
                      <a:pt x="771" y="51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895" y="414"/>
                    </a:lnTo>
                    <a:lnTo>
                      <a:pt x="771" y="511"/>
                    </a:lnTo>
                    <a:close/>
                  </a:path>
                </a:pathLst>
              </a:custGeom>
              <a:solidFill>
                <a:srgbClr val="c19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742000" y="1582560"/>
                <a:ext cx="2436840" cy="655920"/>
              </a:xfrm>
              <a:custGeom>
                <a:avLst/>
                <a:gdLst/>
                <a:ahLst/>
                <a:rect l="l" t="t" r="r" b="b"/>
                <a:pathLst>
                  <a:path w="1535" h="413">
                    <a:moveTo>
                      <a:pt x="764" y="0"/>
                    </a:moveTo>
                    <a:lnTo>
                      <a:pt x="0" y="413"/>
                    </a:lnTo>
                    <a:lnTo>
                      <a:pt x="1535" y="413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c49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6705720" y="19051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U Fu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6161040" y="2301840"/>
              <a:ext cx="2133720" cy="828720"/>
              <a:chOff x="6161040" y="2301840"/>
              <a:chExt cx="2133720" cy="828720"/>
            </a:xfrm>
          </p:grpSpPr>
          <p:sp>
            <p:nvSpPr>
              <p:cNvPr id="658" name=""/>
              <p:cNvSpPr/>
              <p:nvPr/>
            </p:nvSpPr>
            <p:spPr>
              <a:xfrm>
                <a:off x="6931080" y="2301840"/>
                <a:ext cx="396720" cy="165240"/>
              </a:xfrm>
              <a:custGeom>
                <a:avLst/>
                <a:gdLst/>
                <a:ahLst/>
                <a:rect l="l" t="t" r="r" b="b"/>
                <a:pathLst>
                  <a:path w="250" h="104">
                    <a:moveTo>
                      <a:pt x="125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250" y="0"/>
                    </a:lnTo>
                    <a:lnTo>
                      <a:pt x="125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9452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5960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9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35840" y="230184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a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00920" y="230184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600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93108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d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56480" y="2311560"/>
                <a:ext cx="372960" cy="172800"/>
              </a:xfrm>
              <a:custGeom>
                <a:avLst/>
                <a:gdLst/>
                <a:ahLst/>
                <a:rect l="l" t="t" r="r" b="b"/>
                <a:pathLst>
                  <a:path w="235" h="109">
                    <a:moveTo>
                      <a:pt x="110" y="98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235" y="0"/>
                    </a:lnTo>
                    <a:lnTo>
                      <a:pt x="110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07320" y="231156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72400" y="2311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837480" y="231156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15160" y="2320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4" y="97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8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0240" y="2320920"/>
                <a:ext cx="231840" cy="16344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4" y="5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756480" y="2328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593040" y="2328840"/>
                <a:ext cx="361800" cy="182520"/>
              </a:xfrm>
              <a:custGeom>
                <a:avLst/>
                <a:gdLst/>
                <a:ahLst/>
                <a:rect l="l" t="t" r="r" b="b"/>
                <a:pathLst>
                  <a:path w="228" h="115">
                    <a:moveTo>
                      <a:pt x="103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228" y="0"/>
                    </a:lnTo>
                    <a:lnTo>
                      <a:pt x="103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21560" y="232884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686640" y="233856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5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651720" y="233856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86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616800" y="2347920"/>
                <a:ext cx="233280" cy="16344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7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93040" y="2357280"/>
                <a:ext cx="22212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8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42200" y="2357280"/>
                <a:ext cx="349200" cy="200160"/>
              </a:xfrm>
              <a:custGeom>
                <a:avLst/>
                <a:gdLst/>
                <a:ahLst/>
                <a:rect l="l" t="t" r="r" b="b"/>
                <a:pathLst>
                  <a:path w="220" h="126">
                    <a:moveTo>
                      <a:pt x="95" y="97"/>
                    </a:moveTo>
                    <a:lnTo>
                      <a:pt x="0" y="126"/>
                    </a:lnTo>
                    <a:lnTo>
                      <a:pt x="124" y="28"/>
                    </a:lnTo>
                    <a:lnTo>
                      <a:pt x="220" y="0"/>
                    </a:lnTo>
                    <a:lnTo>
                      <a:pt x="95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34000" y="2357280"/>
                <a:ext cx="257400" cy="173160"/>
              </a:xfrm>
              <a:custGeom>
                <a:avLst/>
                <a:gdLst/>
                <a:ahLst/>
                <a:rect l="l" t="t" r="r" b="b"/>
                <a:pathLst>
                  <a:path w="162" h="109">
                    <a:moveTo>
                      <a:pt x="37" y="97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162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488280" y="2374920"/>
                <a:ext cx="244440" cy="163440"/>
              </a:xfrm>
              <a:custGeom>
                <a:avLst/>
                <a:gdLst/>
                <a:ahLst/>
                <a:rect l="l" t="t" r="r" b="b"/>
                <a:pathLst>
                  <a:path w="154" h="103">
                    <a:moveTo>
                      <a:pt x="29" y="98"/>
                    </a:moveTo>
                    <a:lnTo>
                      <a:pt x="0" y="103"/>
                    </a:lnTo>
                    <a:lnTo>
                      <a:pt x="125" y="6"/>
                    </a:lnTo>
                    <a:lnTo>
                      <a:pt x="154" y="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8c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442200" y="2384280"/>
                <a:ext cx="244440" cy="17316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29" y="97"/>
                    </a:moveTo>
                    <a:lnTo>
                      <a:pt x="0" y="109"/>
                    </a:lnTo>
                    <a:lnTo>
                      <a:pt x="124" y="11"/>
                    </a:lnTo>
                    <a:lnTo>
                      <a:pt x="154" y="0"/>
                    </a:lnTo>
                    <a:lnTo>
                      <a:pt x="29" y="97"/>
                    </a:lnTo>
                    <a:close/>
                  </a:path>
                </a:pathLst>
              </a:custGeom>
              <a:solidFill>
                <a:srgbClr val="8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24480" y="2401920"/>
                <a:ext cx="314280" cy="201600"/>
              </a:xfrm>
              <a:custGeom>
                <a:avLst/>
                <a:gdLst/>
                <a:ahLst/>
                <a:rect l="l" t="t" r="r" b="b"/>
                <a:pathLst>
                  <a:path w="198" h="127">
                    <a:moveTo>
                      <a:pt x="74" y="98"/>
                    </a:moveTo>
                    <a:lnTo>
                      <a:pt x="0" y="127"/>
                    </a:lnTo>
                    <a:lnTo>
                      <a:pt x="125" y="29"/>
                    </a:lnTo>
                    <a:lnTo>
                      <a:pt x="198" y="0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383160" y="240192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61" h="115">
                    <a:moveTo>
                      <a:pt x="37" y="98"/>
                    </a:moveTo>
                    <a:lnTo>
                      <a:pt x="0" y="115"/>
                    </a:lnTo>
                    <a:lnTo>
                      <a:pt x="125" y="18"/>
                    </a:lnTo>
                    <a:lnTo>
                      <a:pt x="161" y="0"/>
                    </a:lnTo>
                    <a:lnTo>
                      <a:pt x="37" y="98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24480" y="2430360"/>
                <a:ext cx="257400" cy="173160"/>
              </a:xfrm>
              <a:custGeom>
                <a:avLst/>
                <a:gdLst/>
                <a:ahLst/>
                <a:rect l="l" t="t" r="r" b="b"/>
                <a:pathLst>
                  <a:path w="162" h="109">
                    <a:moveTo>
                      <a:pt x="37" y="97"/>
                    </a:moveTo>
                    <a:lnTo>
                      <a:pt x="0" y="109"/>
                    </a:lnTo>
                    <a:lnTo>
                      <a:pt x="125" y="11"/>
                    </a:lnTo>
                    <a:lnTo>
                      <a:pt x="162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95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43480" y="2448000"/>
                <a:ext cx="279720" cy="218880"/>
              </a:xfrm>
              <a:custGeom>
                <a:avLst/>
                <a:gdLst/>
                <a:ahLst/>
                <a:rect l="l" t="t" r="r" b="b"/>
                <a:pathLst>
                  <a:path w="176" h="138">
                    <a:moveTo>
                      <a:pt x="51" y="98"/>
                    </a:moveTo>
                    <a:lnTo>
                      <a:pt x="0" y="138"/>
                    </a:lnTo>
                    <a:lnTo>
                      <a:pt x="117" y="40"/>
                    </a:lnTo>
                    <a:lnTo>
                      <a:pt x="176" y="0"/>
                    </a:lnTo>
                    <a:lnTo>
                      <a:pt x="51" y="98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15400" y="2739960"/>
                <a:ext cx="233280" cy="18108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7" y="0"/>
                    </a:lnTo>
                    <a:lnTo>
                      <a:pt x="125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50320" y="2703600"/>
                <a:ext cx="220680" cy="190440"/>
              </a:xfrm>
              <a:custGeom>
                <a:avLst/>
                <a:gdLst/>
                <a:ahLst/>
                <a:rect l="l" t="t" r="r" b="b"/>
                <a:pathLst>
                  <a:path w="139" h="120">
                    <a:moveTo>
                      <a:pt x="0" y="120"/>
                    </a:moveTo>
                    <a:lnTo>
                      <a:pt x="15" y="97"/>
                    </a:lnTo>
                    <a:lnTo>
                      <a:pt x="139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74080" y="2674800"/>
                <a:ext cx="220680" cy="182880"/>
              </a:xfrm>
              <a:custGeom>
                <a:avLst/>
                <a:gdLst/>
                <a:ahLst/>
                <a:rect l="l" t="t" r="r" b="b"/>
                <a:pathLst>
                  <a:path w="139" h="115">
                    <a:moveTo>
                      <a:pt x="0" y="115"/>
                    </a:moveTo>
                    <a:lnTo>
                      <a:pt x="14" y="98"/>
                    </a:lnTo>
                    <a:lnTo>
                      <a:pt x="139" y="0"/>
                    </a:lnTo>
                    <a:lnTo>
                      <a:pt x="124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96400" y="2639880"/>
                <a:ext cx="198360" cy="19080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96400" y="2603520"/>
                <a:ext cx="198360" cy="190440"/>
              </a:xfrm>
              <a:custGeom>
                <a:avLst/>
                <a:gdLst/>
                <a:ahLst/>
                <a:rect l="l" t="t" r="r" b="b"/>
                <a:pathLst>
                  <a:path w="125" h="120">
                    <a:moveTo>
                      <a:pt x="0" y="120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96400" y="262080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096400" y="260352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74080" y="2575080"/>
                <a:ext cx="220680" cy="182520"/>
              </a:xfrm>
              <a:custGeom>
                <a:avLst/>
                <a:gdLst/>
                <a:ahLst/>
                <a:rect l="l" t="t" r="r" b="b"/>
                <a:pathLst>
                  <a:path w="139" h="115">
                    <a:moveTo>
                      <a:pt x="14" y="115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18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85240" y="25844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b2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74080" y="257508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b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50320" y="2538360"/>
                <a:ext cx="220680" cy="192240"/>
              </a:xfrm>
              <a:custGeom>
                <a:avLst/>
                <a:gdLst/>
                <a:ahLst/>
                <a:rect l="l" t="t" r="r" b="b"/>
                <a:pathLst>
                  <a:path w="139" h="121">
                    <a:moveTo>
                      <a:pt x="15" y="121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23"/>
                    </a:lnTo>
                    <a:lnTo>
                      <a:pt x="15" y="121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61480" y="25574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8" y="109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11"/>
                    </a:lnTo>
                    <a:lnTo>
                      <a:pt x="8" y="109"/>
                    </a:lnTo>
                    <a:close/>
                  </a:path>
                </a:pathLst>
              </a:custGeom>
              <a:solidFill>
                <a:srgbClr val="ae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50320" y="253836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b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15400" y="2511360"/>
                <a:ext cx="233280" cy="182520"/>
              </a:xfrm>
              <a:custGeom>
                <a:avLst/>
                <a:gdLst/>
                <a:ahLst/>
                <a:rect l="l" t="t" r="r" b="b"/>
                <a:pathLst>
                  <a:path w="147" h="115">
                    <a:moveTo>
                      <a:pt x="22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17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39160" y="253044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9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26560" y="25210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7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5400" y="25113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5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32600" y="2448000"/>
                <a:ext cx="281160" cy="218880"/>
              </a:xfrm>
              <a:custGeom>
                <a:avLst/>
                <a:gdLst/>
                <a:ahLst/>
                <a:rect l="l" t="t" r="r" b="b"/>
                <a:pathLst>
                  <a:path w="177" h="138">
                    <a:moveTo>
                      <a:pt x="52" y="13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77" y="40"/>
                    </a:lnTo>
                    <a:lnTo>
                      <a:pt x="52" y="138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04240" y="250200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a3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91640" y="249408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1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80480" y="247500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a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56720" y="246708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9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45560" y="24573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d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32600" y="244800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9b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16680" y="2401920"/>
                <a:ext cx="314640" cy="201600"/>
              </a:xfrm>
              <a:custGeom>
                <a:avLst/>
                <a:gdLst/>
                <a:ahLst/>
                <a:rect l="l" t="t" r="r" b="b"/>
                <a:pathLst>
                  <a:path w="198" h="127">
                    <a:moveTo>
                      <a:pt x="73" y="127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98" y="29"/>
                    </a:lnTo>
                    <a:lnTo>
                      <a:pt x="73" y="127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10640" y="244800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9a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243828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98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75720" y="2430360"/>
                <a:ext cx="22068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97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62760" y="2421000"/>
                <a:ext cx="211320" cy="163440"/>
              </a:xfrm>
              <a:custGeom>
                <a:avLst/>
                <a:gdLst/>
                <a:ahLst/>
                <a:rect l="l" t="t" r="r" b="b"/>
                <a:pathLst>
                  <a:path w="133" h="103">
                    <a:moveTo>
                      <a:pt x="8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3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96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51600" y="2411280"/>
                <a:ext cx="20988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4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27840" y="2411280"/>
                <a:ext cx="222480" cy="155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93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6680" y="2401920"/>
                <a:ext cx="209880" cy="1652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92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66200" y="2357280"/>
                <a:ext cx="349200" cy="200160"/>
              </a:xfrm>
              <a:custGeom>
                <a:avLst/>
                <a:gdLst/>
                <a:ahLst/>
                <a:rect l="l" t="t" r="r" b="b"/>
                <a:pathLst>
                  <a:path w="220" h="126">
                    <a:moveTo>
                      <a:pt x="95" y="126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220" y="28"/>
                    </a:lnTo>
                    <a:lnTo>
                      <a:pt x="95" y="126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92920" y="239400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91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81760" y="2394000"/>
                <a:ext cx="20988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9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000" y="2384280"/>
                <a:ext cx="222480" cy="16380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46840" y="2384280"/>
                <a:ext cx="20988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8e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23080" y="237492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01120" y="2365200"/>
                <a:ext cx="220680" cy="16524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4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8c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88160" y="236520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32" h="98">
                    <a:moveTo>
                      <a:pt x="8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8" y="98"/>
                    </a:lnTo>
                    <a:close/>
                  </a:path>
                </a:pathLst>
              </a:custGeom>
              <a:solidFill>
                <a:srgbClr val="8b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66200" y="2357280"/>
                <a:ext cx="220680" cy="16380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5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8a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02400" y="2328840"/>
                <a:ext cx="360360" cy="182520"/>
              </a:xfrm>
              <a:custGeom>
                <a:avLst/>
                <a:gdLst/>
                <a:ahLst/>
                <a:rect l="l" t="t" r="r" b="b"/>
                <a:pathLst>
                  <a:path w="227" h="115">
                    <a:moveTo>
                      <a:pt x="103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227" y="18"/>
                    </a:lnTo>
                    <a:lnTo>
                      <a:pt x="103" y="115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53240" y="2357280"/>
                <a:ext cx="209520" cy="15408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8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8" y="97"/>
                    </a:lnTo>
                    <a:close/>
                  </a:path>
                </a:pathLst>
              </a:custGeom>
              <a:solidFill>
                <a:srgbClr val="8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31280" y="2347920"/>
                <a:ext cx="220320" cy="163440"/>
              </a:xfrm>
              <a:custGeom>
                <a:avLst/>
                <a:gdLst/>
                <a:ahLst/>
                <a:rect l="l" t="t" r="r" b="b"/>
                <a:pathLst>
                  <a:path w="139" h="103">
                    <a:moveTo>
                      <a:pt x="14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9" y="6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89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07160" y="2347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8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83400" y="2347920"/>
                <a:ext cx="222480" cy="15408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7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72240" y="233856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87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48480" y="233856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6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24720" y="2328840"/>
                <a:ext cx="222120" cy="16524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85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02400" y="2328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84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27800" y="2311560"/>
                <a:ext cx="373320" cy="172800"/>
              </a:xfrm>
              <a:custGeom>
                <a:avLst/>
                <a:gdLst/>
                <a:ahLst/>
                <a:rect l="l" t="t" r="r" b="b"/>
                <a:pathLst>
                  <a:path w="235" h="109">
                    <a:moveTo>
                      <a:pt x="110" y="109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235" y="11"/>
                    </a:lnTo>
                    <a:lnTo>
                      <a:pt x="110" y="109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78640" y="2328840"/>
                <a:ext cx="22248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4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54880" y="2320920"/>
                <a:ext cx="22212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0" y="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3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432560" y="2320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4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8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7640" y="2320920"/>
                <a:ext cx="233640" cy="154080"/>
              </a:xfrm>
              <a:custGeom>
                <a:avLst/>
                <a:gdLst/>
                <a:ahLst/>
                <a:rect l="l" t="t" r="r" b="b"/>
                <a:pathLst>
                  <a:path w="147" h="97">
                    <a:moveTo>
                      <a:pt x="22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81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73880" y="2311560"/>
                <a:ext cx="222480" cy="16344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5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6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0120" y="231156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8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27800" y="231156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4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4" y="98"/>
                    </a:lnTo>
                    <a:close/>
                  </a:path>
                </a:pathLst>
              </a:custGeom>
              <a:solidFill>
                <a:srgbClr val="7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29440" y="2301840"/>
                <a:ext cx="395280" cy="165240"/>
              </a:xfrm>
              <a:custGeom>
                <a:avLst/>
                <a:gdLst/>
                <a:ahLst/>
                <a:rect l="l" t="t" r="r" b="b"/>
                <a:pathLst>
                  <a:path w="249" h="104">
                    <a:moveTo>
                      <a:pt x="125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249" y="6"/>
                    </a:lnTo>
                    <a:lnTo>
                      <a:pt x="125" y="104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92880" y="2311560"/>
                <a:ext cx="231840" cy="155520"/>
              </a:xfrm>
              <a:custGeom>
                <a:avLst/>
                <a:gdLst/>
                <a:ahLst/>
                <a:rect l="l" t="t" r="r" b="b"/>
                <a:pathLst>
                  <a:path w="146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7960" y="2311560"/>
                <a:ext cx="231840" cy="155520"/>
              </a:xfrm>
              <a:custGeom>
                <a:avLst/>
                <a:gdLst/>
                <a:ahLst/>
                <a:rect l="l" t="t" r="r" b="b"/>
                <a:pathLst>
                  <a:path w="146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e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23040" y="2301840"/>
                <a:ext cx="231840" cy="16524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22" y="104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46" y="6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7d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99280" y="230184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5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9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7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6436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29440" y="2301840"/>
                <a:ext cx="233280" cy="155520"/>
              </a:xfrm>
              <a:custGeom>
                <a:avLst/>
                <a:gdLst/>
                <a:ahLst/>
                <a:rect l="l" t="t" r="r" b="b"/>
                <a:pathLst>
                  <a:path w="147" h="98">
                    <a:moveTo>
                      <a:pt x="22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7a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61040" y="2457360"/>
                <a:ext cx="1935360" cy="673200"/>
              </a:xfrm>
              <a:custGeom>
                <a:avLst/>
                <a:gdLst/>
                <a:ahLst/>
                <a:rect l="l" t="t" r="r" b="b"/>
                <a:pathLst>
                  <a:path w="1219" h="424">
                    <a:moveTo>
                      <a:pt x="610" y="0"/>
                    </a:moveTo>
                    <a:lnTo>
                      <a:pt x="485" y="6"/>
                    </a:lnTo>
                    <a:lnTo>
                      <a:pt x="375" y="17"/>
                    </a:lnTo>
                    <a:lnTo>
                      <a:pt x="272" y="34"/>
                    </a:lnTo>
                    <a:lnTo>
                      <a:pt x="177" y="63"/>
                    </a:lnTo>
                    <a:lnTo>
                      <a:pt x="103" y="92"/>
                    </a:lnTo>
                    <a:lnTo>
                      <a:pt x="52" y="132"/>
                    </a:lnTo>
                    <a:lnTo>
                      <a:pt x="30" y="149"/>
                    </a:lnTo>
                    <a:lnTo>
                      <a:pt x="15" y="172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35"/>
                    </a:lnTo>
                    <a:lnTo>
                      <a:pt x="15" y="252"/>
                    </a:lnTo>
                    <a:lnTo>
                      <a:pt x="30" y="275"/>
                    </a:lnTo>
                    <a:lnTo>
                      <a:pt x="52" y="292"/>
                    </a:lnTo>
                    <a:lnTo>
                      <a:pt x="103" y="333"/>
                    </a:lnTo>
                    <a:lnTo>
                      <a:pt x="177" y="361"/>
                    </a:lnTo>
                    <a:lnTo>
                      <a:pt x="272" y="390"/>
                    </a:lnTo>
                    <a:lnTo>
                      <a:pt x="375" y="407"/>
                    </a:lnTo>
                    <a:lnTo>
                      <a:pt x="485" y="419"/>
                    </a:lnTo>
                    <a:lnTo>
                      <a:pt x="610" y="424"/>
                    </a:lnTo>
                    <a:lnTo>
                      <a:pt x="735" y="419"/>
                    </a:lnTo>
                    <a:lnTo>
                      <a:pt x="845" y="407"/>
                    </a:lnTo>
                    <a:lnTo>
                      <a:pt x="948" y="390"/>
                    </a:lnTo>
                    <a:lnTo>
                      <a:pt x="1043" y="361"/>
                    </a:lnTo>
                    <a:lnTo>
                      <a:pt x="1116" y="333"/>
                    </a:lnTo>
                    <a:lnTo>
                      <a:pt x="1168" y="292"/>
                    </a:lnTo>
                    <a:lnTo>
                      <a:pt x="1190" y="275"/>
                    </a:lnTo>
                    <a:lnTo>
                      <a:pt x="1205" y="252"/>
                    </a:lnTo>
                    <a:lnTo>
                      <a:pt x="1219" y="235"/>
                    </a:lnTo>
                    <a:lnTo>
                      <a:pt x="1219" y="212"/>
                    </a:lnTo>
                    <a:lnTo>
                      <a:pt x="1219" y="189"/>
                    </a:lnTo>
                    <a:lnTo>
                      <a:pt x="1205" y="172"/>
                    </a:lnTo>
                    <a:lnTo>
                      <a:pt x="1190" y="149"/>
                    </a:lnTo>
                    <a:lnTo>
                      <a:pt x="1168" y="132"/>
                    </a:lnTo>
                    <a:lnTo>
                      <a:pt x="1116" y="92"/>
                    </a:lnTo>
                    <a:lnTo>
                      <a:pt x="1043" y="63"/>
                    </a:lnTo>
                    <a:lnTo>
                      <a:pt x="948" y="34"/>
                    </a:lnTo>
                    <a:lnTo>
                      <a:pt x="845" y="17"/>
                    </a:lnTo>
                    <a:lnTo>
                      <a:pt x="735" y="6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9c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597000" y="2576520"/>
              <a:ext cx="1239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Guarantee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Guarantor Ban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nd E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950760" y="4606920"/>
              <a:ext cx="1108080" cy="819000"/>
              <a:chOff x="950760" y="4606920"/>
              <a:chExt cx="1108080" cy="819000"/>
            </a:xfrm>
          </p:grpSpPr>
          <p:sp>
            <p:nvSpPr>
              <p:cNvPr id="754" name=""/>
              <p:cNvSpPr/>
              <p:nvPr/>
            </p:nvSpPr>
            <p:spPr>
              <a:xfrm>
                <a:off x="1033560" y="4606920"/>
                <a:ext cx="255600" cy="16344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6" y="97"/>
                    </a:moveTo>
                    <a:lnTo>
                      <a:pt x="0" y="103"/>
                    </a:lnTo>
                    <a:lnTo>
                      <a:pt x="124" y="6"/>
                    </a:lnTo>
                    <a:lnTo>
                      <a:pt x="161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85a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98640" y="46162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22" y="97"/>
                    </a:moveTo>
                    <a:lnTo>
                      <a:pt x="0" y="114"/>
                    </a:lnTo>
                    <a:lnTo>
                      <a:pt x="124" y="17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14400" y="52084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0" y="114"/>
                    </a:moveTo>
                    <a:lnTo>
                      <a:pt x="22" y="97"/>
                    </a:lnTo>
                    <a:lnTo>
                      <a:pt x="146" y="0"/>
                    </a:lnTo>
                    <a:lnTo>
                      <a:pt x="124" y="17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849320" y="516240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0" y="126"/>
                    </a:moveTo>
                    <a:lnTo>
                      <a:pt x="7" y="97"/>
                    </a:lnTo>
                    <a:lnTo>
                      <a:pt x="132" y="0"/>
                    </a:lnTo>
                    <a:lnTo>
                      <a:pt x="124" y="29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60480" y="4716360"/>
                <a:ext cx="198360" cy="600120"/>
              </a:xfrm>
              <a:custGeom>
                <a:avLst/>
                <a:gdLst/>
                <a:ahLst/>
                <a:rect l="l" t="t" r="r" b="b"/>
                <a:pathLst>
                  <a:path w="125" h="378">
                    <a:moveTo>
                      <a:pt x="0" y="378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281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49320" y="4670280"/>
                <a:ext cx="209520" cy="20016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7" y="126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32" y="29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60480" y="46972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0" y="109"/>
                    </a:moveTo>
                    <a:lnTo>
                      <a:pt x="0" y="98"/>
                    </a:lnTo>
                    <a:lnTo>
                      <a:pt x="117" y="0"/>
                    </a:lnTo>
                    <a:lnTo>
                      <a:pt x="125" y="12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49320" y="4670280"/>
                <a:ext cx="196920" cy="18288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7" y="115"/>
                    </a:moveTo>
                    <a:lnTo>
                      <a:pt x="0" y="98"/>
                    </a:lnTo>
                    <a:lnTo>
                      <a:pt x="124" y="0"/>
                    </a:lnTo>
                    <a:lnTo>
                      <a:pt x="124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b1d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14400" y="4643280"/>
                <a:ext cx="231840" cy="182880"/>
              </a:xfrm>
              <a:custGeom>
                <a:avLst/>
                <a:gdLst/>
                <a:ahLst/>
                <a:rect l="l" t="t" r="r" b="b"/>
                <a:pathLst>
                  <a:path w="146" h="115">
                    <a:moveTo>
                      <a:pt x="22" y="115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17"/>
                    </a:lnTo>
                    <a:lnTo>
                      <a:pt x="22" y="115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836720" y="4660920"/>
                <a:ext cx="209520" cy="1652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8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afd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825560" y="465300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bd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814400" y="46432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6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a7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79480" y="4616280"/>
                <a:ext cx="231840" cy="181080"/>
              </a:xfrm>
              <a:custGeom>
                <a:avLst/>
                <a:gdLst/>
                <a:ahLst/>
                <a:rect l="l" t="t" r="r" b="b"/>
                <a:pathLst>
                  <a:path w="146" h="114">
                    <a:moveTo>
                      <a:pt x="22" y="114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46" y="17"/>
                    </a:lnTo>
                    <a:lnTo>
                      <a:pt x="22" y="114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801800" y="4633920"/>
                <a:ext cx="209520" cy="16344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8" y="103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8" y="103"/>
                    </a:lnTo>
                    <a:close/>
                  </a:path>
                </a:pathLst>
              </a:custGeom>
              <a:solidFill>
                <a:srgbClr val="a3c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90640" y="4624560"/>
                <a:ext cx="209520" cy="16488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7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79480" y="4616280"/>
                <a:ext cx="209520" cy="163800"/>
              </a:xfrm>
              <a:custGeom>
                <a:avLst/>
                <a:gdLst/>
                <a:ahLst/>
                <a:rect l="l" t="t" r="r" b="b"/>
                <a:pathLst>
                  <a:path w="132" h="103">
                    <a:moveTo>
                      <a:pt x="7" y="103"/>
                    </a:moveTo>
                    <a:lnTo>
                      <a:pt x="0" y="97"/>
                    </a:lnTo>
                    <a:lnTo>
                      <a:pt x="124" y="0"/>
                    </a:lnTo>
                    <a:lnTo>
                      <a:pt x="132" y="5"/>
                    </a:lnTo>
                    <a:lnTo>
                      <a:pt x="7" y="103"/>
                    </a:lnTo>
                    <a:close/>
                  </a:path>
                </a:pathLst>
              </a:custGeom>
              <a:solidFill>
                <a:srgbClr val="96bb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20800" y="4606920"/>
                <a:ext cx="255600" cy="163440"/>
              </a:xfrm>
              <a:custGeom>
                <a:avLst/>
                <a:gdLst/>
                <a:ahLst/>
                <a:rect l="l" t="t" r="r" b="b"/>
                <a:pathLst>
                  <a:path w="161" h="103">
                    <a:moveTo>
                      <a:pt x="37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61" y="6"/>
                    </a:lnTo>
                    <a:lnTo>
                      <a:pt x="37" y="103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44560" y="4616280"/>
                <a:ext cx="231840" cy="15408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22" y="97"/>
                    </a:moveTo>
                    <a:lnTo>
                      <a:pt x="0" y="91"/>
                    </a:lnTo>
                    <a:lnTo>
                      <a:pt x="124" y="0"/>
                    </a:lnTo>
                    <a:lnTo>
                      <a:pt x="146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90b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20800" y="4606920"/>
                <a:ext cx="220680" cy="1540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5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39" y="6"/>
                    </a:lnTo>
                    <a:lnTo>
                      <a:pt x="15" y="97"/>
                    </a:lnTo>
                    <a:close/>
                  </a:path>
                </a:pathLst>
              </a:custGeom>
              <a:solidFill>
                <a:srgbClr val="84a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90440" y="4606920"/>
                <a:ext cx="828720" cy="154080"/>
              </a:xfrm>
              <a:custGeom>
                <a:avLst/>
                <a:gdLst/>
                <a:ahLst/>
                <a:rect l="l" t="t" r="r" b="b"/>
                <a:pathLst>
                  <a:path w="522" h="97">
                    <a:moveTo>
                      <a:pt x="397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22" y="0"/>
                    </a:lnTo>
                    <a:lnTo>
                      <a:pt x="397" y="97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50760" y="4761000"/>
                <a:ext cx="909720" cy="664920"/>
              </a:xfrm>
              <a:custGeom>
                <a:avLst/>
                <a:gdLst/>
                <a:ahLst/>
                <a:rect l="l" t="t" r="r" b="b"/>
                <a:pathLst>
                  <a:path w="573" h="419">
                    <a:moveTo>
                      <a:pt x="88" y="0"/>
                    </a:moveTo>
                    <a:lnTo>
                      <a:pt x="52" y="6"/>
                    </a:lnTo>
                    <a:lnTo>
                      <a:pt x="30" y="23"/>
                    </a:lnTo>
                    <a:lnTo>
                      <a:pt x="8" y="41"/>
                    </a:lnTo>
                    <a:lnTo>
                      <a:pt x="0" y="69"/>
                    </a:lnTo>
                    <a:lnTo>
                      <a:pt x="0" y="350"/>
                    </a:lnTo>
                    <a:lnTo>
                      <a:pt x="8" y="379"/>
                    </a:lnTo>
                    <a:lnTo>
                      <a:pt x="30" y="396"/>
                    </a:lnTo>
                    <a:lnTo>
                      <a:pt x="52" y="414"/>
                    </a:lnTo>
                    <a:lnTo>
                      <a:pt x="88" y="419"/>
                    </a:lnTo>
                    <a:lnTo>
                      <a:pt x="485" y="419"/>
                    </a:lnTo>
                    <a:lnTo>
                      <a:pt x="522" y="414"/>
                    </a:lnTo>
                    <a:lnTo>
                      <a:pt x="544" y="396"/>
                    </a:lnTo>
                    <a:lnTo>
                      <a:pt x="566" y="379"/>
                    </a:lnTo>
                    <a:lnTo>
                      <a:pt x="573" y="350"/>
                    </a:lnTo>
                    <a:lnTo>
                      <a:pt x="573" y="69"/>
                    </a:lnTo>
                    <a:lnTo>
                      <a:pt x="566" y="41"/>
                    </a:lnTo>
                    <a:lnTo>
                      <a:pt x="544" y="23"/>
                    </a:lnTo>
                    <a:lnTo>
                      <a:pt x="522" y="6"/>
                    </a:lnTo>
                    <a:lnTo>
                      <a:pt x="485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1066680" y="4800600"/>
              <a:ext cx="719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nter-Bank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373640" y="2492280"/>
              <a:ext cx="198360" cy="1393920"/>
              <a:chOff x="4373640" y="2492280"/>
              <a:chExt cx="198360" cy="1393920"/>
            </a:xfrm>
          </p:grpSpPr>
          <p:sp>
            <p:nvSpPr>
              <p:cNvPr id="777" name=""/>
              <p:cNvSpPr/>
              <p:nvPr/>
            </p:nvSpPr>
            <p:spPr>
              <a:xfrm flipH="1">
                <a:off x="4466880" y="2492280"/>
                <a:ext cx="11160" cy="12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73640" y="3722760"/>
                <a:ext cx="198360" cy="163440"/>
              </a:xfrm>
              <a:custGeom>
                <a:avLst/>
                <a:gdLst/>
                <a:ahLst/>
                <a:rect l="l" t="t" r="r" b="b"/>
                <a:pathLst>
                  <a:path w="125" h="103">
                    <a:moveTo>
                      <a:pt x="0" y="0"/>
                    </a:moveTo>
                    <a:lnTo>
                      <a:pt x="66" y="103"/>
                    </a:lnTo>
                    <a:lnTo>
                      <a:pt x="1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85800" y="5181480"/>
              <a:ext cx="302760" cy="1320840"/>
              <a:chOff x="685800" y="5181480"/>
              <a:chExt cx="302760" cy="1320840"/>
            </a:xfrm>
          </p:grpSpPr>
          <p:sp>
            <p:nvSpPr>
              <p:cNvPr id="780" name=""/>
              <p:cNvSpPr/>
              <p:nvPr/>
            </p:nvSpPr>
            <p:spPr>
              <a:xfrm>
                <a:off x="685800" y="5244840"/>
                <a:ext cx="139320" cy="1184400"/>
              </a:xfrm>
              <a:custGeom>
                <a:avLst/>
                <a:gdLst/>
                <a:ahLst/>
                <a:rect l="l" t="t" r="r" b="b"/>
                <a:pathLst>
                  <a:path w="88" h="746">
                    <a:moveTo>
                      <a:pt x="88" y="746"/>
                    </a:moveTo>
                    <a:lnTo>
                      <a:pt x="0" y="746"/>
                    </a:lnTo>
                    <a:lnTo>
                      <a:pt x="0" y="0"/>
                    </a:lnTo>
                    <a:lnTo>
                      <a:pt x="81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01360" y="6365520"/>
                <a:ext cx="187200" cy="136800"/>
              </a:xfrm>
              <a:custGeom>
                <a:avLst/>
                <a:gdLst/>
                <a:ahLst/>
                <a:rect l="l" t="t" r="r" b="b"/>
                <a:pathLst>
                  <a:path w="118" h="86">
                    <a:moveTo>
                      <a:pt x="0" y="86"/>
                    </a:moveTo>
                    <a:lnTo>
                      <a:pt x="118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200" y="5181480"/>
                <a:ext cx="17424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5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7350120" y="3887640"/>
              <a:ext cx="1131840" cy="592200"/>
              <a:chOff x="7350120" y="3887640"/>
              <a:chExt cx="1131840" cy="592200"/>
            </a:xfrm>
          </p:grpSpPr>
          <p:sp>
            <p:nvSpPr>
              <p:cNvPr id="784" name=""/>
              <p:cNvSpPr/>
              <p:nvPr/>
            </p:nvSpPr>
            <p:spPr>
              <a:xfrm>
                <a:off x="7408800" y="3887640"/>
                <a:ext cx="233280" cy="16380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97"/>
                    </a:moveTo>
                    <a:lnTo>
                      <a:pt x="0" y="103"/>
                    </a:lnTo>
                    <a:lnTo>
                      <a:pt x="125" y="5"/>
                    </a:lnTo>
                    <a:lnTo>
                      <a:pt x="147" y="0"/>
                    </a:lnTo>
                    <a:lnTo>
                      <a:pt x="22" y="97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373880" y="389556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98"/>
                    </a:moveTo>
                    <a:lnTo>
                      <a:pt x="0" y="104"/>
                    </a:lnTo>
                    <a:lnTo>
                      <a:pt x="125" y="6"/>
                    </a:lnTo>
                    <a:lnTo>
                      <a:pt x="147" y="0"/>
                    </a:lnTo>
                    <a:lnTo>
                      <a:pt x="22" y="98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259840" y="427824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0" y="115"/>
                    </a:moveTo>
                    <a:lnTo>
                      <a:pt x="7" y="98"/>
                    </a:lnTo>
                    <a:lnTo>
                      <a:pt x="132" y="0"/>
                    </a:lnTo>
                    <a:lnTo>
                      <a:pt x="125" y="1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71000" y="4251240"/>
                <a:ext cx="210960" cy="182520"/>
              </a:xfrm>
              <a:custGeom>
                <a:avLst/>
                <a:gdLst/>
                <a:ahLst/>
                <a:rect l="l" t="t" r="r" b="b"/>
                <a:pathLst>
                  <a:path w="133" h="115">
                    <a:moveTo>
                      <a:pt x="0" y="115"/>
                    </a:moveTo>
                    <a:lnTo>
                      <a:pt x="8" y="98"/>
                    </a:lnTo>
                    <a:lnTo>
                      <a:pt x="133" y="0"/>
                    </a:lnTo>
                    <a:lnTo>
                      <a:pt x="125" y="17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283600" y="3960720"/>
                <a:ext cx="198360" cy="446040"/>
              </a:xfrm>
              <a:custGeom>
                <a:avLst/>
                <a:gdLst/>
                <a:ahLst/>
                <a:rect l="l" t="t" r="r" b="b"/>
                <a:pathLst>
                  <a:path w="125" h="281">
                    <a:moveTo>
                      <a:pt x="0" y="281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25" y="183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271000" y="3932280"/>
                <a:ext cx="210960" cy="182520"/>
              </a:xfrm>
              <a:custGeom>
                <a:avLst/>
                <a:gdLst/>
                <a:ahLst/>
                <a:rect l="l" t="t" r="r" b="b"/>
                <a:pathLst>
                  <a:path w="133" h="115">
                    <a:moveTo>
                      <a:pt x="8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3" y="18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59840" y="3905280"/>
                <a:ext cx="209520" cy="182520"/>
              </a:xfrm>
              <a:custGeom>
                <a:avLst/>
                <a:gdLst/>
                <a:ahLst/>
                <a:rect l="l" t="t" r="r" b="b"/>
                <a:pathLst>
                  <a:path w="132" h="115">
                    <a:moveTo>
                      <a:pt x="7" y="115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17"/>
                    </a:lnTo>
                    <a:lnTo>
                      <a:pt x="7" y="115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71000" y="3924360"/>
                <a:ext cx="198360" cy="163440"/>
              </a:xfrm>
              <a:custGeom>
                <a:avLst/>
                <a:gdLst/>
                <a:ahLst/>
                <a:rect l="l" t="t" r="r" b="b"/>
                <a:pathLst>
                  <a:path w="125" h="103">
                    <a:moveTo>
                      <a:pt x="0" y="103"/>
                    </a:moveTo>
                    <a:lnTo>
                      <a:pt x="0" y="97"/>
                    </a:lnTo>
                    <a:lnTo>
                      <a:pt x="118" y="0"/>
                    </a:lnTo>
                    <a:lnTo>
                      <a:pt x="125" y="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259840" y="3905280"/>
                <a:ext cx="198360" cy="173160"/>
              </a:xfrm>
              <a:custGeom>
                <a:avLst/>
                <a:gdLst/>
                <a:ahLst/>
                <a:rect l="l" t="t" r="r" b="b"/>
                <a:pathLst>
                  <a:path w="125" h="109">
                    <a:moveTo>
                      <a:pt x="7" y="109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25" y="12"/>
                    </a:lnTo>
                    <a:lnTo>
                      <a:pt x="7" y="109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224920" y="389556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22" y="104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47" y="6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236080" y="3905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5" y="98"/>
                    </a:moveTo>
                    <a:lnTo>
                      <a:pt x="0" y="92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224920" y="389556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32" h="98">
                    <a:moveTo>
                      <a:pt x="7" y="98"/>
                    </a:moveTo>
                    <a:lnTo>
                      <a:pt x="0" y="98"/>
                    </a:lnTo>
                    <a:lnTo>
                      <a:pt x="125" y="0"/>
                    </a:lnTo>
                    <a:lnTo>
                      <a:pt x="132" y="6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190000" y="3887640"/>
                <a:ext cx="233280" cy="163800"/>
              </a:xfrm>
              <a:custGeom>
                <a:avLst/>
                <a:gdLst/>
                <a:ahLst/>
                <a:rect l="l" t="t" r="r" b="b"/>
                <a:pathLst>
                  <a:path w="147" h="103">
                    <a:moveTo>
                      <a:pt x="22" y="103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147" y="5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443720" y="3887640"/>
                <a:ext cx="944640" cy="154080"/>
              </a:xfrm>
              <a:custGeom>
                <a:avLst/>
                <a:gdLst/>
                <a:ahLst/>
                <a:rect l="l" t="t" r="r" b="b"/>
                <a:pathLst>
                  <a:path w="595" h="97">
                    <a:moveTo>
                      <a:pt x="470" y="97"/>
                    </a:moveTo>
                    <a:lnTo>
                      <a:pt x="0" y="97"/>
                    </a:lnTo>
                    <a:lnTo>
                      <a:pt x="125" y="0"/>
                    </a:lnTo>
                    <a:lnTo>
                      <a:pt x="595" y="0"/>
                    </a:lnTo>
                    <a:lnTo>
                      <a:pt x="470" y="97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350120" y="4041720"/>
                <a:ext cx="933480" cy="438120"/>
              </a:xfrm>
              <a:custGeom>
                <a:avLst/>
                <a:gdLst/>
                <a:ahLst/>
                <a:rect l="l" t="t" r="r" b="b"/>
                <a:pathLst>
                  <a:path w="588" h="276">
                    <a:moveTo>
                      <a:pt x="59" y="0"/>
                    </a:moveTo>
                    <a:lnTo>
                      <a:pt x="37" y="6"/>
                    </a:lnTo>
                    <a:lnTo>
                      <a:pt x="15" y="12"/>
                    </a:lnTo>
                    <a:lnTo>
                      <a:pt x="8" y="29"/>
                    </a:lnTo>
                    <a:lnTo>
                      <a:pt x="0" y="46"/>
                    </a:lnTo>
                    <a:lnTo>
                      <a:pt x="0" y="230"/>
                    </a:lnTo>
                    <a:lnTo>
                      <a:pt x="8" y="247"/>
                    </a:lnTo>
                    <a:lnTo>
                      <a:pt x="15" y="264"/>
                    </a:lnTo>
                    <a:lnTo>
                      <a:pt x="37" y="270"/>
                    </a:lnTo>
                    <a:lnTo>
                      <a:pt x="59" y="276"/>
                    </a:lnTo>
                    <a:lnTo>
                      <a:pt x="529" y="276"/>
                    </a:lnTo>
                    <a:lnTo>
                      <a:pt x="551" y="270"/>
                    </a:lnTo>
                    <a:lnTo>
                      <a:pt x="573" y="264"/>
                    </a:lnTo>
                    <a:lnTo>
                      <a:pt x="580" y="247"/>
                    </a:lnTo>
                    <a:lnTo>
                      <a:pt x="588" y="230"/>
                    </a:lnTo>
                    <a:lnTo>
                      <a:pt x="588" y="46"/>
                    </a:lnTo>
                    <a:lnTo>
                      <a:pt x="580" y="29"/>
                    </a:lnTo>
                    <a:lnTo>
                      <a:pt x="573" y="12"/>
                    </a:lnTo>
                    <a:lnTo>
                      <a:pt x="551" y="6"/>
                    </a:lnTo>
                    <a:lnTo>
                      <a:pt x="52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7542720" y="41608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15200" y="4724280"/>
              <a:ext cx="161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struction 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555480" y="2111400"/>
              <a:ext cx="373320" cy="3825720"/>
              <a:chOff x="555480" y="2111400"/>
              <a:chExt cx="373320" cy="3825720"/>
            </a:xfrm>
          </p:grpSpPr>
          <p:sp>
            <p:nvSpPr>
              <p:cNvPr id="802" name=""/>
              <p:cNvSpPr/>
              <p:nvPr/>
            </p:nvSpPr>
            <p:spPr>
              <a:xfrm>
                <a:off x="555480" y="2174760"/>
                <a:ext cx="373320" cy="3762360"/>
              </a:xfrm>
              <a:custGeom>
                <a:avLst/>
                <a:gdLst/>
                <a:ahLst/>
                <a:rect l="l" t="t" r="r" b="b"/>
                <a:pathLst>
                  <a:path w="235" h="2370">
                    <a:moveTo>
                      <a:pt x="235" y="2370"/>
                    </a:moveTo>
                    <a:lnTo>
                      <a:pt x="0" y="2370"/>
                    </a:lnTo>
                    <a:lnTo>
                      <a:pt x="0" y="0"/>
                    </a:lnTo>
                    <a:lnTo>
                      <a:pt x="8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0240" y="2111400"/>
                <a:ext cx="174960" cy="136440"/>
              </a:xfrm>
              <a:custGeom>
                <a:avLst/>
                <a:gdLst/>
                <a:ahLst/>
                <a:rect l="l" t="t" r="r" b="b"/>
                <a:pathLst>
                  <a:path w="110" h="86">
                    <a:moveTo>
                      <a:pt x="0" y="86"/>
                    </a:moveTo>
                    <a:lnTo>
                      <a:pt x="110" y="4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152280" y="3886200"/>
              <a:ext cx="8384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Guarant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181480" y="1752480"/>
              <a:ext cx="12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5480" rIns="105480" tIns="-52560" bIns="-52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00400" y="6324480"/>
              <a:ext cx="502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20040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8229600" y="54100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924320" y="54100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34340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56272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7640" y="566892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43600" y="566892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5920" y="56386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o.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920" y="2438280"/>
              <a:ext cx="182880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57400" y="5791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57400" y="61722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90920" y="464832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90920" y="4648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447920" y="44953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47920" y="449568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486400" y="4267080"/>
              <a:ext cx="19051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62720" y="4572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162920" y="31240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29000" y="525780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2900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91320" y="5257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95680" y="5028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09680" y="3352680"/>
              <a:ext cx="9907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Financing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33720" y="4876920"/>
              <a:ext cx="10666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Loan 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46160" y="5105520"/>
              <a:ext cx="10202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Shareholders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 rot="10800000">
              <a:off x="6248520" y="3352680"/>
              <a:ext cx="266688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Guarantee Agreement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pledge of shares, rights and assets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Assignent of rights; Call-option Agree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14400" y="49528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914400" y="342864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144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371600" y="243828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47920" y="53341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2280" y="160020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3440" y="593244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3880" y="1600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63440" y="1588680"/>
              <a:ext cx="0" cy="434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480" y="1447920"/>
              <a:ext cx="8326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r>
                <a:rPr b="1" lang="en-GB" sz="10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6280" y="3505320"/>
              <a:ext cx="1027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Intercreditors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Agre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47800" y="4114800"/>
              <a:ext cx="627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O &amp;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66ff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642960" y="2089080"/>
            <a:ext cx="6912000" cy="31910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5462640"/>
            <a:ext cx="91440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http://www.ei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B lending for PPPs in the main countrie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95280"/>
            <a:ext cx="9144000" cy="5545080"/>
            <a:chOff x="0" y="1295280"/>
            <a:chExt cx="9144000" cy="5545080"/>
          </a:xfrm>
        </p:grpSpPr>
        <p:sp>
          <p:nvSpPr>
            <p:cNvPr id="54" name=""/>
            <p:cNvSpPr/>
            <p:nvPr/>
          </p:nvSpPr>
          <p:spPr>
            <a:xfrm>
              <a:off x="811440" y="1800360"/>
              <a:ext cx="465084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8" y="0"/>
                  </a:moveTo>
                  <a:arcTo wR="10800" hR="10800" stAng="-5407039" swAng="52822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8" y="0"/>
                  </a:moveTo>
                  <a:arcTo wR="10800" hR="10800" stAng="-5407039" swAng="528221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1800" y="1802160"/>
              <a:ext cx="4650480" cy="46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3" y="10408"/>
                  </a:moveTo>
                  <a:arcTo wR="10800" hR="10800" stAng="-124826" swAng="4146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3" y="10408"/>
                  </a:moveTo>
                  <a:arcTo wR="10800" hR="10800" stAng="-124826" swAng="4146227"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1800" y="1800720"/>
              <a:ext cx="464832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16" y="20743"/>
                  </a:moveTo>
                  <a:arcTo wR="10800" hR="10800" stAng="4021401" swAng="3857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16" y="20743"/>
                  </a:moveTo>
                  <a:arcTo wR="10800" hR="10800" stAng="4021401" swAng="3857277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1080" y="1800720"/>
              <a:ext cx="4651560" cy="464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70" y="18912"/>
                  </a:moveTo>
                  <a:arcTo wR="10800" hR="10800" stAng="7878678" swAng="31112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670" y="18912"/>
                  </a:moveTo>
                  <a:arcTo wR="10800" hR="10800" stAng="7878678" swAng="3111203"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2880" y="1800720"/>
              <a:ext cx="464832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" y="10204"/>
                  </a:moveTo>
                  <a:arcTo wR="10800" hR="10800" stAng="-10610120" swAng="22792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" y="10204"/>
                  </a:moveTo>
                  <a:arcTo wR="10800" hR="10800" stAng="-10610120" swAng="2279289"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1800" y="1800720"/>
              <a:ext cx="4650480" cy="46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8" y="3693"/>
                  </a:moveTo>
                  <a:arcTo wR="10800" hR="10800" stAng="-8330831" swAng="95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8" y="3693"/>
                  </a:moveTo>
                  <a:arcTo wR="10800" hR="10800" stAng="-8330831" swAng="953623"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1080" y="1802160"/>
              <a:ext cx="4651920" cy="46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5" y="1738"/>
                  </a:moveTo>
                  <a:arcTo wR="10800" hR="10800" stAng="-7377208" swAng="772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5" y="1738"/>
                  </a:moveTo>
                  <a:arcTo wR="10800" hR="10800" stAng="-7377208" swAng="772408"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1440" y="1802160"/>
              <a:ext cx="4650840" cy="46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2" y="656"/>
                  </a:moveTo>
                  <a:arcTo wR="10800" hR="10800" stAng="-6604800" swAng="473702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2" y="656"/>
                  </a:moveTo>
                  <a:arcTo wR="10800" hR="10800" stAng="-6604800" swAng="473702"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2520" y="1800720"/>
              <a:ext cx="4649040" cy="46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20" y="243"/>
                  </a:moveTo>
                  <a:arcTo wR="10800" hR="10800" stAng="-6131098" swAng="423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20" y="243"/>
                  </a:moveTo>
                  <a:arcTo wR="10800" hR="10800" stAng="-6131098" swAng="423257"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0360" y="1801440"/>
              <a:ext cx="4653000" cy="464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34" y="43"/>
                  </a:moveTo>
                  <a:arcTo wR="10800" hR="10800" stAng="-5707841" swAng="2351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34" y="43"/>
                  </a:moveTo>
                  <a:arcTo wR="10800" hR="10800" stAng="-5707841" swAng="235108"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6040" y="1800360"/>
              <a:ext cx="4662000" cy="46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2" y="2"/>
                  </a:moveTo>
                  <a:arcTo wR="10800" hR="10800" stAng="-5472733" swAng="656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2" y="2"/>
                  </a:moveTo>
                  <a:arcTo wR="10800" hR="10800" stAng="-5472733" swAng="65694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89520" y="2055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8960" y="5400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19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3000" y="2347920"/>
              <a:ext cx="2928960" cy="28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58040" y="2454120"/>
              <a:ext cx="1587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87720" y="2382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58040" y="2700360"/>
              <a:ext cx="158760" cy="158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87000" y="2630520"/>
              <a:ext cx="103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8040" y="2948040"/>
              <a:ext cx="158760" cy="158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88080" y="28764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p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58040" y="3193920"/>
              <a:ext cx="158760" cy="16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85920" y="3124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re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58040" y="3441600"/>
              <a:ext cx="158760" cy="158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86640" y="3371760"/>
              <a:ext cx="1090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58040" y="3689280"/>
              <a:ext cx="1587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86280" y="3618000"/>
              <a:ext cx="110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58040" y="3935520"/>
              <a:ext cx="158760" cy="158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7360" y="3865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ol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8040" y="4183200"/>
              <a:ext cx="158760" cy="158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88080" y="4113360"/>
              <a:ext cx="84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8040" y="4430880"/>
              <a:ext cx="158760" cy="158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7360" y="4359240"/>
              <a:ext cx="96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58040" y="4676760"/>
              <a:ext cx="158760" cy="158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87000" y="460692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58040" y="4924440"/>
              <a:ext cx="158760" cy="15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6280" y="485316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400" y="64720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ource:E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295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ographical distribution of PPP portfol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4495680" y="2819520"/>
            <a:ext cx="1905120" cy="19047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PPPs in 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EIB involvement since the early 90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2nd Tagus Bridge (Vasco da G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Tramway (Metro Sul do Tej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otorways (real and shadow tol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ealth (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447920"/>
          <a:ext cx="8077320" cy="5054400"/>
        </p:xfrm>
        <a:graphic>
          <a:graphicData uri="http://schemas.openxmlformats.org/drawingml/2006/table">
            <a:tbl>
              <a:tblPr/>
              <a:tblGrid>
                <a:gridCol w="3859200"/>
                <a:gridCol w="2063880"/>
                <a:gridCol w="98748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B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e Vasco da G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NOR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A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 SCUT (shadow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 (2 finali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oral Centro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 Lisboa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ro Litoral (real to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agus (sub-urban ra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Sul do Tejo (tram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 Ligeiro do Mondego (tram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 Hospitals (P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ed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A Air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V (high speed tra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04920" y="2286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PP in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IB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2057400"/>
            <a:ext cx="7772400" cy="3276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IB AS KEY FUND PROVIDER FOR THE PORTUGUESE MOTORWAY PR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34360" y="261000"/>
            <a:ext cx="4260600" cy="6215400"/>
            <a:chOff x="234360" y="261000"/>
            <a:chExt cx="4260600" cy="6215400"/>
          </a:xfrm>
        </p:grpSpPr>
        <p:grpSp>
          <p:nvGrpSpPr>
            <p:cNvPr id="101" name=""/>
            <p:cNvGrpSpPr/>
            <p:nvPr/>
          </p:nvGrpSpPr>
          <p:grpSpPr>
            <a:xfrm>
              <a:off x="234360" y="261000"/>
              <a:ext cx="4260600" cy="6215400"/>
              <a:chOff x="234360" y="261000"/>
              <a:chExt cx="4260600" cy="6215400"/>
            </a:xfrm>
          </p:grpSpPr>
          <p:sp>
            <p:nvSpPr>
              <p:cNvPr id="102" name=""/>
              <p:cNvSpPr/>
              <p:nvPr/>
            </p:nvSpPr>
            <p:spPr>
              <a:xfrm rot="16200000">
                <a:off x="-86040" y="581400"/>
                <a:ext cx="134316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4000" spc="-1" strike="noStrike">
                    <a:solidFill>
                      <a:srgbClr val="000000"/>
                    </a:solidFill>
                    <a:latin typeface="Humanst521 BT"/>
                  </a:rPr>
                  <a:t>200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1">
                <a:grayscl/>
                <a:lum bright="18000"/>
              </a:blip>
              <a:srcRect l="3841" t="2423" r="2996" b="2004"/>
              <a:stretch/>
            </p:blipFill>
            <p:spPr>
              <a:xfrm>
                <a:off x="343440" y="274680"/>
                <a:ext cx="4151520" cy="620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961200" y="537120"/>
                <a:ext cx="2456640" cy="5552280"/>
                <a:chOff x="961200" y="537120"/>
                <a:chExt cx="2456640" cy="55522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961200" y="537120"/>
                  <a:ext cx="2456640" cy="5552280"/>
                  <a:chOff x="961200" y="537120"/>
                  <a:chExt cx="2456640" cy="55522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1564200" y="3944160"/>
                    <a:ext cx="11412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24">
                        <a:moveTo>
                          <a:pt x="48" y="0"/>
                        </a:moveTo>
                        <a:cubicBezTo>
                          <a:pt x="29" y="19"/>
                          <a:pt x="23" y="45"/>
                          <a:pt x="0" y="60"/>
                        </a:cubicBezTo>
                        <a:cubicBezTo>
                          <a:pt x="8" y="72"/>
                          <a:pt x="24" y="92"/>
                          <a:pt x="36" y="96"/>
                        </a:cubicBezTo>
                        <a:cubicBezTo>
                          <a:pt x="44" y="107"/>
                          <a:pt x="54" y="112"/>
                          <a:pt x="60" y="124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961200" y="537120"/>
                    <a:ext cx="2456640" cy="5552280"/>
                    <a:chOff x="961200" y="537120"/>
                    <a:chExt cx="2456640" cy="55522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709280" y="2495160"/>
                      <a:ext cx="198000" cy="13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83">
                          <a:moveTo>
                            <a:pt x="0" y="83"/>
                          </a:moveTo>
                          <a:cubicBezTo>
                            <a:pt x="20" y="70"/>
                            <a:pt x="9" y="79"/>
                            <a:pt x="28" y="51"/>
                          </a:cubicBezTo>
                          <a:cubicBezTo>
                            <a:pt x="31" y="47"/>
                            <a:pt x="36" y="39"/>
                            <a:pt x="36" y="39"/>
                          </a:cubicBezTo>
                          <a:cubicBezTo>
                            <a:pt x="46" y="0"/>
                            <a:pt x="65" y="7"/>
                            <a:pt x="104" y="7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1296720" y="3094200"/>
                      <a:ext cx="267120" cy="36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216">
                          <a:moveTo>
                            <a:pt x="0" y="216"/>
                          </a:moveTo>
                          <a:cubicBezTo>
                            <a:pt x="10" y="201"/>
                            <a:pt x="12" y="168"/>
                            <a:pt x="20" y="160"/>
                          </a:cubicBezTo>
                          <a:cubicBezTo>
                            <a:pt x="38" y="142"/>
                            <a:pt x="50" y="141"/>
                            <a:pt x="64" y="120"/>
                          </a:cubicBezTo>
                          <a:cubicBezTo>
                            <a:pt x="65" y="108"/>
                            <a:pt x="64" y="95"/>
                            <a:pt x="68" y="84"/>
                          </a:cubicBezTo>
                          <a:cubicBezTo>
                            <a:pt x="69" y="82"/>
                            <a:pt x="110" y="60"/>
                            <a:pt x="116" y="52"/>
                          </a:cubicBezTo>
                          <a:cubicBezTo>
                            <a:pt x="122" y="45"/>
                            <a:pt x="129" y="32"/>
                            <a:pt x="132" y="24"/>
                          </a:cubicBezTo>
                          <a:cubicBezTo>
                            <a:pt x="135" y="16"/>
                            <a:pt x="140" y="0"/>
                            <a:pt x="140" y="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311840" y="3559680"/>
                      <a:ext cx="37404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57">
                          <a:moveTo>
                            <a:pt x="0" y="8"/>
                          </a:moveTo>
                          <a:cubicBezTo>
                            <a:pt x="22" y="1"/>
                            <a:pt x="45" y="0"/>
                            <a:pt x="60" y="20"/>
                          </a:cubicBezTo>
                          <a:cubicBezTo>
                            <a:pt x="66" y="28"/>
                            <a:pt x="67" y="41"/>
                            <a:pt x="76" y="44"/>
                          </a:cubicBezTo>
                          <a:cubicBezTo>
                            <a:pt x="114" y="57"/>
                            <a:pt x="156" y="52"/>
                            <a:pt x="196" y="52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686240" y="3748680"/>
                      <a:ext cx="9108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0">
                          <a:moveTo>
                            <a:pt x="0" y="100"/>
                          </a:moveTo>
                          <a:cubicBezTo>
                            <a:pt x="6" y="68"/>
                            <a:pt x="24" y="24"/>
                            <a:pt x="48" y="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686240" y="4153320"/>
                      <a:ext cx="9900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48">
                          <a:moveTo>
                            <a:pt x="0" y="0"/>
                          </a:moveTo>
                          <a:lnTo>
                            <a:pt x="36" y="56"/>
                          </a:lnTo>
                          <a:cubicBezTo>
                            <a:pt x="36" y="56"/>
                            <a:pt x="48" y="92"/>
                            <a:pt x="48" y="92"/>
                          </a:cubicBezTo>
                          <a:cubicBezTo>
                            <a:pt x="49" y="96"/>
                            <a:pt x="52" y="104"/>
                            <a:pt x="52" y="104"/>
                          </a:cubicBezTo>
                          <a:cubicBezTo>
                            <a:pt x="47" y="120"/>
                            <a:pt x="32" y="131"/>
                            <a:pt x="32" y="148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2022120" y="4962960"/>
                      <a:ext cx="335520" cy="11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668">
                          <a:moveTo>
                            <a:pt x="0" y="0"/>
                          </a:moveTo>
                          <a:cubicBezTo>
                            <a:pt x="5" y="8"/>
                            <a:pt x="11" y="16"/>
                            <a:pt x="16" y="24"/>
                          </a:cubicBezTo>
                          <a:cubicBezTo>
                            <a:pt x="21" y="32"/>
                            <a:pt x="40" y="40"/>
                            <a:pt x="40" y="40"/>
                          </a:cubicBezTo>
                          <a:cubicBezTo>
                            <a:pt x="56" y="64"/>
                            <a:pt x="72" y="85"/>
                            <a:pt x="84" y="112"/>
                          </a:cubicBezTo>
                          <a:cubicBezTo>
                            <a:pt x="97" y="142"/>
                            <a:pt x="102" y="177"/>
                            <a:pt x="112" y="208"/>
                          </a:cubicBezTo>
                          <a:cubicBezTo>
                            <a:pt x="128" y="257"/>
                            <a:pt x="147" y="304"/>
                            <a:pt x="156" y="356"/>
                          </a:cubicBezTo>
                          <a:cubicBezTo>
                            <a:pt x="162" y="463"/>
                            <a:pt x="176" y="561"/>
                            <a:pt x="176" y="668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961200" y="537120"/>
                      <a:ext cx="2456640" cy="4418280"/>
                      <a:chOff x="961200" y="537120"/>
                      <a:chExt cx="2456640" cy="441828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821680" y="4083840"/>
                        <a:ext cx="423360" cy="10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61">
                            <a:moveTo>
                              <a:pt x="0" y="48"/>
                            </a:moveTo>
                            <a:cubicBezTo>
                              <a:pt x="28" y="51"/>
                              <a:pt x="27" y="53"/>
                              <a:pt x="48" y="60"/>
                            </a:cubicBezTo>
                            <a:cubicBezTo>
                              <a:pt x="60" y="59"/>
                              <a:pt x="74" y="61"/>
                              <a:pt x="84" y="54"/>
                            </a:cubicBezTo>
                            <a:cubicBezTo>
                              <a:pt x="100" y="44"/>
                              <a:pt x="87" y="41"/>
                              <a:pt x="111" y="33"/>
                            </a:cubicBezTo>
                            <a:cubicBezTo>
                              <a:pt x="129" y="27"/>
                              <a:pt x="147" y="23"/>
                              <a:pt x="165" y="18"/>
                            </a:cubicBezTo>
                            <a:cubicBezTo>
                              <a:pt x="181" y="14"/>
                              <a:pt x="210" y="12"/>
                              <a:pt x="222" y="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" name=""/>
                      <p:cNvGrpSpPr/>
                      <p:nvPr/>
                    </p:nvGrpSpPr>
                    <p:grpSpPr>
                      <a:xfrm>
                        <a:off x="961200" y="537120"/>
                        <a:ext cx="2456640" cy="4418280"/>
                        <a:chOff x="961200" y="537120"/>
                        <a:chExt cx="2456640" cy="4418280"/>
                      </a:xfrm>
                    </p:grpSpPr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1783440" y="537120"/>
                          <a:ext cx="167760" cy="57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339">
                              <a:moveTo>
                                <a:pt x="88" y="339"/>
                              </a:moveTo>
                              <a:cubicBezTo>
                                <a:pt x="84" y="325"/>
                                <a:pt x="80" y="319"/>
                                <a:pt x="70" y="309"/>
                              </a:cubicBezTo>
                              <a:cubicBezTo>
                                <a:pt x="64" y="290"/>
                                <a:pt x="58" y="271"/>
                                <a:pt x="52" y="252"/>
                              </a:cubicBezTo>
                              <a:cubicBezTo>
                                <a:pt x="51" y="223"/>
                                <a:pt x="53" y="194"/>
                                <a:pt x="49" y="165"/>
                              </a:cubicBezTo>
                              <a:cubicBezTo>
                                <a:pt x="45" y="137"/>
                                <a:pt x="2" y="113"/>
                                <a:pt x="1" y="84"/>
                              </a:cubicBezTo>
                              <a:cubicBezTo>
                                <a:pt x="0" y="56"/>
                                <a:pt x="1" y="28"/>
                                <a:pt x="1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2059920" y="1169280"/>
                          <a:ext cx="33840" cy="6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" h="39">
                              <a:moveTo>
                                <a:pt x="0" y="39"/>
                              </a:moveTo>
                              <a:cubicBezTo>
                                <a:pt x="17" y="35"/>
                                <a:pt x="18" y="17"/>
                                <a:pt x="18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19800" bIns="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2220480" y="4151160"/>
                          <a:ext cx="587160" cy="26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157">
                              <a:moveTo>
                                <a:pt x="0" y="113"/>
                              </a:moveTo>
                              <a:cubicBezTo>
                                <a:pt x="33" y="119"/>
                                <a:pt x="20" y="110"/>
                                <a:pt x="40" y="141"/>
                              </a:cubicBezTo>
                              <a:cubicBezTo>
                                <a:pt x="40" y="141"/>
                                <a:pt x="70" y="151"/>
                                <a:pt x="76" y="153"/>
                              </a:cubicBezTo>
                              <a:cubicBezTo>
                                <a:pt x="80" y="154"/>
                                <a:pt x="88" y="157"/>
                                <a:pt x="88" y="157"/>
                              </a:cubicBezTo>
                              <a:cubicBezTo>
                                <a:pt x="112" y="154"/>
                                <a:pt x="133" y="149"/>
                                <a:pt x="156" y="141"/>
                              </a:cubicBezTo>
                              <a:cubicBezTo>
                                <a:pt x="163" y="134"/>
                                <a:pt x="168" y="124"/>
                                <a:pt x="176" y="117"/>
                              </a:cubicBezTo>
                              <a:cubicBezTo>
                                <a:pt x="183" y="111"/>
                                <a:pt x="200" y="101"/>
                                <a:pt x="200" y="101"/>
                              </a:cubicBezTo>
                              <a:cubicBezTo>
                                <a:pt x="209" y="87"/>
                                <a:pt x="216" y="82"/>
                                <a:pt x="232" y="77"/>
                              </a:cubicBezTo>
                              <a:cubicBezTo>
                                <a:pt x="250" y="49"/>
                                <a:pt x="239" y="56"/>
                                <a:pt x="260" y="49"/>
                              </a:cubicBezTo>
                              <a:cubicBezTo>
                                <a:pt x="265" y="34"/>
                                <a:pt x="281" y="18"/>
                                <a:pt x="296" y="13"/>
                              </a:cubicBezTo>
                              <a:cubicBezTo>
                                <a:pt x="305" y="0"/>
                                <a:pt x="299" y="1"/>
                                <a:pt x="308" y="1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3242520" y="4071600"/>
                          <a:ext cx="17532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12">
                              <a:moveTo>
                                <a:pt x="0" y="0"/>
                              </a:moveTo>
                              <a:cubicBezTo>
                                <a:pt x="15" y="1"/>
                                <a:pt x="29" y="1"/>
                                <a:pt x="44" y="4"/>
                              </a:cubicBezTo>
                              <a:cubicBezTo>
                                <a:pt x="92" y="12"/>
                                <a:pt x="56" y="12"/>
                                <a:pt x="72" y="12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807920" y="4462920"/>
                          <a:ext cx="198360" cy="49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292">
                              <a:moveTo>
                                <a:pt x="0" y="0"/>
                              </a:moveTo>
                              <a:cubicBezTo>
                                <a:pt x="22" y="7"/>
                                <a:pt x="18" y="24"/>
                                <a:pt x="32" y="40"/>
                              </a:cubicBezTo>
                              <a:cubicBezTo>
                                <a:pt x="40" y="48"/>
                                <a:pt x="56" y="64"/>
                                <a:pt x="56" y="64"/>
                              </a:cubicBezTo>
                              <a:cubicBezTo>
                                <a:pt x="62" y="83"/>
                                <a:pt x="66" y="101"/>
                                <a:pt x="72" y="120"/>
                              </a:cubicBezTo>
                              <a:cubicBezTo>
                                <a:pt x="75" y="128"/>
                                <a:pt x="77" y="136"/>
                                <a:pt x="80" y="144"/>
                              </a:cubicBezTo>
                              <a:cubicBezTo>
                                <a:pt x="81" y="148"/>
                                <a:pt x="84" y="156"/>
                                <a:pt x="84" y="156"/>
                              </a:cubicBezTo>
                              <a:cubicBezTo>
                                <a:pt x="78" y="184"/>
                                <a:pt x="82" y="170"/>
                                <a:pt x="72" y="200"/>
                              </a:cubicBezTo>
                              <a:cubicBezTo>
                                <a:pt x="71" y="204"/>
                                <a:pt x="68" y="212"/>
                                <a:pt x="68" y="212"/>
                              </a:cubicBezTo>
                              <a:cubicBezTo>
                                <a:pt x="69" y="219"/>
                                <a:pt x="69" y="248"/>
                                <a:pt x="76" y="260"/>
                              </a:cubicBezTo>
                              <a:cubicBezTo>
                                <a:pt x="81" y="268"/>
                                <a:pt x="84" y="279"/>
                                <a:pt x="92" y="284"/>
                              </a:cubicBezTo>
                              <a:cubicBezTo>
                                <a:pt x="96" y="287"/>
                                <a:pt x="104" y="292"/>
                                <a:pt x="104" y="292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327320" y="4233960"/>
                          <a:ext cx="182880" cy="17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" h="104">
                              <a:moveTo>
                                <a:pt x="0" y="0"/>
                              </a:moveTo>
                              <a:cubicBezTo>
                                <a:pt x="29" y="10"/>
                                <a:pt x="16" y="6"/>
                                <a:pt x="40" y="12"/>
                              </a:cubicBezTo>
                              <a:cubicBezTo>
                                <a:pt x="53" y="32"/>
                                <a:pt x="60" y="43"/>
                                <a:pt x="80" y="56"/>
                              </a:cubicBezTo>
                              <a:cubicBezTo>
                                <a:pt x="90" y="71"/>
                                <a:pt x="88" y="65"/>
                                <a:pt x="92" y="84"/>
                              </a:cubicBezTo>
                              <a:cubicBezTo>
                                <a:pt x="93" y="91"/>
                                <a:pt x="96" y="104"/>
                                <a:pt x="96" y="104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1174680" y="3666960"/>
                          <a:ext cx="6876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68">
                              <a:moveTo>
                                <a:pt x="36" y="0"/>
                              </a:moveTo>
                              <a:cubicBezTo>
                                <a:pt x="33" y="12"/>
                                <a:pt x="35" y="26"/>
                                <a:pt x="28" y="36"/>
                              </a:cubicBezTo>
                              <a:cubicBezTo>
                                <a:pt x="22" y="46"/>
                                <a:pt x="9" y="50"/>
                                <a:pt x="4" y="60"/>
                              </a:cubicBezTo>
                              <a:cubicBezTo>
                                <a:pt x="3" y="63"/>
                                <a:pt x="1" y="65"/>
                                <a:pt x="0" y="68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1388520" y="4348440"/>
                          <a:ext cx="52920" cy="8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8">
                              <a:moveTo>
                                <a:pt x="0" y="48"/>
                              </a:moveTo>
                              <a:cubicBezTo>
                                <a:pt x="3" y="44"/>
                                <a:pt x="6" y="40"/>
                                <a:pt x="8" y="36"/>
                              </a:cubicBezTo>
                              <a:cubicBezTo>
                                <a:pt x="10" y="32"/>
                                <a:pt x="10" y="28"/>
                                <a:pt x="12" y="24"/>
                              </a:cubicBezTo>
                              <a:cubicBezTo>
                                <a:pt x="17" y="16"/>
                                <a:pt x="28" y="0"/>
                                <a:pt x="28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1105920" y="4179960"/>
                          <a:ext cx="5364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8">
                              <a:moveTo>
                                <a:pt x="0" y="0"/>
                              </a:moveTo>
                              <a:cubicBezTo>
                                <a:pt x="5" y="1"/>
                                <a:pt x="11" y="2"/>
                                <a:pt x="16" y="4"/>
                              </a:cubicBezTo>
                              <a:cubicBezTo>
                                <a:pt x="20" y="5"/>
                                <a:pt x="28" y="8"/>
                                <a:pt x="28" y="8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6" name=""/>
                        <p:cNvGrpSpPr/>
                        <p:nvPr/>
                      </p:nvGrpSpPr>
                      <p:grpSpPr>
                        <a:xfrm>
                          <a:off x="961200" y="1118520"/>
                          <a:ext cx="1571760" cy="3394080"/>
                          <a:chOff x="961200" y="1118520"/>
                          <a:chExt cx="1571760" cy="3394080"/>
                        </a:xfrm>
                      </p:grpSpPr>
                      <p:sp>
                        <p:nvSpPr>
                          <p:cNvPr id="127" name=""/>
                          <p:cNvSpPr/>
                          <p:nvPr/>
                        </p:nvSpPr>
                        <p:spPr>
                          <a:xfrm>
                            <a:off x="1909440" y="1118520"/>
                            <a:ext cx="64800" cy="141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" h="84">
                                <a:moveTo>
                                  <a:pt x="13" y="84"/>
                                </a:moveTo>
                                <a:cubicBezTo>
                                  <a:pt x="8" y="61"/>
                                  <a:pt x="0" y="33"/>
                                  <a:pt x="22" y="18"/>
                                </a:cubicBezTo>
                                <a:cubicBezTo>
                                  <a:pt x="26" y="12"/>
                                  <a:pt x="34" y="0"/>
                                  <a:pt x="3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" name=""/>
                          <p:cNvSpPr/>
                          <p:nvPr/>
                        </p:nvSpPr>
                        <p:spPr>
                          <a:xfrm>
                            <a:off x="2135880" y="1396800"/>
                            <a:ext cx="198360" cy="70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4" h="42">
                                <a:moveTo>
                                  <a:pt x="0" y="42"/>
                                </a:moveTo>
                                <a:cubicBezTo>
                                  <a:pt x="4" y="38"/>
                                  <a:pt x="7" y="33"/>
                                  <a:pt x="12" y="30"/>
                                </a:cubicBezTo>
                                <a:cubicBezTo>
                                  <a:pt x="19" y="26"/>
                                  <a:pt x="36" y="22"/>
                                  <a:pt x="36" y="22"/>
                                </a:cubicBezTo>
                                <a:cubicBezTo>
                                  <a:pt x="66" y="32"/>
                                  <a:pt x="52" y="32"/>
                                  <a:pt x="80" y="26"/>
                                </a:cubicBezTo>
                                <a:cubicBezTo>
                                  <a:pt x="97" y="0"/>
                                  <a:pt x="86" y="2"/>
                                  <a:pt x="104" y="2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24840" bIns="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" name=""/>
                          <p:cNvSpPr/>
                          <p:nvPr/>
                        </p:nvSpPr>
                        <p:spPr>
                          <a:xfrm>
                            <a:off x="2433600" y="2243160"/>
                            <a:ext cx="99360" cy="8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48">
                                <a:moveTo>
                                  <a:pt x="0" y="48"/>
                                </a:moveTo>
                                <a:cubicBezTo>
                                  <a:pt x="18" y="36"/>
                                  <a:pt x="27" y="23"/>
                                  <a:pt x="44" y="12"/>
                                </a:cubicBezTo>
                                <a:cubicBezTo>
                                  <a:pt x="47" y="8"/>
                                  <a:pt x="52" y="0"/>
                                  <a:pt x="52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>
                            <a:off x="1579320" y="2641320"/>
                            <a:ext cx="12960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18">
                                <a:moveTo>
                                  <a:pt x="0" y="12"/>
                                </a:moveTo>
                                <a:cubicBezTo>
                                  <a:pt x="23" y="18"/>
                                  <a:pt x="15" y="18"/>
                                  <a:pt x="44" y="12"/>
                                </a:cubicBezTo>
                                <a:cubicBezTo>
                                  <a:pt x="53" y="10"/>
                                  <a:pt x="68" y="0"/>
                                  <a:pt x="68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-15840" bIns="-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>
                            <a:off x="1548360" y="4340880"/>
                            <a:ext cx="655920" cy="9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4" h="56">
                                <a:moveTo>
                                  <a:pt x="0" y="56"/>
                                </a:moveTo>
                                <a:cubicBezTo>
                                  <a:pt x="40" y="51"/>
                                  <a:pt x="78" y="54"/>
                                  <a:pt x="120" y="52"/>
                                </a:cubicBezTo>
                                <a:cubicBezTo>
                                  <a:pt x="147" y="43"/>
                                  <a:pt x="167" y="32"/>
                                  <a:pt x="196" y="28"/>
                                </a:cubicBezTo>
                                <a:cubicBezTo>
                                  <a:pt x="231" y="16"/>
                                  <a:pt x="242" y="21"/>
                                  <a:pt x="288" y="24"/>
                                </a:cubicBezTo>
                                <a:cubicBezTo>
                                  <a:pt x="314" y="33"/>
                                  <a:pt x="327" y="17"/>
                                  <a:pt x="34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>
                            <a:off x="1155600" y="3781080"/>
                            <a:ext cx="33840" cy="127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76">
                                <a:moveTo>
                                  <a:pt x="18" y="76"/>
                                </a:moveTo>
                                <a:cubicBezTo>
                                  <a:pt x="15" y="55"/>
                                  <a:pt x="13" y="45"/>
                                  <a:pt x="2" y="28"/>
                                </a:cubicBezTo>
                                <a:cubicBezTo>
                                  <a:pt x="6" y="2"/>
                                  <a:pt x="0" y="10"/>
                                  <a:pt x="10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33" name=""/>
                          <p:cNvGrpSpPr/>
                          <p:nvPr/>
                        </p:nvGrpSpPr>
                        <p:grpSpPr>
                          <a:xfrm>
                            <a:off x="961200" y="1265040"/>
                            <a:ext cx="1152000" cy="3247560"/>
                            <a:chOff x="961200" y="1265040"/>
                            <a:chExt cx="1152000" cy="3247560"/>
                          </a:xfrm>
                        </p:grpSpPr>
                        <p:sp>
                          <p:nvSpPr>
                            <p:cNvPr id="134" name=""/>
                            <p:cNvSpPr/>
                            <p:nvPr/>
                          </p:nvSpPr>
                          <p:spPr>
                            <a:xfrm>
                              <a:off x="1292760" y="1463760"/>
                              <a:ext cx="658080" cy="2777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2" h="4118">
                                  <a:moveTo>
                                    <a:pt x="742" y="0"/>
                                  </a:moveTo>
                                  <a:cubicBezTo>
                                    <a:pt x="743" y="23"/>
                                    <a:pt x="751" y="89"/>
                                    <a:pt x="751" y="139"/>
                                  </a:cubicBezTo>
                                  <a:cubicBezTo>
                                    <a:pt x="751" y="189"/>
                                    <a:pt x="742" y="248"/>
                                    <a:pt x="742" y="302"/>
                                  </a:cubicBezTo>
                                  <a:cubicBezTo>
                                    <a:pt x="742" y="356"/>
                                    <a:pt x="747" y="396"/>
                                    <a:pt x="754" y="466"/>
                                  </a:cubicBezTo>
                                  <a:cubicBezTo>
                                    <a:pt x="761" y="536"/>
                                    <a:pt x="774" y="655"/>
                                    <a:pt x="783" y="722"/>
                                  </a:cubicBezTo>
                                  <a:cubicBezTo>
                                    <a:pt x="792" y="789"/>
                                    <a:pt x="808" y="831"/>
                                    <a:pt x="811" y="871"/>
                                  </a:cubicBezTo>
                                  <a:cubicBezTo>
                                    <a:pt x="814" y="911"/>
                                    <a:pt x="808" y="933"/>
                                    <a:pt x="799" y="965"/>
                                  </a:cubicBezTo>
                                  <a:cubicBezTo>
                                    <a:pt x="790" y="997"/>
                                    <a:pt x="746" y="1009"/>
                                    <a:pt x="754" y="1066"/>
                                  </a:cubicBezTo>
                                  <a:cubicBezTo>
                                    <a:pt x="762" y="1123"/>
                                    <a:pt x="828" y="1221"/>
                                    <a:pt x="845" y="1306"/>
                                  </a:cubicBezTo>
                                  <a:cubicBezTo>
                                    <a:pt x="862" y="1391"/>
                                    <a:pt x="858" y="1494"/>
                                    <a:pt x="857" y="1574"/>
                                  </a:cubicBezTo>
                                  <a:cubicBezTo>
                                    <a:pt x="856" y="1654"/>
                                    <a:pt x="852" y="1740"/>
                                    <a:pt x="840" y="1788"/>
                                  </a:cubicBezTo>
                                  <a:cubicBezTo>
                                    <a:pt x="828" y="1836"/>
                                    <a:pt x="798" y="1842"/>
                                    <a:pt x="787" y="1865"/>
                                  </a:cubicBezTo>
                                  <a:cubicBezTo>
                                    <a:pt x="776" y="1888"/>
                                    <a:pt x="793" y="1896"/>
                                    <a:pt x="775" y="1927"/>
                                  </a:cubicBezTo>
                                  <a:cubicBezTo>
                                    <a:pt x="757" y="1958"/>
                                    <a:pt x="706" y="2021"/>
                                    <a:pt x="679" y="2052"/>
                                  </a:cubicBezTo>
                                  <a:cubicBezTo>
                                    <a:pt x="652" y="2083"/>
                                    <a:pt x="632" y="2081"/>
                                    <a:pt x="615" y="2112"/>
                                  </a:cubicBezTo>
                                  <a:cubicBezTo>
                                    <a:pt x="598" y="2143"/>
                                    <a:pt x="588" y="2207"/>
                                    <a:pt x="576" y="2239"/>
                                  </a:cubicBezTo>
                                  <a:cubicBezTo>
                                    <a:pt x="564" y="2271"/>
                                    <a:pt x="547" y="2279"/>
                                    <a:pt x="540" y="2302"/>
                                  </a:cubicBezTo>
                                  <a:cubicBezTo>
                                    <a:pt x="533" y="2325"/>
                                    <a:pt x="540" y="2353"/>
                                    <a:pt x="533" y="2378"/>
                                  </a:cubicBezTo>
                                  <a:cubicBezTo>
                                    <a:pt x="526" y="2403"/>
                                    <a:pt x="491" y="2416"/>
                                    <a:pt x="499" y="2450"/>
                                  </a:cubicBezTo>
                                  <a:cubicBezTo>
                                    <a:pt x="507" y="2484"/>
                                    <a:pt x="574" y="2546"/>
                                    <a:pt x="583" y="2582"/>
                                  </a:cubicBezTo>
                                  <a:cubicBezTo>
                                    <a:pt x="592" y="2618"/>
                                    <a:pt x="543" y="2632"/>
                                    <a:pt x="550" y="2666"/>
                                  </a:cubicBezTo>
                                  <a:cubicBezTo>
                                    <a:pt x="557" y="2700"/>
                                    <a:pt x="617" y="2757"/>
                                    <a:pt x="624" y="2789"/>
                                  </a:cubicBezTo>
                                  <a:lnTo>
                                    <a:pt x="591" y="2861"/>
                                  </a:lnTo>
                                  <a:lnTo>
                                    <a:pt x="648" y="2938"/>
                                  </a:lnTo>
                                  <a:lnTo>
                                    <a:pt x="651" y="3115"/>
                                  </a:lnTo>
                                  <a:lnTo>
                                    <a:pt x="569" y="3264"/>
                                  </a:lnTo>
                                  <a:lnTo>
                                    <a:pt x="521" y="3293"/>
                                  </a:lnTo>
                                  <a:lnTo>
                                    <a:pt x="451" y="3386"/>
                                  </a:lnTo>
                                  <a:lnTo>
                                    <a:pt x="245" y="3552"/>
                                  </a:lnTo>
                                  <a:lnTo>
                                    <a:pt x="231" y="3660"/>
                                  </a:lnTo>
                                  <a:lnTo>
                                    <a:pt x="197" y="3754"/>
                                  </a:lnTo>
                                  <a:lnTo>
                                    <a:pt x="94" y="3912"/>
                                  </a:lnTo>
                                  <a:lnTo>
                                    <a:pt x="24" y="4001"/>
                                  </a:lnTo>
                                  <a:lnTo>
                                    <a:pt x="0" y="4118"/>
                                  </a:ln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5" name=""/>
                            <p:cNvSpPr/>
                            <p:nvPr/>
                          </p:nvSpPr>
                          <p:spPr>
                            <a:xfrm>
                              <a:off x="961200" y="4276440"/>
                              <a:ext cx="576000" cy="236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2" h="140">
                                  <a:moveTo>
                                    <a:pt x="0" y="2"/>
                                  </a:moveTo>
                                  <a:cubicBezTo>
                                    <a:pt x="40" y="0"/>
                                    <a:pt x="62" y="3"/>
                                    <a:pt x="99" y="8"/>
                                  </a:cubicBezTo>
                                  <a:cubicBezTo>
                                    <a:pt x="106" y="7"/>
                                    <a:pt x="113" y="4"/>
                                    <a:pt x="120" y="5"/>
                                  </a:cubicBezTo>
                                  <a:cubicBezTo>
                                    <a:pt x="126" y="5"/>
                                    <a:pt x="138" y="11"/>
                                    <a:pt x="138" y="11"/>
                                  </a:cubicBezTo>
                                  <a:cubicBezTo>
                                    <a:pt x="139" y="21"/>
                                    <a:pt x="136" y="32"/>
                                    <a:pt x="141" y="41"/>
                                  </a:cubicBezTo>
                                  <a:cubicBezTo>
                                    <a:pt x="144" y="46"/>
                                    <a:pt x="159" y="47"/>
                                    <a:pt x="159" y="47"/>
                                  </a:cubicBezTo>
                                  <a:cubicBezTo>
                                    <a:pt x="165" y="81"/>
                                    <a:pt x="175" y="76"/>
                                    <a:pt x="204" y="86"/>
                                  </a:cubicBezTo>
                                  <a:cubicBezTo>
                                    <a:pt x="213" y="89"/>
                                    <a:pt x="231" y="95"/>
                                    <a:pt x="231" y="95"/>
                                  </a:cubicBezTo>
                                  <a:cubicBezTo>
                                    <a:pt x="255" y="93"/>
                                    <a:pt x="279" y="87"/>
                                    <a:pt x="300" y="101"/>
                                  </a:cubicBezTo>
                                  <a:cubicBezTo>
                                    <a:pt x="302" y="109"/>
                                    <a:pt x="299" y="140"/>
                                    <a:pt x="288" y="140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" name=""/>
                            <p:cNvSpPr/>
                            <p:nvPr/>
                          </p:nvSpPr>
                          <p:spPr>
                            <a:xfrm>
                              <a:off x="1157400" y="4015080"/>
                              <a:ext cx="125640" cy="21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2" h="183">
                                  <a:moveTo>
                                    <a:pt x="23" y="0"/>
                                  </a:moveTo>
                                  <a:cubicBezTo>
                                    <a:pt x="21" y="34"/>
                                    <a:pt x="0" y="97"/>
                                    <a:pt x="41" y="111"/>
                                  </a:cubicBezTo>
                                  <a:cubicBezTo>
                                    <a:pt x="55" y="132"/>
                                    <a:pt x="43" y="164"/>
                                    <a:pt x="62" y="183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" name=""/>
                            <p:cNvSpPr/>
                            <p:nvPr/>
                          </p:nvSpPr>
                          <p:spPr>
                            <a:xfrm>
                              <a:off x="1868760" y="1265040"/>
                              <a:ext cx="74160" cy="16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9" h="96">
                                  <a:moveTo>
                                    <a:pt x="0" y="96"/>
                                  </a:moveTo>
                                  <a:cubicBezTo>
                                    <a:pt x="3" y="83"/>
                                    <a:pt x="3" y="69"/>
                                    <a:pt x="8" y="56"/>
                                  </a:cubicBezTo>
                                  <a:cubicBezTo>
                                    <a:pt x="16" y="37"/>
                                    <a:pt x="39" y="22"/>
                                    <a:pt x="28" y="0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" name=""/>
                            <p:cNvSpPr/>
                            <p:nvPr/>
                          </p:nvSpPr>
                          <p:spPr>
                            <a:xfrm>
                              <a:off x="1861200" y="1446840"/>
                              <a:ext cx="252000" cy="60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36">
                                  <a:moveTo>
                                    <a:pt x="0" y="0"/>
                                  </a:moveTo>
                                  <a:cubicBezTo>
                                    <a:pt x="44" y="4"/>
                                    <a:pt x="54" y="13"/>
                                    <a:pt x="88" y="36"/>
                                  </a:cubicBezTo>
                                  <a:cubicBezTo>
                                    <a:pt x="114" y="29"/>
                                    <a:pt x="112" y="18"/>
                                    <a:pt x="132" y="8"/>
                                  </a:cubicBezTo>
                                </a:path>
                              </a:pathLst>
                            </a:custGeom>
                            <a:noFill/>
                            <a:ln w="50760">
                              <a:solidFill>
                                <a:srgbClr val="0000f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>
                            <a:off x="1251000" y="3471120"/>
                            <a:ext cx="45720" cy="18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08">
                                <a:moveTo>
                                  <a:pt x="0" y="108"/>
                                </a:moveTo>
                                <a:cubicBezTo>
                                  <a:pt x="12" y="62"/>
                                  <a:pt x="7" y="87"/>
                                  <a:pt x="12" y="32"/>
                                </a:cubicBezTo>
                                <a:cubicBezTo>
                                  <a:pt x="9" y="28"/>
                                  <a:pt x="4" y="25"/>
                                  <a:pt x="4" y="20"/>
                                </a:cubicBezTo>
                                <a:cubicBezTo>
                                  <a:pt x="4" y="1"/>
                                  <a:pt x="24" y="13"/>
                                  <a:pt x="24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>
                            <a:off x="1125000" y="4093200"/>
                            <a:ext cx="244080" cy="22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2" h="341">
                                <a:moveTo>
                                  <a:pt x="0" y="341"/>
                                </a:moveTo>
                                <a:cubicBezTo>
                                  <a:pt x="1" y="300"/>
                                  <a:pt x="2" y="260"/>
                                  <a:pt x="10" y="233"/>
                                </a:cubicBezTo>
                                <a:cubicBezTo>
                                  <a:pt x="18" y="206"/>
                                  <a:pt x="36" y="192"/>
                                  <a:pt x="51" y="178"/>
                                </a:cubicBezTo>
                                <a:cubicBezTo>
                                  <a:pt x="66" y="164"/>
                                  <a:pt x="89" y="164"/>
                                  <a:pt x="103" y="149"/>
                                </a:cubicBezTo>
                                <a:cubicBezTo>
                                  <a:pt x="117" y="134"/>
                                  <a:pt x="121" y="107"/>
                                  <a:pt x="135" y="91"/>
                                </a:cubicBezTo>
                                <a:cubicBezTo>
                                  <a:pt x="149" y="75"/>
                                  <a:pt x="177" y="65"/>
                                  <a:pt x="187" y="53"/>
                                </a:cubicBezTo>
                                <a:cubicBezTo>
                                  <a:pt x="197" y="41"/>
                                  <a:pt x="175" y="28"/>
                                  <a:pt x="197" y="19"/>
                                </a:cubicBezTo>
                                <a:cubicBezTo>
                                  <a:pt x="219" y="10"/>
                                  <a:pt x="270" y="5"/>
                                  <a:pt x="322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>
                            <a:off x="1861200" y="1184040"/>
                            <a:ext cx="221400" cy="8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" h="48">
                                <a:moveTo>
                                  <a:pt x="0" y="48"/>
                                </a:moveTo>
                                <a:cubicBezTo>
                                  <a:pt x="46" y="40"/>
                                  <a:pt x="20" y="33"/>
                                  <a:pt x="80" y="28"/>
                                </a:cubicBezTo>
                                <a:cubicBezTo>
                                  <a:pt x="88" y="23"/>
                                  <a:pt x="96" y="17"/>
                                  <a:pt x="104" y="12"/>
                                </a:cubicBezTo>
                                <a:cubicBezTo>
                                  <a:pt x="108" y="10"/>
                                  <a:pt x="108" y="0"/>
                                  <a:pt x="108" y="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f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189800" y="3923280"/>
                          <a:ext cx="1152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58">
                              <a:moveTo>
                                <a:pt x="0" y="58"/>
                              </a:moveTo>
                              <a:cubicBezTo>
                                <a:pt x="6" y="26"/>
                                <a:pt x="4" y="45"/>
                                <a:pt x="4" y="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326680" y="2311200"/>
                          <a:ext cx="9936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44">
                              <a:moveTo>
                                <a:pt x="52" y="0"/>
                              </a:moveTo>
                              <a:cubicBezTo>
                                <a:pt x="34" y="12"/>
                                <a:pt x="15" y="29"/>
                                <a:pt x="0" y="44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28440" bIns="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4" name=""/>
                  <p:cNvSpPr/>
                  <p:nvPr/>
                </p:nvSpPr>
                <p:spPr>
                  <a:xfrm>
                    <a:off x="1327680" y="3957840"/>
                    <a:ext cx="106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4">
                        <a:moveTo>
                          <a:pt x="0" y="64"/>
                        </a:moveTo>
                        <a:cubicBezTo>
                          <a:pt x="5" y="26"/>
                          <a:pt x="13" y="0"/>
                          <a:pt x="56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546920" y="3069000"/>
                    <a:ext cx="1242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9" y="19"/>
                        </a:moveTo>
                        <a:cubicBezTo>
                          <a:pt x="20" y="9"/>
                          <a:pt x="45" y="0"/>
                          <a:pt x="9" y="7"/>
                        </a:cubicBezTo>
                        <a:cubicBezTo>
                          <a:pt x="0" y="35"/>
                          <a:pt x="7" y="50"/>
                          <a:pt x="33" y="59"/>
                        </a:cubicBezTo>
                        <a:cubicBezTo>
                          <a:pt x="41" y="58"/>
                          <a:pt x="50" y="59"/>
                          <a:pt x="57" y="55"/>
                        </a:cubicBezTo>
                        <a:cubicBezTo>
                          <a:pt x="61" y="53"/>
                          <a:pt x="65" y="43"/>
                          <a:pt x="65" y="43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701720" y="1090080"/>
                    <a:ext cx="4806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56">
                        <a:moveTo>
                          <a:pt x="0" y="28"/>
                        </a:moveTo>
                        <a:cubicBezTo>
                          <a:pt x="36" y="23"/>
                          <a:pt x="60" y="11"/>
                          <a:pt x="92" y="0"/>
                        </a:cubicBezTo>
                        <a:cubicBezTo>
                          <a:pt x="125" y="5"/>
                          <a:pt x="152" y="17"/>
                          <a:pt x="180" y="36"/>
                        </a:cubicBezTo>
                        <a:cubicBezTo>
                          <a:pt x="187" y="41"/>
                          <a:pt x="196" y="44"/>
                          <a:pt x="204" y="48"/>
                        </a:cubicBezTo>
                        <a:cubicBezTo>
                          <a:pt x="212" y="51"/>
                          <a:pt x="228" y="56"/>
                          <a:pt x="228" y="56"/>
                        </a:cubicBezTo>
                        <a:cubicBezTo>
                          <a:pt x="247" y="51"/>
                          <a:pt x="239" y="54"/>
                          <a:pt x="252" y="48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" name=""/>
                <p:cNvSpPr/>
                <p:nvPr/>
              </p:nvSpPr>
              <p:spPr>
                <a:xfrm>
                  <a:off x="1235880" y="3907440"/>
                  <a:ext cx="312840" cy="394560"/>
                </a:xfrm>
                <a:custGeom>
                  <a:avLst/>
                  <a:gdLst/>
                  <a:ahLst/>
                  <a:rect l="l" t="t" r="r" b="b"/>
                  <a:pathLst>
                    <a:path w="164" h="234">
                      <a:moveTo>
                        <a:pt x="0" y="0"/>
                      </a:moveTo>
                      <a:cubicBezTo>
                        <a:pt x="31" y="10"/>
                        <a:pt x="59" y="26"/>
                        <a:pt x="90" y="36"/>
                      </a:cubicBezTo>
                      <a:cubicBezTo>
                        <a:pt x="102" y="40"/>
                        <a:pt x="114" y="44"/>
                        <a:pt x="126" y="48"/>
                      </a:cubicBezTo>
                      <a:cubicBezTo>
                        <a:pt x="132" y="50"/>
                        <a:pt x="144" y="54"/>
                        <a:pt x="144" y="54"/>
                      </a:cubicBezTo>
                      <a:cubicBezTo>
                        <a:pt x="150" y="60"/>
                        <a:pt x="160" y="64"/>
                        <a:pt x="162" y="72"/>
                      </a:cubicBezTo>
                      <a:cubicBezTo>
                        <a:pt x="164" y="82"/>
                        <a:pt x="157" y="92"/>
                        <a:pt x="156" y="102"/>
                      </a:cubicBezTo>
                      <a:cubicBezTo>
                        <a:pt x="153" y="126"/>
                        <a:pt x="154" y="150"/>
                        <a:pt x="150" y="174"/>
                      </a:cubicBezTo>
                      <a:cubicBezTo>
                        <a:pt x="147" y="194"/>
                        <a:pt x="132" y="213"/>
                        <a:pt x="132" y="234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89640" y="4160520"/>
                  <a:ext cx="189000" cy="111240"/>
                </a:xfrm>
                <a:custGeom>
                  <a:avLst/>
                  <a:gdLst/>
                  <a:ahLst/>
                  <a:rect l="l" t="t" r="r" b="b"/>
                  <a:pathLst>
                    <a:path w="99" h="66">
                      <a:moveTo>
                        <a:pt x="15" y="66"/>
                      </a:moveTo>
                      <a:cubicBezTo>
                        <a:pt x="9" y="49"/>
                        <a:pt x="0" y="29"/>
                        <a:pt x="15" y="12"/>
                      </a:cubicBezTo>
                      <a:cubicBezTo>
                        <a:pt x="23" y="2"/>
                        <a:pt x="51" y="0"/>
                        <a:pt x="51" y="0"/>
                      </a:cubicBezTo>
                      <a:cubicBezTo>
                        <a:pt x="65" y="4"/>
                        <a:pt x="84" y="12"/>
                        <a:pt x="99" y="12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50280" y="1154520"/>
                  <a:ext cx="60840" cy="237240"/>
                </a:xfrm>
                <a:custGeom>
                  <a:avLst/>
                  <a:gdLst/>
                  <a:ahLst/>
                  <a:rect l="l" t="t" r="r" b="b"/>
                  <a:pathLst>
                    <a:path w="79" h="351">
                      <a:moveTo>
                        <a:pt x="0" y="0"/>
                      </a:moveTo>
                      <a:cubicBezTo>
                        <a:pt x="15" y="19"/>
                        <a:pt x="31" y="39"/>
                        <a:pt x="43" y="89"/>
                      </a:cubicBezTo>
                      <a:cubicBezTo>
                        <a:pt x="55" y="139"/>
                        <a:pt x="63" y="254"/>
                        <a:pt x="69" y="298"/>
                      </a:cubicBezTo>
                      <a:lnTo>
                        <a:pt x="79" y="351"/>
                      </a:ln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1559880" y="2311560"/>
                <a:ext cx="164880" cy="729000"/>
              </a:xfrm>
              <a:custGeom>
                <a:avLst/>
                <a:gdLst/>
                <a:ahLst/>
                <a:rect l="l" t="t" r="r" b="b"/>
                <a:pathLst>
                  <a:path w="86" h="432">
                    <a:moveTo>
                      <a:pt x="14" y="432"/>
                    </a:moveTo>
                    <a:cubicBezTo>
                      <a:pt x="19" y="410"/>
                      <a:pt x="31" y="390"/>
                      <a:pt x="38" y="368"/>
                    </a:cubicBezTo>
                    <a:cubicBezTo>
                      <a:pt x="41" y="360"/>
                      <a:pt x="43" y="352"/>
                      <a:pt x="46" y="344"/>
                    </a:cubicBezTo>
                    <a:cubicBezTo>
                      <a:pt x="47" y="340"/>
                      <a:pt x="50" y="332"/>
                      <a:pt x="50" y="332"/>
                    </a:cubicBezTo>
                    <a:cubicBezTo>
                      <a:pt x="43" y="310"/>
                      <a:pt x="27" y="291"/>
                      <a:pt x="14" y="272"/>
                    </a:cubicBezTo>
                    <a:cubicBezTo>
                      <a:pt x="9" y="265"/>
                      <a:pt x="9" y="256"/>
                      <a:pt x="6" y="248"/>
                    </a:cubicBezTo>
                    <a:cubicBezTo>
                      <a:pt x="5" y="244"/>
                      <a:pt x="2" y="236"/>
                      <a:pt x="2" y="236"/>
                    </a:cubicBezTo>
                    <a:cubicBezTo>
                      <a:pt x="5" y="208"/>
                      <a:pt x="0" y="195"/>
                      <a:pt x="22" y="180"/>
                    </a:cubicBezTo>
                    <a:cubicBezTo>
                      <a:pt x="30" y="157"/>
                      <a:pt x="37" y="137"/>
                      <a:pt x="54" y="120"/>
                    </a:cubicBezTo>
                    <a:cubicBezTo>
                      <a:pt x="65" y="87"/>
                      <a:pt x="53" y="125"/>
                      <a:pt x="62" y="52"/>
                    </a:cubicBezTo>
                    <a:cubicBezTo>
                      <a:pt x="64" y="34"/>
                      <a:pt x="86" y="18"/>
                      <a:pt x="86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1200" y="1466640"/>
                <a:ext cx="156960" cy="240120"/>
              </a:xfrm>
              <a:custGeom>
                <a:avLst/>
                <a:gdLst/>
                <a:ahLst/>
                <a:rect l="l" t="t" r="r" b="b"/>
                <a:pathLst>
                  <a:path w="207" h="355">
                    <a:moveTo>
                      <a:pt x="0" y="355"/>
                    </a:moveTo>
                    <a:cubicBezTo>
                      <a:pt x="23" y="352"/>
                      <a:pt x="47" y="350"/>
                      <a:pt x="67" y="338"/>
                    </a:cubicBezTo>
                    <a:cubicBezTo>
                      <a:pt x="87" y="326"/>
                      <a:pt x="107" y="304"/>
                      <a:pt x="122" y="283"/>
                    </a:cubicBezTo>
                    <a:cubicBezTo>
                      <a:pt x="137" y="262"/>
                      <a:pt x="154" y="238"/>
                      <a:pt x="158" y="213"/>
                    </a:cubicBezTo>
                    <a:cubicBezTo>
                      <a:pt x="162" y="188"/>
                      <a:pt x="142" y="157"/>
                      <a:pt x="149" y="132"/>
                    </a:cubicBezTo>
                    <a:cubicBezTo>
                      <a:pt x="156" y="107"/>
                      <a:pt x="191" y="87"/>
                      <a:pt x="199" y="65"/>
                    </a:cubicBezTo>
                    <a:cubicBezTo>
                      <a:pt x="207" y="43"/>
                      <a:pt x="202" y="21"/>
                      <a:pt x="197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92040" y="1124640"/>
                <a:ext cx="517320" cy="52920"/>
              </a:xfrm>
              <a:custGeom>
                <a:avLst/>
                <a:gdLst/>
                <a:ahLst/>
                <a:rect l="l" t="t" r="r" b="b"/>
                <a:pathLst>
                  <a:path w="272" h="32">
                    <a:moveTo>
                      <a:pt x="0" y="32"/>
                    </a:moveTo>
                    <a:cubicBezTo>
                      <a:pt x="64" y="23"/>
                      <a:pt x="128" y="27"/>
                      <a:pt x="192" y="16"/>
                    </a:cubicBezTo>
                    <a:cubicBezTo>
                      <a:pt x="216" y="0"/>
                      <a:pt x="220" y="4"/>
                      <a:pt x="252" y="8"/>
                    </a:cubicBezTo>
                    <a:cubicBezTo>
                      <a:pt x="269" y="12"/>
                      <a:pt x="263" y="12"/>
                      <a:pt x="272" y="12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11960" y="2018520"/>
                <a:ext cx="1689120" cy="154800"/>
              </a:xfrm>
              <a:custGeom>
                <a:avLst/>
                <a:gdLst/>
                <a:ahLst/>
                <a:rect l="l" t="t" r="r" b="b"/>
                <a:pathLst>
                  <a:path w="2213" h="232">
                    <a:moveTo>
                      <a:pt x="0" y="52"/>
                    </a:moveTo>
                    <a:cubicBezTo>
                      <a:pt x="13" y="54"/>
                      <a:pt x="63" y="66"/>
                      <a:pt x="84" y="64"/>
                    </a:cubicBezTo>
                    <a:cubicBezTo>
                      <a:pt x="105" y="62"/>
                      <a:pt x="107" y="37"/>
                      <a:pt x="125" y="42"/>
                    </a:cubicBezTo>
                    <a:cubicBezTo>
                      <a:pt x="143" y="47"/>
                      <a:pt x="173" y="93"/>
                      <a:pt x="192" y="95"/>
                    </a:cubicBezTo>
                    <a:cubicBezTo>
                      <a:pt x="211" y="97"/>
                      <a:pt x="224" y="60"/>
                      <a:pt x="238" y="54"/>
                    </a:cubicBezTo>
                    <a:cubicBezTo>
                      <a:pt x="252" y="48"/>
                      <a:pt x="260" y="67"/>
                      <a:pt x="274" y="62"/>
                    </a:cubicBezTo>
                    <a:cubicBezTo>
                      <a:pt x="288" y="57"/>
                      <a:pt x="292" y="29"/>
                      <a:pt x="324" y="26"/>
                    </a:cubicBezTo>
                    <a:cubicBezTo>
                      <a:pt x="356" y="23"/>
                      <a:pt x="435" y="46"/>
                      <a:pt x="468" y="42"/>
                    </a:cubicBezTo>
                    <a:cubicBezTo>
                      <a:pt x="501" y="38"/>
                      <a:pt x="506" y="4"/>
                      <a:pt x="524" y="2"/>
                    </a:cubicBezTo>
                    <a:cubicBezTo>
                      <a:pt x="542" y="0"/>
                      <a:pt x="564" y="13"/>
                      <a:pt x="574" y="28"/>
                    </a:cubicBezTo>
                    <a:cubicBezTo>
                      <a:pt x="584" y="43"/>
                      <a:pt x="572" y="82"/>
                      <a:pt x="581" y="93"/>
                    </a:cubicBezTo>
                    <a:cubicBezTo>
                      <a:pt x="590" y="104"/>
                      <a:pt x="615" y="98"/>
                      <a:pt x="627" y="93"/>
                    </a:cubicBezTo>
                    <a:cubicBezTo>
                      <a:pt x="639" y="88"/>
                      <a:pt x="644" y="71"/>
                      <a:pt x="656" y="64"/>
                    </a:cubicBezTo>
                    <a:cubicBezTo>
                      <a:pt x="668" y="57"/>
                      <a:pt x="680" y="58"/>
                      <a:pt x="701" y="52"/>
                    </a:cubicBezTo>
                    <a:cubicBezTo>
                      <a:pt x="722" y="46"/>
                      <a:pt x="762" y="30"/>
                      <a:pt x="780" y="26"/>
                    </a:cubicBezTo>
                    <a:cubicBezTo>
                      <a:pt x="798" y="22"/>
                      <a:pt x="796" y="23"/>
                      <a:pt x="809" y="28"/>
                    </a:cubicBezTo>
                    <a:cubicBezTo>
                      <a:pt x="822" y="33"/>
                      <a:pt x="847" y="42"/>
                      <a:pt x="857" y="57"/>
                    </a:cubicBezTo>
                    <a:cubicBezTo>
                      <a:pt x="867" y="72"/>
                      <a:pt x="855" y="105"/>
                      <a:pt x="869" y="117"/>
                    </a:cubicBezTo>
                    <a:cubicBezTo>
                      <a:pt x="883" y="129"/>
                      <a:pt x="918" y="123"/>
                      <a:pt x="939" y="129"/>
                    </a:cubicBezTo>
                    <a:cubicBezTo>
                      <a:pt x="960" y="135"/>
                      <a:pt x="972" y="149"/>
                      <a:pt x="994" y="155"/>
                    </a:cubicBezTo>
                    <a:cubicBezTo>
                      <a:pt x="1016" y="161"/>
                      <a:pt x="1041" y="168"/>
                      <a:pt x="1071" y="167"/>
                    </a:cubicBezTo>
                    <a:cubicBezTo>
                      <a:pt x="1101" y="166"/>
                      <a:pt x="1142" y="148"/>
                      <a:pt x="1172" y="150"/>
                    </a:cubicBezTo>
                    <a:cubicBezTo>
                      <a:pt x="1202" y="152"/>
                      <a:pt x="1232" y="178"/>
                      <a:pt x="1253" y="179"/>
                    </a:cubicBezTo>
                    <a:cubicBezTo>
                      <a:pt x="1274" y="180"/>
                      <a:pt x="1274" y="163"/>
                      <a:pt x="1296" y="153"/>
                    </a:cubicBezTo>
                    <a:cubicBezTo>
                      <a:pt x="1318" y="143"/>
                      <a:pt x="1357" y="119"/>
                      <a:pt x="1385" y="117"/>
                    </a:cubicBezTo>
                    <a:cubicBezTo>
                      <a:pt x="1413" y="115"/>
                      <a:pt x="1445" y="137"/>
                      <a:pt x="1467" y="138"/>
                    </a:cubicBezTo>
                    <a:cubicBezTo>
                      <a:pt x="1489" y="139"/>
                      <a:pt x="1502" y="129"/>
                      <a:pt x="1515" y="124"/>
                    </a:cubicBezTo>
                    <a:cubicBezTo>
                      <a:pt x="1528" y="119"/>
                      <a:pt x="1529" y="102"/>
                      <a:pt x="1544" y="105"/>
                    </a:cubicBezTo>
                    <a:cubicBezTo>
                      <a:pt x="1559" y="108"/>
                      <a:pt x="1591" y="126"/>
                      <a:pt x="1606" y="141"/>
                    </a:cubicBezTo>
                    <a:cubicBezTo>
                      <a:pt x="1621" y="156"/>
                      <a:pt x="1621" y="181"/>
                      <a:pt x="1632" y="196"/>
                    </a:cubicBezTo>
                    <a:cubicBezTo>
                      <a:pt x="1643" y="211"/>
                      <a:pt x="1650" y="228"/>
                      <a:pt x="1671" y="230"/>
                    </a:cubicBezTo>
                    <a:cubicBezTo>
                      <a:pt x="1692" y="232"/>
                      <a:pt x="1733" y="220"/>
                      <a:pt x="1757" y="210"/>
                    </a:cubicBezTo>
                    <a:cubicBezTo>
                      <a:pt x="1781" y="200"/>
                      <a:pt x="1783" y="178"/>
                      <a:pt x="1817" y="170"/>
                    </a:cubicBezTo>
                    <a:cubicBezTo>
                      <a:pt x="1851" y="162"/>
                      <a:pt x="1928" y="165"/>
                      <a:pt x="1959" y="162"/>
                    </a:cubicBezTo>
                    <a:cubicBezTo>
                      <a:pt x="1990" y="159"/>
                      <a:pt x="1987" y="153"/>
                      <a:pt x="2002" y="153"/>
                    </a:cubicBezTo>
                    <a:cubicBezTo>
                      <a:pt x="2017" y="153"/>
                      <a:pt x="2032" y="164"/>
                      <a:pt x="2048" y="162"/>
                    </a:cubicBezTo>
                    <a:cubicBezTo>
                      <a:pt x="2064" y="160"/>
                      <a:pt x="2073" y="144"/>
                      <a:pt x="2100" y="143"/>
                    </a:cubicBezTo>
                    <a:cubicBezTo>
                      <a:pt x="2127" y="142"/>
                      <a:pt x="2190" y="152"/>
                      <a:pt x="2213" y="155"/>
                    </a:cubicBezTo>
                  </a:path>
                </a:pathLst>
              </a:custGeom>
              <a:noFill/>
              <a:ln w="507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558080" y="731880"/>
                <a:ext cx="1642680" cy="5414760"/>
                <a:chOff x="1558080" y="731880"/>
                <a:chExt cx="1642680" cy="5414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471040" y="753480"/>
                  <a:ext cx="516600" cy="1301760"/>
                </a:xfrm>
                <a:custGeom>
                  <a:avLst/>
                  <a:gdLst/>
                  <a:ahLst/>
                  <a:rect l="l" t="t" r="r" b="b"/>
                  <a:pathLst>
                    <a:path w="678" h="1930">
                      <a:moveTo>
                        <a:pt x="3" y="1930"/>
                      </a:moveTo>
                      <a:cubicBezTo>
                        <a:pt x="1" y="1909"/>
                        <a:pt x="0" y="1889"/>
                        <a:pt x="6" y="1863"/>
                      </a:cubicBezTo>
                      <a:cubicBezTo>
                        <a:pt x="12" y="1837"/>
                        <a:pt x="34" y="1808"/>
                        <a:pt x="37" y="1776"/>
                      </a:cubicBezTo>
                      <a:cubicBezTo>
                        <a:pt x="40" y="1744"/>
                        <a:pt x="24" y="1721"/>
                        <a:pt x="27" y="1673"/>
                      </a:cubicBezTo>
                      <a:cubicBezTo>
                        <a:pt x="30" y="1625"/>
                        <a:pt x="46" y="1526"/>
                        <a:pt x="56" y="1486"/>
                      </a:cubicBezTo>
                      <a:cubicBezTo>
                        <a:pt x="66" y="1446"/>
                        <a:pt x="80" y="1459"/>
                        <a:pt x="87" y="1435"/>
                      </a:cubicBezTo>
                      <a:cubicBezTo>
                        <a:pt x="94" y="1411"/>
                        <a:pt x="88" y="1371"/>
                        <a:pt x="99" y="1342"/>
                      </a:cubicBezTo>
                      <a:cubicBezTo>
                        <a:pt x="110" y="1313"/>
                        <a:pt x="129" y="1286"/>
                        <a:pt x="152" y="1263"/>
                      </a:cubicBezTo>
                      <a:cubicBezTo>
                        <a:pt x="175" y="1240"/>
                        <a:pt x="225" y="1247"/>
                        <a:pt x="238" y="1205"/>
                      </a:cubicBezTo>
                      <a:cubicBezTo>
                        <a:pt x="251" y="1163"/>
                        <a:pt x="223" y="1064"/>
                        <a:pt x="229" y="1013"/>
                      </a:cubicBezTo>
                      <a:cubicBezTo>
                        <a:pt x="235" y="962"/>
                        <a:pt x="262" y="924"/>
                        <a:pt x="274" y="900"/>
                      </a:cubicBezTo>
                      <a:cubicBezTo>
                        <a:pt x="286" y="876"/>
                        <a:pt x="293" y="908"/>
                        <a:pt x="301" y="871"/>
                      </a:cubicBezTo>
                      <a:cubicBezTo>
                        <a:pt x="309" y="834"/>
                        <a:pt x="310" y="734"/>
                        <a:pt x="320" y="677"/>
                      </a:cubicBezTo>
                      <a:cubicBezTo>
                        <a:pt x="330" y="620"/>
                        <a:pt x="349" y="564"/>
                        <a:pt x="363" y="528"/>
                      </a:cubicBezTo>
                      <a:cubicBezTo>
                        <a:pt x="377" y="492"/>
                        <a:pt x="395" y="480"/>
                        <a:pt x="406" y="459"/>
                      </a:cubicBezTo>
                      <a:cubicBezTo>
                        <a:pt x="417" y="438"/>
                        <a:pt x="425" y="428"/>
                        <a:pt x="430" y="403"/>
                      </a:cubicBezTo>
                      <a:cubicBezTo>
                        <a:pt x="435" y="378"/>
                        <a:pt x="433" y="335"/>
                        <a:pt x="438" y="307"/>
                      </a:cubicBezTo>
                      <a:cubicBezTo>
                        <a:pt x="443" y="279"/>
                        <a:pt x="444" y="262"/>
                        <a:pt x="462" y="235"/>
                      </a:cubicBezTo>
                      <a:cubicBezTo>
                        <a:pt x="480" y="208"/>
                        <a:pt x="523" y="162"/>
                        <a:pt x="543" y="144"/>
                      </a:cubicBezTo>
                      <a:cubicBezTo>
                        <a:pt x="563" y="126"/>
                        <a:pt x="560" y="149"/>
                        <a:pt x="582" y="125"/>
                      </a:cubicBezTo>
                      <a:cubicBezTo>
                        <a:pt x="604" y="101"/>
                        <a:pt x="658" y="26"/>
                        <a:pt x="678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1679760" y="2173680"/>
                  <a:ext cx="1521000" cy="3972960"/>
                  <a:chOff x="1679760" y="2173680"/>
                  <a:chExt cx="1521000" cy="3972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201760" y="2173680"/>
                    <a:ext cx="999000" cy="12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2" h="1855">
                        <a:moveTo>
                          <a:pt x="0" y="1848"/>
                        </a:moveTo>
                        <a:cubicBezTo>
                          <a:pt x="10" y="1847"/>
                          <a:pt x="31" y="1839"/>
                          <a:pt x="60" y="1840"/>
                        </a:cubicBezTo>
                        <a:cubicBezTo>
                          <a:pt x="89" y="1841"/>
                          <a:pt x="148" y="1855"/>
                          <a:pt x="175" y="1852"/>
                        </a:cubicBezTo>
                        <a:cubicBezTo>
                          <a:pt x="202" y="1849"/>
                          <a:pt x="208" y="1827"/>
                          <a:pt x="223" y="1824"/>
                        </a:cubicBezTo>
                        <a:cubicBezTo>
                          <a:pt x="238" y="1821"/>
                          <a:pt x="241" y="1837"/>
                          <a:pt x="268" y="1831"/>
                        </a:cubicBezTo>
                        <a:cubicBezTo>
                          <a:pt x="295" y="1825"/>
                          <a:pt x="355" y="1793"/>
                          <a:pt x="386" y="1785"/>
                        </a:cubicBezTo>
                        <a:cubicBezTo>
                          <a:pt x="417" y="1777"/>
                          <a:pt x="438" y="1789"/>
                          <a:pt x="456" y="1783"/>
                        </a:cubicBezTo>
                        <a:cubicBezTo>
                          <a:pt x="474" y="1777"/>
                          <a:pt x="478" y="1755"/>
                          <a:pt x="494" y="1747"/>
                        </a:cubicBezTo>
                        <a:cubicBezTo>
                          <a:pt x="510" y="1739"/>
                          <a:pt x="531" y="1755"/>
                          <a:pt x="552" y="1737"/>
                        </a:cubicBezTo>
                        <a:cubicBezTo>
                          <a:pt x="573" y="1719"/>
                          <a:pt x="604" y="1674"/>
                          <a:pt x="619" y="1641"/>
                        </a:cubicBezTo>
                        <a:cubicBezTo>
                          <a:pt x="634" y="1608"/>
                          <a:pt x="629" y="1566"/>
                          <a:pt x="645" y="1536"/>
                        </a:cubicBezTo>
                        <a:cubicBezTo>
                          <a:pt x="661" y="1506"/>
                          <a:pt x="703" y="1479"/>
                          <a:pt x="715" y="1461"/>
                        </a:cubicBezTo>
                        <a:cubicBezTo>
                          <a:pt x="727" y="1443"/>
                          <a:pt x="712" y="1433"/>
                          <a:pt x="717" y="1428"/>
                        </a:cubicBezTo>
                        <a:cubicBezTo>
                          <a:pt x="722" y="1423"/>
                          <a:pt x="727" y="1441"/>
                          <a:pt x="748" y="1432"/>
                        </a:cubicBezTo>
                        <a:cubicBezTo>
                          <a:pt x="769" y="1423"/>
                          <a:pt x="825" y="1388"/>
                          <a:pt x="844" y="1372"/>
                        </a:cubicBezTo>
                        <a:cubicBezTo>
                          <a:pt x="863" y="1356"/>
                          <a:pt x="848" y="1346"/>
                          <a:pt x="864" y="1334"/>
                        </a:cubicBezTo>
                        <a:cubicBezTo>
                          <a:pt x="880" y="1322"/>
                          <a:pt x="923" y="1340"/>
                          <a:pt x="943" y="1300"/>
                        </a:cubicBezTo>
                        <a:cubicBezTo>
                          <a:pt x="963" y="1260"/>
                          <a:pt x="974" y="1134"/>
                          <a:pt x="986" y="1092"/>
                        </a:cubicBezTo>
                        <a:cubicBezTo>
                          <a:pt x="998" y="1050"/>
                          <a:pt x="1012" y="1063"/>
                          <a:pt x="1015" y="1046"/>
                        </a:cubicBezTo>
                        <a:cubicBezTo>
                          <a:pt x="1018" y="1029"/>
                          <a:pt x="1007" y="1015"/>
                          <a:pt x="1003" y="988"/>
                        </a:cubicBezTo>
                        <a:cubicBezTo>
                          <a:pt x="999" y="961"/>
                          <a:pt x="994" y="938"/>
                          <a:pt x="988" y="885"/>
                        </a:cubicBezTo>
                        <a:cubicBezTo>
                          <a:pt x="982" y="832"/>
                          <a:pt x="974" y="722"/>
                          <a:pt x="969" y="667"/>
                        </a:cubicBezTo>
                        <a:cubicBezTo>
                          <a:pt x="964" y="612"/>
                          <a:pt x="945" y="592"/>
                          <a:pt x="955" y="552"/>
                        </a:cubicBezTo>
                        <a:cubicBezTo>
                          <a:pt x="965" y="512"/>
                          <a:pt x="996" y="460"/>
                          <a:pt x="1029" y="429"/>
                        </a:cubicBezTo>
                        <a:cubicBezTo>
                          <a:pt x="1062" y="398"/>
                          <a:pt x="1119" y="404"/>
                          <a:pt x="1154" y="367"/>
                        </a:cubicBezTo>
                        <a:cubicBezTo>
                          <a:pt x="1189" y="330"/>
                          <a:pt x="1223" y="248"/>
                          <a:pt x="1240" y="208"/>
                        </a:cubicBezTo>
                        <a:cubicBezTo>
                          <a:pt x="1257" y="168"/>
                          <a:pt x="1245" y="164"/>
                          <a:pt x="1257" y="129"/>
                        </a:cubicBezTo>
                        <a:cubicBezTo>
                          <a:pt x="1269" y="94"/>
                          <a:pt x="1301" y="27"/>
                          <a:pt x="1312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79760" y="5966280"/>
                    <a:ext cx="135504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78" h="266">
                        <a:moveTo>
                          <a:pt x="0" y="155"/>
                        </a:moveTo>
                        <a:cubicBezTo>
                          <a:pt x="42" y="141"/>
                          <a:pt x="84" y="127"/>
                          <a:pt x="122" y="121"/>
                        </a:cubicBezTo>
                        <a:cubicBezTo>
                          <a:pt x="160" y="115"/>
                          <a:pt x="165" y="109"/>
                          <a:pt x="230" y="119"/>
                        </a:cubicBezTo>
                        <a:cubicBezTo>
                          <a:pt x="295" y="129"/>
                          <a:pt x="441" y="174"/>
                          <a:pt x="513" y="184"/>
                        </a:cubicBezTo>
                        <a:cubicBezTo>
                          <a:pt x="585" y="194"/>
                          <a:pt x="632" y="189"/>
                          <a:pt x="664" y="181"/>
                        </a:cubicBezTo>
                        <a:cubicBezTo>
                          <a:pt x="696" y="173"/>
                          <a:pt x="683" y="138"/>
                          <a:pt x="708" y="133"/>
                        </a:cubicBezTo>
                        <a:cubicBezTo>
                          <a:pt x="733" y="128"/>
                          <a:pt x="792" y="140"/>
                          <a:pt x="816" y="150"/>
                        </a:cubicBezTo>
                        <a:cubicBezTo>
                          <a:pt x="840" y="160"/>
                          <a:pt x="828" y="184"/>
                          <a:pt x="849" y="193"/>
                        </a:cubicBezTo>
                        <a:cubicBezTo>
                          <a:pt x="870" y="202"/>
                          <a:pt x="916" y="194"/>
                          <a:pt x="940" y="205"/>
                        </a:cubicBezTo>
                        <a:cubicBezTo>
                          <a:pt x="964" y="216"/>
                          <a:pt x="967" y="250"/>
                          <a:pt x="993" y="258"/>
                        </a:cubicBezTo>
                        <a:cubicBezTo>
                          <a:pt x="1019" y="266"/>
                          <a:pt x="1074" y="256"/>
                          <a:pt x="1096" y="253"/>
                        </a:cubicBezTo>
                        <a:cubicBezTo>
                          <a:pt x="1118" y="250"/>
                          <a:pt x="1105" y="236"/>
                          <a:pt x="1125" y="237"/>
                        </a:cubicBezTo>
                        <a:cubicBezTo>
                          <a:pt x="1145" y="238"/>
                          <a:pt x="1194" y="260"/>
                          <a:pt x="1216" y="261"/>
                        </a:cubicBezTo>
                        <a:cubicBezTo>
                          <a:pt x="1238" y="262"/>
                          <a:pt x="1250" y="249"/>
                          <a:pt x="1257" y="241"/>
                        </a:cubicBezTo>
                        <a:cubicBezTo>
                          <a:pt x="1264" y="233"/>
                          <a:pt x="1250" y="222"/>
                          <a:pt x="1260" y="213"/>
                        </a:cubicBezTo>
                        <a:cubicBezTo>
                          <a:pt x="1270" y="204"/>
                          <a:pt x="1296" y="195"/>
                          <a:pt x="1320" y="189"/>
                        </a:cubicBezTo>
                        <a:cubicBezTo>
                          <a:pt x="1344" y="183"/>
                          <a:pt x="1381" y="191"/>
                          <a:pt x="1406" y="179"/>
                        </a:cubicBezTo>
                        <a:cubicBezTo>
                          <a:pt x="1431" y="167"/>
                          <a:pt x="1437" y="132"/>
                          <a:pt x="1468" y="117"/>
                        </a:cubicBezTo>
                        <a:cubicBezTo>
                          <a:pt x="1499" y="102"/>
                          <a:pt x="1558" y="98"/>
                          <a:pt x="1593" y="88"/>
                        </a:cubicBezTo>
                        <a:cubicBezTo>
                          <a:pt x="1628" y="78"/>
                          <a:pt x="1659" y="70"/>
                          <a:pt x="1680" y="57"/>
                        </a:cubicBezTo>
                        <a:cubicBezTo>
                          <a:pt x="1701" y="44"/>
                          <a:pt x="1702" y="18"/>
                          <a:pt x="1718" y="9"/>
                        </a:cubicBezTo>
                        <a:cubicBezTo>
                          <a:pt x="1734" y="0"/>
                          <a:pt x="1756" y="2"/>
                          <a:pt x="1778" y="4"/>
                        </a:cubicBezTo>
                      </a:path>
                    </a:pathLst>
                  </a:custGeom>
                  <a:noFill/>
                  <a:ln w="507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1731240" y="2094480"/>
                  <a:ext cx="95400" cy="213840"/>
                </a:xfrm>
                <a:custGeom>
                  <a:avLst/>
                  <a:gdLst/>
                  <a:ahLst/>
                  <a:rect l="l" t="t" r="r" b="b"/>
                  <a:pathLst>
                    <a:path w="126" h="319">
                      <a:moveTo>
                        <a:pt x="0" y="319"/>
                      </a:moveTo>
                      <a:cubicBezTo>
                        <a:pt x="15" y="295"/>
                        <a:pt x="30" y="272"/>
                        <a:pt x="36" y="254"/>
                      </a:cubicBezTo>
                      <a:cubicBezTo>
                        <a:pt x="42" y="236"/>
                        <a:pt x="31" y="232"/>
                        <a:pt x="38" y="211"/>
                      </a:cubicBezTo>
                      <a:cubicBezTo>
                        <a:pt x="45" y="190"/>
                        <a:pt x="71" y="148"/>
                        <a:pt x="79" y="127"/>
                      </a:cubicBezTo>
                      <a:cubicBezTo>
                        <a:pt x="87" y="106"/>
                        <a:pt x="79" y="99"/>
                        <a:pt x="86" y="84"/>
                      </a:cubicBezTo>
                      <a:cubicBezTo>
                        <a:pt x="93" y="69"/>
                        <a:pt x="114" y="50"/>
                        <a:pt x="120" y="36"/>
                      </a:cubicBezTo>
                      <a:cubicBezTo>
                        <a:pt x="126" y="22"/>
                        <a:pt x="123" y="11"/>
                        <a:pt x="120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792080" y="1542960"/>
                  <a:ext cx="82080" cy="497520"/>
                </a:xfrm>
                <a:custGeom>
                  <a:avLst/>
                  <a:gdLst/>
                  <a:ahLst/>
                  <a:rect l="l" t="t" r="r" b="b"/>
                  <a:pathLst>
                    <a:path w="108" h="737">
                      <a:moveTo>
                        <a:pt x="108" y="737"/>
                      </a:moveTo>
                      <a:cubicBezTo>
                        <a:pt x="99" y="718"/>
                        <a:pt x="91" y="700"/>
                        <a:pt x="87" y="684"/>
                      </a:cubicBezTo>
                      <a:cubicBezTo>
                        <a:pt x="83" y="668"/>
                        <a:pt x="88" y="651"/>
                        <a:pt x="84" y="641"/>
                      </a:cubicBezTo>
                      <a:cubicBezTo>
                        <a:pt x="80" y="631"/>
                        <a:pt x="67" y="650"/>
                        <a:pt x="63" y="622"/>
                      </a:cubicBezTo>
                      <a:cubicBezTo>
                        <a:pt x="59" y="594"/>
                        <a:pt x="62" y="517"/>
                        <a:pt x="58" y="473"/>
                      </a:cubicBezTo>
                      <a:cubicBezTo>
                        <a:pt x="54" y="429"/>
                        <a:pt x="41" y="405"/>
                        <a:pt x="36" y="360"/>
                      </a:cubicBezTo>
                      <a:cubicBezTo>
                        <a:pt x="31" y="315"/>
                        <a:pt x="35" y="244"/>
                        <a:pt x="29" y="202"/>
                      </a:cubicBezTo>
                      <a:cubicBezTo>
                        <a:pt x="23" y="160"/>
                        <a:pt x="0" y="140"/>
                        <a:pt x="0" y="106"/>
                      </a:cubicBezTo>
                      <a:cubicBezTo>
                        <a:pt x="0" y="72"/>
                        <a:pt x="14" y="36"/>
                        <a:pt x="29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677960" y="2053800"/>
                  <a:ext cx="234000" cy="62280"/>
                </a:xfrm>
                <a:custGeom>
                  <a:avLst/>
                  <a:gdLst/>
                  <a:ahLst/>
                  <a:rect l="l" t="t" r="r" b="b"/>
                  <a:pathLst>
                    <a:path w="307" h="91">
                      <a:moveTo>
                        <a:pt x="0" y="84"/>
                      </a:moveTo>
                      <a:cubicBezTo>
                        <a:pt x="21" y="87"/>
                        <a:pt x="43" y="91"/>
                        <a:pt x="55" y="89"/>
                      </a:cubicBezTo>
                      <a:cubicBezTo>
                        <a:pt x="67" y="87"/>
                        <a:pt x="63" y="72"/>
                        <a:pt x="72" y="70"/>
                      </a:cubicBezTo>
                      <a:cubicBezTo>
                        <a:pt x="81" y="68"/>
                        <a:pt x="94" y="80"/>
                        <a:pt x="108" y="75"/>
                      </a:cubicBezTo>
                      <a:cubicBezTo>
                        <a:pt x="122" y="70"/>
                        <a:pt x="141" y="42"/>
                        <a:pt x="156" y="39"/>
                      </a:cubicBezTo>
                      <a:cubicBezTo>
                        <a:pt x="171" y="36"/>
                        <a:pt x="186" y="60"/>
                        <a:pt x="197" y="56"/>
                      </a:cubicBezTo>
                      <a:cubicBezTo>
                        <a:pt x="208" y="52"/>
                        <a:pt x="203" y="24"/>
                        <a:pt x="221" y="15"/>
                      </a:cubicBezTo>
                      <a:cubicBezTo>
                        <a:pt x="239" y="6"/>
                        <a:pt x="289" y="3"/>
                        <a:pt x="307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27280" y="1299960"/>
                  <a:ext cx="465120" cy="123120"/>
                </a:xfrm>
                <a:custGeom>
                  <a:avLst/>
                  <a:gdLst/>
                  <a:ahLst/>
                  <a:rect l="l" t="t" r="r" b="b"/>
                  <a:pathLst>
                    <a:path w="610" h="182">
                      <a:moveTo>
                        <a:pt x="0" y="182"/>
                      </a:moveTo>
                      <a:cubicBezTo>
                        <a:pt x="33" y="165"/>
                        <a:pt x="67" y="148"/>
                        <a:pt x="98" y="146"/>
                      </a:cubicBezTo>
                      <a:cubicBezTo>
                        <a:pt x="129" y="144"/>
                        <a:pt x="147" y="165"/>
                        <a:pt x="185" y="168"/>
                      </a:cubicBezTo>
                      <a:cubicBezTo>
                        <a:pt x="223" y="171"/>
                        <a:pt x="297" y="172"/>
                        <a:pt x="326" y="166"/>
                      </a:cubicBezTo>
                      <a:cubicBezTo>
                        <a:pt x="355" y="160"/>
                        <a:pt x="344" y="137"/>
                        <a:pt x="358" y="132"/>
                      </a:cubicBezTo>
                      <a:cubicBezTo>
                        <a:pt x="372" y="127"/>
                        <a:pt x="385" y="149"/>
                        <a:pt x="410" y="137"/>
                      </a:cubicBezTo>
                      <a:cubicBezTo>
                        <a:pt x="435" y="125"/>
                        <a:pt x="478" y="85"/>
                        <a:pt x="511" y="62"/>
                      </a:cubicBezTo>
                      <a:cubicBezTo>
                        <a:pt x="544" y="39"/>
                        <a:pt x="577" y="19"/>
                        <a:pt x="610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748520" y="1453320"/>
                  <a:ext cx="95040" cy="16560"/>
                </a:xfrm>
                <a:custGeom>
                  <a:avLst/>
                  <a:gdLst/>
                  <a:ahLst/>
                  <a:rect l="l" t="t" r="r" b="b"/>
                  <a:pathLst>
                    <a:path w="127" h="25">
                      <a:moveTo>
                        <a:pt x="0" y="25"/>
                      </a:moveTo>
                      <a:cubicBezTo>
                        <a:pt x="7" y="21"/>
                        <a:pt x="24" y="6"/>
                        <a:pt x="45" y="3"/>
                      </a:cubicBezTo>
                      <a:cubicBezTo>
                        <a:pt x="66" y="0"/>
                        <a:pt x="110" y="5"/>
                        <a:pt x="127" y="5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58080" y="731880"/>
                  <a:ext cx="173160" cy="693000"/>
                </a:xfrm>
                <a:custGeom>
                  <a:avLst/>
                  <a:gdLst/>
                  <a:ahLst/>
                  <a:rect l="l" t="t" r="r" b="b"/>
                  <a:pathLst>
                    <a:path w="229" h="1027">
                      <a:moveTo>
                        <a:pt x="205" y="1027"/>
                      </a:moveTo>
                      <a:cubicBezTo>
                        <a:pt x="205" y="1019"/>
                        <a:pt x="201" y="986"/>
                        <a:pt x="205" y="974"/>
                      </a:cubicBezTo>
                      <a:cubicBezTo>
                        <a:pt x="209" y="962"/>
                        <a:pt x="229" y="966"/>
                        <a:pt x="227" y="952"/>
                      </a:cubicBezTo>
                      <a:cubicBezTo>
                        <a:pt x="225" y="938"/>
                        <a:pt x="201" y="910"/>
                        <a:pt x="195" y="888"/>
                      </a:cubicBezTo>
                      <a:cubicBezTo>
                        <a:pt x="189" y="866"/>
                        <a:pt x="196" y="836"/>
                        <a:pt x="188" y="818"/>
                      </a:cubicBezTo>
                      <a:cubicBezTo>
                        <a:pt x="180" y="800"/>
                        <a:pt x="153" y="797"/>
                        <a:pt x="147" y="780"/>
                      </a:cubicBezTo>
                      <a:cubicBezTo>
                        <a:pt x="141" y="763"/>
                        <a:pt x="149" y="729"/>
                        <a:pt x="152" y="715"/>
                      </a:cubicBezTo>
                      <a:cubicBezTo>
                        <a:pt x="155" y="701"/>
                        <a:pt x="166" y="714"/>
                        <a:pt x="167" y="698"/>
                      </a:cubicBezTo>
                      <a:cubicBezTo>
                        <a:pt x="168" y="682"/>
                        <a:pt x="163" y="638"/>
                        <a:pt x="159" y="616"/>
                      </a:cubicBezTo>
                      <a:cubicBezTo>
                        <a:pt x="155" y="594"/>
                        <a:pt x="149" y="590"/>
                        <a:pt x="140" y="564"/>
                      </a:cubicBezTo>
                      <a:cubicBezTo>
                        <a:pt x="131" y="538"/>
                        <a:pt x="108" y="483"/>
                        <a:pt x="104" y="460"/>
                      </a:cubicBezTo>
                      <a:cubicBezTo>
                        <a:pt x="100" y="437"/>
                        <a:pt x="112" y="440"/>
                        <a:pt x="116" y="424"/>
                      </a:cubicBezTo>
                      <a:cubicBezTo>
                        <a:pt x="120" y="408"/>
                        <a:pt x="132" y="385"/>
                        <a:pt x="131" y="362"/>
                      </a:cubicBezTo>
                      <a:cubicBezTo>
                        <a:pt x="130" y="339"/>
                        <a:pt x="118" y="304"/>
                        <a:pt x="109" y="285"/>
                      </a:cubicBezTo>
                      <a:cubicBezTo>
                        <a:pt x="100" y="266"/>
                        <a:pt x="81" y="260"/>
                        <a:pt x="78" y="247"/>
                      </a:cubicBezTo>
                      <a:cubicBezTo>
                        <a:pt x="75" y="234"/>
                        <a:pt x="90" y="238"/>
                        <a:pt x="90" y="208"/>
                      </a:cubicBezTo>
                      <a:cubicBezTo>
                        <a:pt x="90" y="178"/>
                        <a:pt x="93" y="94"/>
                        <a:pt x="80" y="67"/>
                      </a:cubicBezTo>
                      <a:cubicBezTo>
                        <a:pt x="67" y="40"/>
                        <a:pt x="22" y="54"/>
                        <a:pt x="11" y="43"/>
                      </a:cubicBezTo>
                      <a:cubicBezTo>
                        <a:pt x="0" y="32"/>
                        <a:pt x="14" y="9"/>
                        <a:pt x="15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14960" y="817920"/>
                  <a:ext cx="211680" cy="83880"/>
                </a:xfrm>
                <a:custGeom>
                  <a:avLst/>
                  <a:gdLst/>
                  <a:ahLst/>
                  <a:rect l="l" t="t" r="r" b="b"/>
                  <a:pathLst>
                    <a:path w="279" h="127">
                      <a:moveTo>
                        <a:pt x="0" y="123"/>
                      </a:moveTo>
                      <a:cubicBezTo>
                        <a:pt x="28" y="125"/>
                        <a:pt x="56" y="127"/>
                        <a:pt x="70" y="125"/>
                      </a:cubicBezTo>
                      <a:cubicBezTo>
                        <a:pt x="84" y="123"/>
                        <a:pt x="74" y="113"/>
                        <a:pt x="84" y="111"/>
                      </a:cubicBezTo>
                      <a:cubicBezTo>
                        <a:pt x="94" y="109"/>
                        <a:pt x="116" y="122"/>
                        <a:pt x="130" y="113"/>
                      </a:cubicBezTo>
                      <a:cubicBezTo>
                        <a:pt x="144" y="104"/>
                        <a:pt x="153" y="70"/>
                        <a:pt x="166" y="60"/>
                      </a:cubicBezTo>
                      <a:cubicBezTo>
                        <a:pt x="179" y="50"/>
                        <a:pt x="201" y="59"/>
                        <a:pt x="209" y="53"/>
                      </a:cubicBezTo>
                      <a:cubicBezTo>
                        <a:pt x="217" y="47"/>
                        <a:pt x="204" y="33"/>
                        <a:pt x="216" y="24"/>
                      </a:cubicBezTo>
                      <a:cubicBezTo>
                        <a:pt x="228" y="15"/>
                        <a:pt x="253" y="7"/>
                        <a:pt x="279" y="0"/>
                      </a:cubicBez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50640" y="1155240"/>
                  <a:ext cx="60840" cy="237240"/>
                </a:xfrm>
                <a:custGeom>
                  <a:avLst/>
                  <a:gdLst/>
                  <a:ahLst/>
                  <a:rect l="l" t="t" r="r" b="b"/>
                  <a:pathLst>
                    <a:path w="79" h="351">
                      <a:moveTo>
                        <a:pt x="0" y="0"/>
                      </a:moveTo>
                      <a:cubicBezTo>
                        <a:pt x="15" y="19"/>
                        <a:pt x="31" y="39"/>
                        <a:pt x="43" y="89"/>
                      </a:cubicBezTo>
                      <a:cubicBezTo>
                        <a:pt x="55" y="139"/>
                        <a:pt x="63" y="254"/>
                        <a:pt x="69" y="298"/>
                      </a:cubicBezTo>
                      <a:lnTo>
                        <a:pt x="79" y="351"/>
                      </a:lnTo>
                    </a:path>
                  </a:pathLst>
                </a:custGeom>
                <a:noFill/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549880" y="2151000"/>
                <a:ext cx="68400" cy="9396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0" y="56"/>
                    </a:moveTo>
                    <a:cubicBezTo>
                      <a:pt x="18" y="38"/>
                      <a:pt x="25" y="21"/>
                      <a:pt x="36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62560" y="2292840"/>
                <a:ext cx="665280" cy="86400"/>
              </a:xfrm>
              <a:custGeom>
                <a:avLst/>
                <a:gdLst/>
                <a:ahLst/>
                <a:rect l="l" t="t" r="r" b="b"/>
                <a:pathLst>
                  <a:path w="336" h="52">
                    <a:moveTo>
                      <a:pt x="0" y="12"/>
                    </a:moveTo>
                    <a:cubicBezTo>
                      <a:pt x="27" y="16"/>
                      <a:pt x="40" y="24"/>
                      <a:pt x="64" y="32"/>
                    </a:cubicBezTo>
                    <a:cubicBezTo>
                      <a:pt x="87" y="26"/>
                      <a:pt x="95" y="22"/>
                      <a:pt x="116" y="8"/>
                    </a:cubicBezTo>
                    <a:cubicBezTo>
                      <a:pt x="123" y="3"/>
                      <a:pt x="140" y="0"/>
                      <a:pt x="140" y="0"/>
                    </a:cubicBezTo>
                    <a:cubicBezTo>
                      <a:pt x="161" y="5"/>
                      <a:pt x="186" y="20"/>
                      <a:pt x="204" y="32"/>
                    </a:cubicBezTo>
                    <a:cubicBezTo>
                      <a:pt x="207" y="36"/>
                      <a:pt x="208" y="41"/>
                      <a:pt x="212" y="44"/>
                    </a:cubicBezTo>
                    <a:cubicBezTo>
                      <a:pt x="219" y="48"/>
                      <a:pt x="236" y="52"/>
                      <a:pt x="236" y="52"/>
                    </a:cubicBezTo>
                    <a:cubicBezTo>
                      <a:pt x="251" y="51"/>
                      <a:pt x="265" y="50"/>
                      <a:pt x="280" y="48"/>
                    </a:cubicBezTo>
                    <a:cubicBezTo>
                      <a:pt x="302" y="45"/>
                      <a:pt x="316" y="22"/>
                      <a:pt x="336" y="12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475720" y="973440"/>
              <a:ext cx="283320" cy="1360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72"/>
                  </a:moveTo>
                  <a:cubicBezTo>
                    <a:pt x="41" y="65"/>
                    <a:pt x="62" y="62"/>
                    <a:pt x="96" y="40"/>
                  </a:cubicBezTo>
                  <a:cubicBezTo>
                    <a:pt x="121" y="3"/>
                    <a:pt x="119" y="25"/>
                    <a:pt x="144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1720" y="905400"/>
              <a:ext cx="170640" cy="14400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0" y="76"/>
                  </a:moveTo>
                  <a:cubicBezTo>
                    <a:pt x="8" y="71"/>
                    <a:pt x="15" y="64"/>
                    <a:pt x="24" y="60"/>
                  </a:cubicBezTo>
                  <a:cubicBezTo>
                    <a:pt x="39" y="53"/>
                    <a:pt x="72" y="44"/>
                    <a:pt x="72" y="44"/>
                  </a:cubicBezTo>
                  <a:cubicBezTo>
                    <a:pt x="87" y="0"/>
                    <a:pt x="76" y="28"/>
                    <a:pt x="48" y="2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876920" y="1676520"/>
            <a:ext cx="3504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REAL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895480"/>
            <a:ext cx="35049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SHADOW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952880" y="990720"/>
            <a:ext cx="35053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REAL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9040" y="356760"/>
            <a:ext cx="3813120" cy="6196320"/>
            <a:chOff x="149040" y="356760"/>
            <a:chExt cx="3813120" cy="6196320"/>
          </a:xfrm>
        </p:grpSpPr>
        <p:sp>
          <p:nvSpPr>
            <p:cNvPr id="175" name=""/>
            <p:cNvSpPr/>
            <p:nvPr/>
          </p:nvSpPr>
          <p:spPr>
            <a:xfrm rot="16200000">
              <a:off x="-171360" y="677160"/>
              <a:ext cx="13431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000" spc="-1" strike="noStrike">
                  <a:solidFill>
                    <a:srgbClr val="000000"/>
                  </a:solidFill>
                  <a:latin typeface="Humanst521 BT"/>
                </a:rPr>
                <a:t>200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>
              <a:grayscl/>
              <a:lum bright="18000"/>
            </a:blip>
            <a:srcRect l="3841" t="2423" r="2996" b="2004"/>
            <a:stretch/>
          </p:blipFill>
          <p:spPr>
            <a:xfrm>
              <a:off x="285120" y="380880"/>
              <a:ext cx="367704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367280" y="4033800"/>
              <a:ext cx="101520" cy="20808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8" y="0"/>
                  </a:moveTo>
                  <a:cubicBezTo>
                    <a:pt x="29" y="19"/>
                    <a:pt x="23" y="45"/>
                    <a:pt x="0" y="60"/>
                  </a:cubicBezTo>
                  <a:cubicBezTo>
                    <a:pt x="8" y="72"/>
                    <a:pt x="24" y="92"/>
                    <a:pt x="36" y="96"/>
                  </a:cubicBezTo>
                  <a:cubicBezTo>
                    <a:pt x="44" y="107"/>
                    <a:pt x="54" y="112"/>
                    <a:pt x="60" y="12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95080" y="2592360"/>
              <a:ext cx="176400" cy="13968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20" y="70"/>
                    <a:pt x="9" y="79"/>
                    <a:pt x="28" y="51"/>
                  </a:cubicBezTo>
                  <a:cubicBezTo>
                    <a:pt x="31" y="47"/>
                    <a:pt x="36" y="39"/>
                    <a:pt x="36" y="39"/>
                  </a:cubicBezTo>
                  <a:cubicBezTo>
                    <a:pt x="46" y="0"/>
                    <a:pt x="65" y="7"/>
                    <a:pt x="104" y="7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760" y="3187800"/>
              <a:ext cx="236520" cy="36180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6"/>
                  </a:moveTo>
                  <a:cubicBezTo>
                    <a:pt x="10" y="201"/>
                    <a:pt x="12" y="168"/>
                    <a:pt x="20" y="160"/>
                  </a:cubicBezTo>
                  <a:cubicBezTo>
                    <a:pt x="38" y="142"/>
                    <a:pt x="50" y="141"/>
                    <a:pt x="64" y="120"/>
                  </a:cubicBezTo>
                  <a:cubicBezTo>
                    <a:pt x="65" y="108"/>
                    <a:pt x="64" y="95"/>
                    <a:pt x="68" y="84"/>
                  </a:cubicBezTo>
                  <a:cubicBezTo>
                    <a:pt x="69" y="82"/>
                    <a:pt x="110" y="60"/>
                    <a:pt x="116" y="52"/>
                  </a:cubicBezTo>
                  <a:cubicBezTo>
                    <a:pt x="122" y="45"/>
                    <a:pt x="129" y="32"/>
                    <a:pt x="132" y="24"/>
                  </a:cubicBezTo>
                  <a:cubicBezTo>
                    <a:pt x="135" y="16"/>
                    <a:pt x="140" y="0"/>
                    <a:pt x="140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720" y="3651120"/>
              <a:ext cx="330480" cy="95400"/>
            </a:xfrm>
            <a:custGeom>
              <a:avLst/>
              <a:gdLst/>
              <a:ahLst/>
              <a:rect l="l" t="t" r="r" b="b"/>
              <a:pathLst>
                <a:path w="196" h="57">
                  <a:moveTo>
                    <a:pt x="0" y="8"/>
                  </a:moveTo>
                  <a:cubicBezTo>
                    <a:pt x="22" y="1"/>
                    <a:pt x="45" y="0"/>
                    <a:pt x="60" y="20"/>
                  </a:cubicBezTo>
                  <a:cubicBezTo>
                    <a:pt x="66" y="28"/>
                    <a:pt x="67" y="41"/>
                    <a:pt x="76" y="44"/>
                  </a:cubicBezTo>
                  <a:cubicBezTo>
                    <a:pt x="114" y="57"/>
                    <a:pt x="156" y="52"/>
                    <a:pt x="196" y="5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4200" y="3840120"/>
              <a:ext cx="82440" cy="166680"/>
            </a:xfrm>
            <a:custGeom>
              <a:avLst/>
              <a:gdLst/>
              <a:ahLst/>
              <a:rect l="l" t="t" r="r" b="b"/>
              <a:pathLst>
                <a:path w="48" h="100">
                  <a:moveTo>
                    <a:pt x="0" y="100"/>
                  </a:moveTo>
                  <a:cubicBezTo>
                    <a:pt x="6" y="68"/>
                    <a:pt x="24" y="24"/>
                    <a:pt x="4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74200" y="4241880"/>
              <a:ext cx="88560" cy="2476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0" y="0"/>
                  </a:moveTo>
                  <a:lnTo>
                    <a:pt x="36" y="56"/>
                  </a:lnTo>
                  <a:cubicBezTo>
                    <a:pt x="36" y="56"/>
                    <a:pt x="48" y="92"/>
                    <a:pt x="48" y="92"/>
                  </a:cubicBezTo>
                  <a:cubicBezTo>
                    <a:pt x="49" y="96"/>
                    <a:pt x="52" y="104"/>
                    <a:pt x="52" y="104"/>
                  </a:cubicBezTo>
                  <a:cubicBezTo>
                    <a:pt x="47" y="120"/>
                    <a:pt x="32" y="131"/>
                    <a:pt x="32" y="1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2280" y="5048280"/>
              <a:ext cx="297720" cy="1120680"/>
            </a:xfrm>
            <a:custGeom>
              <a:avLst/>
              <a:gdLst/>
              <a:ahLst/>
              <a:rect l="l" t="t" r="r" b="b"/>
              <a:pathLst>
                <a:path w="176" h="668">
                  <a:moveTo>
                    <a:pt x="0" y="0"/>
                  </a:moveTo>
                  <a:cubicBezTo>
                    <a:pt x="5" y="8"/>
                    <a:pt x="11" y="16"/>
                    <a:pt x="16" y="24"/>
                  </a:cubicBezTo>
                  <a:cubicBezTo>
                    <a:pt x="21" y="32"/>
                    <a:pt x="40" y="40"/>
                    <a:pt x="40" y="40"/>
                  </a:cubicBezTo>
                  <a:cubicBezTo>
                    <a:pt x="56" y="64"/>
                    <a:pt x="72" y="85"/>
                    <a:pt x="84" y="112"/>
                  </a:cubicBezTo>
                  <a:cubicBezTo>
                    <a:pt x="97" y="142"/>
                    <a:pt x="102" y="177"/>
                    <a:pt x="112" y="208"/>
                  </a:cubicBezTo>
                  <a:cubicBezTo>
                    <a:pt x="128" y="257"/>
                    <a:pt x="147" y="304"/>
                    <a:pt x="156" y="356"/>
                  </a:cubicBezTo>
                  <a:cubicBezTo>
                    <a:pt x="162" y="463"/>
                    <a:pt x="176" y="561"/>
                    <a:pt x="176" y="66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80040" y="4172040"/>
              <a:ext cx="375480" cy="102960"/>
            </a:xfrm>
            <a:custGeom>
              <a:avLst/>
              <a:gdLst/>
              <a:ahLst/>
              <a:rect l="l" t="t" r="r" b="b"/>
              <a:pathLst>
                <a:path w="222" h="61">
                  <a:moveTo>
                    <a:pt x="0" y="48"/>
                  </a:moveTo>
                  <a:cubicBezTo>
                    <a:pt x="28" y="51"/>
                    <a:pt x="27" y="53"/>
                    <a:pt x="48" y="60"/>
                  </a:cubicBezTo>
                  <a:cubicBezTo>
                    <a:pt x="60" y="59"/>
                    <a:pt x="74" y="61"/>
                    <a:pt x="84" y="54"/>
                  </a:cubicBezTo>
                  <a:cubicBezTo>
                    <a:pt x="100" y="44"/>
                    <a:pt x="87" y="41"/>
                    <a:pt x="111" y="33"/>
                  </a:cubicBezTo>
                  <a:cubicBezTo>
                    <a:pt x="129" y="27"/>
                    <a:pt x="147" y="23"/>
                    <a:pt x="165" y="18"/>
                  </a:cubicBezTo>
                  <a:cubicBezTo>
                    <a:pt x="181" y="14"/>
                    <a:pt x="210" y="12"/>
                    <a:pt x="222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1680" y="642960"/>
              <a:ext cx="148680" cy="569880"/>
            </a:xfrm>
            <a:custGeom>
              <a:avLst/>
              <a:gdLst/>
              <a:ahLst/>
              <a:rect l="l" t="t" r="r" b="b"/>
              <a:pathLst>
                <a:path w="88" h="339">
                  <a:moveTo>
                    <a:pt x="88" y="339"/>
                  </a:moveTo>
                  <a:cubicBezTo>
                    <a:pt x="84" y="325"/>
                    <a:pt x="80" y="319"/>
                    <a:pt x="70" y="309"/>
                  </a:cubicBezTo>
                  <a:cubicBezTo>
                    <a:pt x="64" y="290"/>
                    <a:pt x="58" y="271"/>
                    <a:pt x="52" y="252"/>
                  </a:cubicBezTo>
                  <a:cubicBezTo>
                    <a:pt x="51" y="223"/>
                    <a:pt x="53" y="194"/>
                    <a:pt x="49" y="165"/>
                  </a:cubicBezTo>
                  <a:cubicBezTo>
                    <a:pt x="45" y="137"/>
                    <a:pt x="2" y="113"/>
                    <a:pt x="1" y="84"/>
                  </a:cubicBezTo>
                  <a:cubicBezTo>
                    <a:pt x="0" y="56"/>
                    <a:pt x="1" y="28"/>
                    <a:pt x="1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07920" y="1273320"/>
              <a:ext cx="28800" cy="6480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9"/>
                  </a:moveTo>
                  <a:cubicBezTo>
                    <a:pt x="17" y="35"/>
                    <a:pt x="18" y="17"/>
                    <a:pt x="1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9040" y="4240080"/>
              <a:ext cx="521280" cy="262080"/>
            </a:xfrm>
            <a:custGeom>
              <a:avLst/>
              <a:gdLst/>
              <a:ahLst/>
              <a:rect l="l" t="t" r="r" b="b"/>
              <a:pathLst>
                <a:path w="308" h="157">
                  <a:moveTo>
                    <a:pt x="0" y="113"/>
                  </a:moveTo>
                  <a:cubicBezTo>
                    <a:pt x="33" y="119"/>
                    <a:pt x="20" y="110"/>
                    <a:pt x="40" y="141"/>
                  </a:cubicBezTo>
                  <a:cubicBezTo>
                    <a:pt x="40" y="141"/>
                    <a:pt x="70" y="151"/>
                    <a:pt x="76" y="153"/>
                  </a:cubicBezTo>
                  <a:cubicBezTo>
                    <a:pt x="80" y="154"/>
                    <a:pt x="88" y="157"/>
                    <a:pt x="88" y="157"/>
                  </a:cubicBezTo>
                  <a:cubicBezTo>
                    <a:pt x="112" y="154"/>
                    <a:pt x="133" y="149"/>
                    <a:pt x="156" y="141"/>
                  </a:cubicBezTo>
                  <a:cubicBezTo>
                    <a:pt x="163" y="134"/>
                    <a:pt x="168" y="124"/>
                    <a:pt x="176" y="117"/>
                  </a:cubicBezTo>
                  <a:cubicBezTo>
                    <a:pt x="183" y="111"/>
                    <a:pt x="200" y="101"/>
                    <a:pt x="200" y="101"/>
                  </a:cubicBezTo>
                  <a:cubicBezTo>
                    <a:pt x="209" y="87"/>
                    <a:pt x="216" y="82"/>
                    <a:pt x="232" y="77"/>
                  </a:cubicBezTo>
                  <a:cubicBezTo>
                    <a:pt x="250" y="49"/>
                    <a:pt x="239" y="56"/>
                    <a:pt x="260" y="49"/>
                  </a:cubicBezTo>
                  <a:cubicBezTo>
                    <a:pt x="265" y="34"/>
                    <a:pt x="281" y="18"/>
                    <a:pt x="296" y="13"/>
                  </a:cubicBezTo>
                  <a:cubicBezTo>
                    <a:pt x="305" y="0"/>
                    <a:pt x="299" y="1"/>
                    <a:pt x="308" y="1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4440" y="4160880"/>
              <a:ext cx="155160" cy="2052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0"/>
                  </a:moveTo>
                  <a:cubicBezTo>
                    <a:pt x="15" y="1"/>
                    <a:pt x="29" y="1"/>
                    <a:pt x="44" y="4"/>
                  </a:cubicBezTo>
                  <a:cubicBezTo>
                    <a:pt x="92" y="12"/>
                    <a:pt x="56" y="12"/>
                    <a:pt x="72" y="1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4360" y="4549680"/>
              <a:ext cx="174600" cy="490680"/>
            </a:xfrm>
            <a:custGeom>
              <a:avLst/>
              <a:gdLst/>
              <a:ahLst/>
              <a:rect l="l" t="t" r="r" b="b"/>
              <a:pathLst>
                <a:path w="104" h="292">
                  <a:moveTo>
                    <a:pt x="0" y="0"/>
                  </a:moveTo>
                  <a:cubicBezTo>
                    <a:pt x="22" y="7"/>
                    <a:pt x="18" y="24"/>
                    <a:pt x="32" y="40"/>
                  </a:cubicBezTo>
                  <a:cubicBezTo>
                    <a:pt x="40" y="48"/>
                    <a:pt x="56" y="64"/>
                    <a:pt x="56" y="64"/>
                  </a:cubicBezTo>
                  <a:cubicBezTo>
                    <a:pt x="62" y="83"/>
                    <a:pt x="66" y="101"/>
                    <a:pt x="72" y="120"/>
                  </a:cubicBezTo>
                  <a:cubicBezTo>
                    <a:pt x="75" y="128"/>
                    <a:pt x="77" y="136"/>
                    <a:pt x="80" y="144"/>
                  </a:cubicBezTo>
                  <a:cubicBezTo>
                    <a:pt x="81" y="148"/>
                    <a:pt x="84" y="156"/>
                    <a:pt x="84" y="156"/>
                  </a:cubicBezTo>
                  <a:cubicBezTo>
                    <a:pt x="78" y="184"/>
                    <a:pt x="82" y="170"/>
                    <a:pt x="72" y="200"/>
                  </a:cubicBezTo>
                  <a:cubicBezTo>
                    <a:pt x="71" y="204"/>
                    <a:pt x="68" y="212"/>
                    <a:pt x="68" y="212"/>
                  </a:cubicBezTo>
                  <a:cubicBezTo>
                    <a:pt x="69" y="219"/>
                    <a:pt x="69" y="248"/>
                    <a:pt x="76" y="260"/>
                  </a:cubicBezTo>
                  <a:cubicBezTo>
                    <a:pt x="81" y="268"/>
                    <a:pt x="84" y="279"/>
                    <a:pt x="92" y="284"/>
                  </a:cubicBezTo>
                  <a:cubicBezTo>
                    <a:pt x="96" y="287"/>
                    <a:pt x="104" y="292"/>
                    <a:pt x="104" y="29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56320" y="4322880"/>
              <a:ext cx="163800" cy="1746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0" y="0"/>
                  </a:moveTo>
                  <a:cubicBezTo>
                    <a:pt x="29" y="10"/>
                    <a:pt x="16" y="6"/>
                    <a:pt x="40" y="12"/>
                  </a:cubicBezTo>
                  <a:cubicBezTo>
                    <a:pt x="53" y="32"/>
                    <a:pt x="60" y="43"/>
                    <a:pt x="80" y="56"/>
                  </a:cubicBezTo>
                  <a:cubicBezTo>
                    <a:pt x="90" y="71"/>
                    <a:pt x="88" y="65"/>
                    <a:pt x="92" y="84"/>
                  </a:cubicBezTo>
                  <a:cubicBezTo>
                    <a:pt x="93" y="91"/>
                    <a:pt x="96" y="104"/>
                    <a:pt x="96" y="10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3840" y="3757680"/>
              <a:ext cx="59760" cy="11592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36" y="0"/>
                  </a:moveTo>
                  <a:cubicBezTo>
                    <a:pt x="33" y="12"/>
                    <a:pt x="35" y="26"/>
                    <a:pt x="28" y="36"/>
                  </a:cubicBezTo>
                  <a:cubicBezTo>
                    <a:pt x="22" y="46"/>
                    <a:pt x="9" y="50"/>
                    <a:pt x="4" y="60"/>
                  </a:cubicBezTo>
                  <a:cubicBezTo>
                    <a:pt x="3" y="63"/>
                    <a:pt x="1" y="65"/>
                    <a:pt x="0" y="6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760" y="4437000"/>
              <a:ext cx="46800" cy="7956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48"/>
                  </a:moveTo>
                  <a:cubicBezTo>
                    <a:pt x="3" y="44"/>
                    <a:pt x="6" y="40"/>
                    <a:pt x="8" y="36"/>
                  </a:cubicBezTo>
                  <a:cubicBezTo>
                    <a:pt x="10" y="32"/>
                    <a:pt x="10" y="28"/>
                    <a:pt x="12" y="24"/>
                  </a:cubicBezTo>
                  <a:cubicBezTo>
                    <a:pt x="17" y="16"/>
                    <a:pt x="28" y="0"/>
                    <a:pt x="2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62280" y="4267080"/>
              <a:ext cx="46800" cy="144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0"/>
                  </a:moveTo>
                  <a:cubicBezTo>
                    <a:pt x="5" y="1"/>
                    <a:pt x="11" y="2"/>
                    <a:pt x="16" y="4"/>
                  </a:cubicBezTo>
                  <a:cubicBezTo>
                    <a:pt x="20" y="5"/>
                    <a:pt x="28" y="8"/>
                    <a:pt x="28" y="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1222200"/>
              <a:ext cx="56520" cy="14148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13" y="84"/>
                  </a:moveTo>
                  <a:cubicBezTo>
                    <a:pt x="8" y="61"/>
                    <a:pt x="0" y="33"/>
                    <a:pt x="22" y="18"/>
                  </a:cubicBezTo>
                  <a:cubicBezTo>
                    <a:pt x="26" y="12"/>
                    <a:pt x="34" y="0"/>
                    <a:pt x="3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0280" y="1498680"/>
              <a:ext cx="258840" cy="114120"/>
            </a:xfrm>
            <a:custGeom>
              <a:avLst/>
              <a:gdLst/>
              <a:ahLst/>
              <a:rect l="l" t="t" r="r" b="b"/>
              <a:pathLst>
                <a:path w="104" h="42">
                  <a:moveTo>
                    <a:pt x="0" y="42"/>
                  </a:moveTo>
                  <a:cubicBezTo>
                    <a:pt x="4" y="38"/>
                    <a:pt x="7" y="33"/>
                    <a:pt x="12" y="30"/>
                  </a:cubicBezTo>
                  <a:cubicBezTo>
                    <a:pt x="19" y="26"/>
                    <a:pt x="36" y="22"/>
                    <a:pt x="36" y="22"/>
                  </a:cubicBezTo>
                  <a:cubicBezTo>
                    <a:pt x="66" y="32"/>
                    <a:pt x="52" y="32"/>
                    <a:pt x="80" y="26"/>
                  </a:cubicBezTo>
                  <a:cubicBezTo>
                    <a:pt x="97" y="0"/>
                    <a:pt x="86" y="2"/>
                    <a:pt x="104" y="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8400" y="2341440"/>
              <a:ext cx="87120" cy="795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0" y="48"/>
                  </a:moveTo>
                  <a:cubicBezTo>
                    <a:pt x="18" y="36"/>
                    <a:pt x="27" y="23"/>
                    <a:pt x="44" y="12"/>
                  </a:cubicBezTo>
                  <a:cubicBezTo>
                    <a:pt x="47" y="8"/>
                    <a:pt x="52" y="0"/>
                    <a:pt x="52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0240" y="2736720"/>
              <a:ext cx="114840" cy="3024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2"/>
                  </a:moveTo>
                  <a:cubicBezTo>
                    <a:pt x="23" y="18"/>
                    <a:pt x="15" y="18"/>
                    <a:pt x="44" y="12"/>
                  </a:cubicBezTo>
                  <a:cubicBezTo>
                    <a:pt x="53" y="10"/>
                    <a:pt x="68" y="0"/>
                    <a:pt x="68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3960" y="4429080"/>
              <a:ext cx="579960" cy="93600"/>
            </a:xfrm>
            <a:custGeom>
              <a:avLst/>
              <a:gdLst/>
              <a:ahLst/>
              <a:rect l="l" t="t" r="r" b="b"/>
              <a:pathLst>
                <a:path w="344" h="56">
                  <a:moveTo>
                    <a:pt x="0" y="56"/>
                  </a:moveTo>
                  <a:cubicBezTo>
                    <a:pt x="40" y="51"/>
                    <a:pt x="78" y="54"/>
                    <a:pt x="120" y="52"/>
                  </a:cubicBezTo>
                  <a:cubicBezTo>
                    <a:pt x="147" y="43"/>
                    <a:pt x="167" y="32"/>
                    <a:pt x="196" y="28"/>
                  </a:cubicBezTo>
                  <a:cubicBezTo>
                    <a:pt x="231" y="16"/>
                    <a:pt x="242" y="21"/>
                    <a:pt x="288" y="24"/>
                  </a:cubicBezTo>
                  <a:cubicBezTo>
                    <a:pt x="314" y="33"/>
                    <a:pt x="327" y="17"/>
                    <a:pt x="344" y="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05840" y="3873600"/>
              <a:ext cx="29160" cy="12528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18" y="76"/>
                  </a:moveTo>
                  <a:cubicBezTo>
                    <a:pt x="15" y="55"/>
                    <a:pt x="13" y="45"/>
                    <a:pt x="2" y="28"/>
                  </a:cubicBezTo>
                  <a:cubicBezTo>
                    <a:pt x="6" y="2"/>
                    <a:pt x="0" y="10"/>
                    <a:pt x="10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870120" y="1433520"/>
              <a:ext cx="1019880" cy="3230280"/>
              <a:chOff x="870120" y="1433520"/>
              <a:chExt cx="1019880" cy="3230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164600" y="1630800"/>
                <a:ext cx="582840" cy="2762640"/>
              </a:xfrm>
              <a:custGeom>
                <a:avLst/>
                <a:gdLst/>
                <a:ahLst/>
                <a:rect l="l" t="t" r="r" b="b"/>
                <a:pathLst>
                  <a:path w="862" h="4118">
                    <a:moveTo>
                      <a:pt x="742" y="0"/>
                    </a:moveTo>
                    <a:cubicBezTo>
                      <a:pt x="743" y="23"/>
                      <a:pt x="751" y="89"/>
                      <a:pt x="751" y="139"/>
                    </a:cubicBezTo>
                    <a:cubicBezTo>
                      <a:pt x="751" y="189"/>
                      <a:pt x="742" y="248"/>
                      <a:pt x="742" y="302"/>
                    </a:cubicBezTo>
                    <a:cubicBezTo>
                      <a:pt x="742" y="356"/>
                      <a:pt x="747" y="396"/>
                      <a:pt x="754" y="466"/>
                    </a:cubicBezTo>
                    <a:cubicBezTo>
                      <a:pt x="761" y="536"/>
                      <a:pt x="774" y="655"/>
                      <a:pt x="783" y="722"/>
                    </a:cubicBezTo>
                    <a:cubicBezTo>
                      <a:pt x="792" y="789"/>
                      <a:pt x="808" y="831"/>
                      <a:pt x="811" y="871"/>
                    </a:cubicBezTo>
                    <a:cubicBezTo>
                      <a:pt x="814" y="911"/>
                      <a:pt x="808" y="933"/>
                      <a:pt x="799" y="965"/>
                    </a:cubicBezTo>
                    <a:cubicBezTo>
                      <a:pt x="790" y="997"/>
                      <a:pt x="746" y="1009"/>
                      <a:pt x="754" y="1066"/>
                    </a:cubicBezTo>
                    <a:cubicBezTo>
                      <a:pt x="762" y="1123"/>
                      <a:pt x="828" y="1221"/>
                      <a:pt x="845" y="1306"/>
                    </a:cubicBezTo>
                    <a:cubicBezTo>
                      <a:pt x="862" y="1391"/>
                      <a:pt x="858" y="1494"/>
                      <a:pt x="857" y="1574"/>
                    </a:cubicBezTo>
                    <a:cubicBezTo>
                      <a:pt x="856" y="1654"/>
                      <a:pt x="852" y="1740"/>
                      <a:pt x="840" y="1788"/>
                    </a:cubicBezTo>
                    <a:cubicBezTo>
                      <a:pt x="828" y="1836"/>
                      <a:pt x="798" y="1842"/>
                      <a:pt x="787" y="1865"/>
                    </a:cubicBezTo>
                    <a:cubicBezTo>
                      <a:pt x="776" y="1888"/>
                      <a:pt x="793" y="1896"/>
                      <a:pt x="775" y="1927"/>
                    </a:cubicBezTo>
                    <a:cubicBezTo>
                      <a:pt x="757" y="1958"/>
                      <a:pt x="706" y="2021"/>
                      <a:pt x="679" y="2052"/>
                    </a:cubicBezTo>
                    <a:cubicBezTo>
                      <a:pt x="652" y="2083"/>
                      <a:pt x="632" y="2081"/>
                      <a:pt x="615" y="2112"/>
                    </a:cubicBezTo>
                    <a:cubicBezTo>
                      <a:pt x="598" y="2143"/>
                      <a:pt x="588" y="2207"/>
                      <a:pt x="576" y="2239"/>
                    </a:cubicBezTo>
                    <a:cubicBezTo>
                      <a:pt x="564" y="2271"/>
                      <a:pt x="547" y="2279"/>
                      <a:pt x="540" y="2302"/>
                    </a:cubicBezTo>
                    <a:cubicBezTo>
                      <a:pt x="533" y="2325"/>
                      <a:pt x="540" y="2353"/>
                      <a:pt x="533" y="2378"/>
                    </a:cubicBezTo>
                    <a:cubicBezTo>
                      <a:pt x="526" y="2403"/>
                      <a:pt x="491" y="2416"/>
                      <a:pt x="499" y="2450"/>
                    </a:cubicBezTo>
                    <a:cubicBezTo>
                      <a:pt x="507" y="2484"/>
                      <a:pt x="574" y="2546"/>
                      <a:pt x="583" y="2582"/>
                    </a:cubicBezTo>
                    <a:cubicBezTo>
                      <a:pt x="592" y="2618"/>
                      <a:pt x="543" y="2632"/>
                      <a:pt x="550" y="2666"/>
                    </a:cubicBezTo>
                    <a:cubicBezTo>
                      <a:pt x="557" y="2700"/>
                      <a:pt x="617" y="2757"/>
                      <a:pt x="624" y="2789"/>
                    </a:cubicBezTo>
                    <a:lnTo>
                      <a:pt x="591" y="2861"/>
                    </a:lnTo>
                    <a:lnTo>
                      <a:pt x="648" y="2938"/>
                    </a:lnTo>
                    <a:lnTo>
                      <a:pt x="651" y="3115"/>
                    </a:lnTo>
                    <a:lnTo>
                      <a:pt x="569" y="3264"/>
                    </a:lnTo>
                    <a:lnTo>
                      <a:pt x="521" y="3293"/>
                    </a:lnTo>
                    <a:lnTo>
                      <a:pt x="451" y="3386"/>
                    </a:lnTo>
                    <a:lnTo>
                      <a:pt x="245" y="3552"/>
                    </a:lnTo>
                    <a:lnTo>
                      <a:pt x="231" y="3660"/>
                    </a:lnTo>
                    <a:lnTo>
                      <a:pt x="197" y="3754"/>
                    </a:lnTo>
                    <a:lnTo>
                      <a:pt x="94" y="3912"/>
                    </a:lnTo>
                    <a:lnTo>
                      <a:pt x="24" y="4001"/>
                    </a:lnTo>
                    <a:lnTo>
                      <a:pt x="0" y="4118"/>
                    </a:ln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0120" y="4428720"/>
                <a:ext cx="509760" cy="235080"/>
              </a:xfrm>
              <a:custGeom>
                <a:avLst/>
                <a:gdLst/>
                <a:ahLst/>
                <a:rect l="l" t="t" r="r" b="b"/>
                <a:pathLst>
                  <a:path w="302" h="140">
                    <a:moveTo>
                      <a:pt x="0" y="2"/>
                    </a:moveTo>
                    <a:cubicBezTo>
                      <a:pt x="40" y="0"/>
                      <a:pt x="62" y="3"/>
                      <a:pt x="99" y="8"/>
                    </a:cubicBezTo>
                    <a:cubicBezTo>
                      <a:pt x="106" y="7"/>
                      <a:pt x="113" y="4"/>
                      <a:pt x="120" y="5"/>
                    </a:cubicBezTo>
                    <a:cubicBezTo>
                      <a:pt x="126" y="5"/>
                      <a:pt x="138" y="11"/>
                      <a:pt x="138" y="11"/>
                    </a:cubicBezTo>
                    <a:cubicBezTo>
                      <a:pt x="139" y="21"/>
                      <a:pt x="136" y="32"/>
                      <a:pt x="141" y="41"/>
                    </a:cubicBezTo>
                    <a:cubicBezTo>
                      <a:pt x="144" y="46"/>
                      <a:pt x="159" y="47"/>
                      <a:pt x="159" y="47"/>
                    </a:cubicBezTo>
                    <a:cubicBezTo>
                      <a:pt x="165" y="81"/>
                      <a:pt x="175" y="76"/>
                      <a:pt x="204" y="86"/>
                    </a:cubicBezTo>
                    <a:cubicBezTo>
                      <a:pt x="213" y="89"/>
                      <a:pt x="231" y="95"/>
                      <a:pt x="231" y="95"/>
                    </a:cubicBezTo>
                    <a:cubicBezTo>
                      <a:pt x="255" y="93"/>
                      <a:pt x="279" y="87"/>
                      <a:pt x="300" y="101"/>
                    </a:cubicBezTo>
                    <a:cubicBezTo>
                      <a:pt x="302" y="109"/>
                      <a:pt x="299" y="140"/>
                      <a:pt x="288" y="14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44000" y="4169520"/>
                <a:ext cx="111600" cy="21204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0"/>
                    </a:moveTo>
                    <a:cubicBezTo>
                      <a:pt x="21" y="34"/>
                      <a:pt x="0" y="97"/>
                      <a:pt x="41" y="111"/>
                    </a:cubicBezTo>
                    <a:cubicBezTo>
                      <a:pt x="55" y="132"/>
                      <a:pt x="43" y="164"/>
                      <a:pt x="62" y="183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74720" y="1433520"/>
                <a:ext cx="65880" cy="1616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cubicBezTo>
                      <a:pt x="3" y="83"/>
                      <a:pt x="3" y="69"/>
                      <a:pt x="8" y="56"/>
                    </a:cubicBezTo>
                    <a:cubicBezTo>
                      <a:pt x="16" y="37"/>
                      <a:pt x="39" y="22"/>
                      <a:pt x="28" y="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7520" y="1613880"/>
                <a:ext cx="222480" cy="6156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0" y="0"/>
                    </a:moveTo>
                    <a:cubicBezTo>
                      <a:pt x="44" y="4"/>
                      <a:pt x="54" y="13"/>
                      <a:pt x="88" y="36"/>
                    </a:cubicBezTo>
                    <a:cubicBezTo>
                      <a:pt x="114" y="29"/>
                      <a:pt x="112" y="18"/>
                      <a:pt x="132" y="8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090440" y="3562200"/>
              <a:ext cx="40320" cy="182880"/>
            </a:xfrm>
            <a:custGeom>
              <a:avLst/>
              <a:gdLst/>
              <a:ahLst/>
              <a:rect l="l" t="t" r="r" b="b"/>
              <a:pathLst>
                <a:path w="24" h="108">
                  <a:moveTo>
                    <a:pt x="0" y="108"/>
                  </a:moveTo>
                  <a:cubicBezTo>
                    <a:pt x="12" y="62"/>
                    <a:pt x="7" y="87"/>
                    <a:pt x="12" y="32"/>
                  </a:cubicBezTo>
                  <a:cubicBezTo>
                    <a:pt x="9" y="28"/>
                    <a:pt x="4" y="25"/>
                    <a:pt x="4" y="20"/>
                  </a:cubicBezTo>
                  <a:cubicBezTo>
                    <a:pt x="4" y="1"/>
                    <a:pt x="24" y="13"/>
                    <a:pt x="2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78480" y="4183200"/>
              <a:ext cx="217080" cy="226800"/>
            </a:xfrm>
            <a:custGeom>
              <a:avLst/>
              <a:gdLst/>
              <a:ahLst/>
              <a:rect l="l" t="t" r="r" b="b"/>
              <a:pathLst>
                <a:path w="322" h="341">
                  <a:moveTo>
                    <a:pt x="0" y="341"/>
                  </a:moveTo>
                  <a:cubicBezTo>
                    <a:pt x="1" y="300"/>
                    <a:pt x="2" y="260"/>
                    <a:pt x="10" y="233"/>
                  </a:cubicBezTo>
                  <a:cubicBezTo>
                    <a:pt x="18" y="206"/>
                    <a:pt x="36" y="192"/>
                    <a:pt x="51" y="178"/>
                  </a:cubicBezTo>
                  <a:cubicBezTo>
                    <a:pt x="66" y="164"/>
                    <a:pt x="89" y="164"/>
                    <a:pt x="103" y="149"/>
                  </a:cubicBezTo>
                  <a:cubicBezTo>
                    <a:pt x="117" y="134"/>
                    <a:pt x="121" y="107"/>
                    <a:pt x="135" y="91"/>
                  </a:cubicBezTo>
                  <a:cubicBezTo>
                    <a:pt x="149" y="75"/>
                    <a:pt x="177" y="65"/>
                    <a:pt x="187" y="53"/>
                  </a:cubicBezTo>
                  <a:cubicBezTo>
                    <a:pt x="197" y="41"/>
                    <a:pt x="175" y="28"/>
                    <a:pt x="197" y="19"/>
                  </a:cubicBezTo>
                  <a:cubicBezTo>
                    <a:pt x="219" y="10"/>
                    <a:pt x="270" y="5"/>
                    <a:pt x="322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1160" y="1287360"/>
              <a:ext cx="195840" cy="8100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48"/>
                  </a:moveTo>
                  <a:cubicBezTo>
                    <a:pt x="46" y="40"/>
                    <a:pt x="20" y="33"/>
                    <a:pt x="80" y="28"/>
                  </a:cubicBezTo>
                  <a:cubicBezTo>
                    <a:pt x="88" y="23"/>
                    <a:pt x="96" y="17"/>
                    <a:pt x="104" y="12"/>
                  </a:cubicBezTo>
                  <a:cubicBezTo>
                    <a:pt x="108" y="10"/>
                    <a:pt x="108" y="0"/>
                    <a:pt x="108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35360" y="4013280"/>
              <a:ext cx="11160" cy="96840"/>
            </a:xfrm>
            <a:custGeom>
              <a:avLst/>
              <a:gdLst/>
              <a:ahLst/>
              <a:rect l="l" t="t" r="r" b="b"/>
              <a:pathLst>
                <a:path w="6" h="58">
                  <a:moveTo>
                    <a:pt x="0" y="58"/>
                  </a:moveTo>
                  <a:cubicBezTo>
                    <a:pt x="6" y="26"/>
                    <a:pt x="4" y="45"/>
                    <a:pt x="4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42640" y="2408400"/>
              <a:ext cx="88920" cy="727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2" y="0"/>
                  </a:moveTo>
                  <a:cubicBezTo>
                    <a:pt x="34" y="12"/>
                    <a:pt x="15" y="29"/>
                    <a:pt x="0" y="44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56320" y="4048200"/>
              <a:ext cx="95760" cy="10620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64"/>
                  </a:moveTo>
                  <a:cubicBezTo>
                    <a:pt x="5" y="26"/>
                    <a:pt x="13" y="0"/>
                    <a:pt x="5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2520" y="3162240"/>
              <a:ext cx="110160" cy="10008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49" y="19"/>
                  </a:moveTo>
                  <a:cubicBezTo>
                    <a:pt x="20" y="9"/>
                    <a:pt x="45" y="0"/>
                    <a:pt x="9" y="7"/>
                  </a:cubicBezTo>
                  <a:cubicBezTo>
                    <a:pt x="0" y="35"/>
                    <a:pt x="7" y="50"/>
                    <a:pt x="33" y="59"/>
                  </a:cubicBezTo>
                  <a:cubicBezTo>
                    <a:pt x="41" y="58"/>
                    <a:pt x="50" y="59"/>
                    <a:pt x="57" y="55"/>
                  </a:cubicBezTo>
                  <a:cubicBezTo>
                    <a:pt x="61" y="53"/>
                    <a:pt x="65" y="43"/>
                    <a:pt x="65" y="43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88600" y="1193760"/>
              <a:ext cx="425880" cy="93600"/>
            </a:xfrm>
            <a:custGeom>
              <a:avLst/>
              <a:gdLst/>
              <a:ahLst/>
              <a:rect l="l" t="t" r="r" b="b"/>
              <a:pathLst>
                <a:path w="252" h="56">
                  <a:moveTo>
                    <a:pt x="0" y="28"/>
                  </a:moveTo>
                  <a:cubicBezTo>
                    <a:pt x="36" y="23"/>
                    <a:pt x="60" y="11"/>
                    <a:pt x="92" y="0"/>
                  </a:cubicBezTo>
                  <a:cubicBezTo>
                    <a:pt x="125" y="5"/>
                    <a:pt x="152" y="17"/>
                    <a:pt x="180" y="36"/>
                  </a:cubicBezTo>
                  <a:cubicBezTo>
                    <a:pt x="187" y="41"/>
                    <a:pt x="196" y="44"/>
                    <a:pt x="204" y="48"/>
                  </a:cubicBezTo>
                  <a:cubicBezTo>
                    <a:pt x="212" y="51"/>
                    <a:pt x="228" y="56"/>
                    <a:pt x="228" y="56"/>
                  </a:cubicBezTo>
                  <a:cubicBezTo>
                    <a:pt x="247" y="51"/>
                    <a:pt x="239" y="54"/>
                    <a:pt x="252" y="48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7120" y="3997440"/>
              <a:ext cx="276840" cy="39348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0" y="0"/>
                  </a:moveTo>
                  <a:cubicBezTo>
                    <a:pt x="31" y="10"/>
                    <a:pt x="59" y="26"/>
                    <a:pt x="90" y="36"/>
                  </a:cubicBezTo>
                  <a:cubicBezTo>
                    <a:pt x="102" y="40"/>
                    <a:pt x="114" y="44"/>
                    <a:pt x="126" y="48"/>
                  </a:cubicBezTo>
                  <a:cubicBezTo>
                    <a:pt x="132" y="50"/>
                    <a:pt x="144" y="54"/>
                    <a:pt x="144" y="54"/>
                  </a:cubicBezTo>
                  <a:cubicBezTo>
                    <a:pt x="150" y="60"/>
                    <a:pt x="160" y="64"/>
                    <a:pt x="162" y="72"/>
                  </a:cubicBezTo>
                  <a:cubicBezTo>
                    <a:pt x="164" y="82"/>
                    <a:pt x="157" y="92"/>
                    <a:pt x="156" y="102"/>
                  </a:cubicBezTo>
                  <a:cubicBezTo>
                    <a:pt x="153" y="126"/>
                    <a:pt x="154" y="150"/>
                    <a:pt x="150" y="174"/>
                  </a:cubicBezTo>
                  <a:cubicBezTo>
                    <a:pt x="147" y="194"/>
                    <a:pt x="132" y="213"/>
                    <a:pt x="132" y="234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4249800"/>
              <a:ext cx="168480" cy="11124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15" y="66"/>
                  </a:moveTo>
                  <a:cubicBezTo>
                    <a:pt x="9" y="49"/>
                    <a:pt x="0" y="29"/>
                    <a:pt x="15" y="12"/>
                  </a:cubicBezTo>
                  <a:cubicBezTo>
                    <a:pt x="23" y="2"/>
                    <a:pt x="51" y="0"/>
                    <a:pt x="51" y="0"/>
                  </a:cubicBezTo>
                  <a:cubicBezTo>
                    <a:pt x="65" y="4"/>
                    <a:pt x="84" y="12"/>
                    <a:pt x="99" y="1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5680" y="1257480"/>
              <a:ext cx="55080" cy="236520"/>
            </a:xfrm>
            <a:custGeom>
              <a:avLst/>
              <a:gdLst/>
              <a:ahLst/>
              <a:rect l="l" t="t" r="r" b="b"/>
              <a:pathLst>
                <a:path w="79" h="351">
                  <a:moveTo>
                    <a:pt x="0" y="0"/>
                  </a:moveTo>
                  <a:cubicBezTo>
                    <a:pt x="15" y="19"/>
                    <a:pt x="31" y="39"/>
                    <a:pt x="43" y="89"/>
                  </a:cubicBezTo>
                  <a:cubicBezTo>
                    <a:pt x="55" y="139"/>
                    <a:pt x="63" y="254"/>
                    <a:pt x="69" y="298"/>
                  </a:cubicBezTo>
                  <a:lnTo>
                    <a:pt x="79" y="351"/>
                  </a:ln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2240" y="2408400"/>
              <a:ext cx="147600" cy="725400"/>
            </a:xfrm>
            <a:custGeom>
              <a:avLst/>
              <a:gdLst/>
              <a:ahLst/>
              <a:rect l="l" t="t" r="r" b="b"/>
              <a:pathLst>
                <a:path w="86" h="432">
                  <a:moveTo>
                    <a:pt x="14" y="432"/>
                  </a:moveTo>
                  <a:cubicBezTo>
                    <a:pt x="19" y="410"/>
                    <a:pt x="31" y="390"/>
                    <a:pt x="38" y="368"/>
                  </a:cubicBezTo>
                  <a:cubicBezTo>
                    <a:pt x="41" y="360"/>
                    <a:pt x="43" y="352"/>
                    <a:pt x="46" y="344"/>
                  </a:cubicBezTo>
                  <a:cubicBezTo>
                    <a:pt x="47" y="340"/>
                    <a:pt x="50" y="332"/>
                    <a:pt x="50" y="332"/>
                  </a:cubicBezTo>
                  <a:cubicBezTo>
                    <a:pt x="43" y="310"/>
                    <a:pt x="27" y="291"/>
                    <a:pt x="14" y="272"/>
                  </a:cubicBezTo>
                  <a:cubicBezTo>
                    <a:pt x="9" y="265"/>
                    <a:pt x="9" y="256"/>
                    <a:pt x="6" y="248"/>
                  </a:cubicBezTo>
                  <a:cubicBezTo>
                    <a:pt x="5" y="244"/>
                    <a:pt x="2" y="236"/>
                    <a:pt x="2" y="236"/>
                  </a:cubicBezTo>
                  <a:cubicBezTo>
                    <a:pt x="5" y="208"/>
                    <a:pt x="0" y="195"/>
                    <a:pt x="22" y="180"/>
                  </a:cubicBezTo>
                  <a:cubicBezTo>
                    <a:pt x="30" y="157"/>
                    <a:pt x="37" y="137"/>
                    <a:pt x="54" y="120"/>
                  </a:cubicBezTo>
                  <a:cubicBezTo>
                    <a:pt x="65" y="87"/>
                    <a:pt x="53" y="125"/>
                    <a:pt x="62" y="52"/>
                  </a:cubicBezTo>
                  <a:cubicBezTo>
                    <a:pt x="64" y="34"/>
                    <a:pt x="86" y="18"/>
                    <a:pt x="8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29720" y="1566720"/>
              <a:ext cx="138960" cy="239760"/>
            </a:xfrm>
            <a:custGeom>
              <a:avLst/>
              <a:gdLst/>
              <a:ahLst/>
              <a:rect l="l" t="t" r="r" b="b"/>
              <a:pathLst>
                <a:path w="207" h="355">
                  <a:moveTo>
                    <a:pt x="0" y="355"/>
                  </a:moveTo>
                  <a:cubicBezTo>
                    <a:pt x="23" y="352"/>
                    <a:pt x="47" y="350"/>
                    <a:pt x="67" y="338"/>
                  </a:cubicBezTo>
                  <a:cubicBezTo>
                    <a:pt x="87" y="326"/>
                    <a:pt x="107" y="304"/>
                    <a:pt x="122" y="283"/>
                  </a:cubicBezTo>
                  <a:cubicBezTo>
                    <a:pt x="137" y="262"/>
                    <a:pt x="154" y="238"/>
                    <a:pt x="158" y="213"/>
                  </a:cubicBezTo>
                  <a:cubicBezTo>
                    <a:pt x="162" y="188"/>
                    <a:pt x="142" y="157"/>
                    <a:pt x="149" y="132"/>
                  </a:cubicBezTo>
                  <a:cubicBezTo>
                    <a:pt x="156" y="107"/>
                    <a:pt x="191" y="87"/>
                    <a:pt x="199" y="65"/>
                  </a:cubicBezTo>
                  <a:cubicBezTo>
                    <a:pt x="207" y="43"/>
                    <a:pt x="202" y="21"/>
                    <a:pt x="197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22760" y="1227240"/>
              <a:ext cx="458280" cy="52200"/>
            </a:xfrm>
            <a:custGeom>
              <a:avLst/>
              <a:gdLst/>
              <a:ahLst/>
              <a:rect l="l" t="t" r="r" b="b"/>
              <a:pathLst>
                <a:path w="272" h="32">
                  <a:moveTo>
                    <a:pt x="0" y="32"/>
                  </a:moveTo>
                  <a:cubicBezTo>
                    <a:pt x="64" y="23"/>
                    <a:pt x="128" y="27"/>
                    <a:pt x="192" y="16"/>
                  </a:cubicBezTo>
                  <a:cubicBezTo>
                    <a:pt x="216" y="0"/>
                    <a:pt x="220" y="4"/>
                    <a:pt x="252" y="8"/>
                  </a:cubicBezTo>
                  <a:cubicBezTo>
                    <a:pt x="269" y="12"/>
                    <a:pt x="263" y="12"/>
                    <a:pt x="272" y="1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40280" y="2247840"/>
              <a:ext cx="60120" cy="9540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56"/>
                  </a:moveTo>
                  <a:cubicBezTo>
                    <a:pt x="18" y="38"/>
                    <a:pt x="25" y="21"/>
                    <a:pt x="36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2240" y="2389320"/>
              <a:ext cx="589320" cy="87120"/>
            </a:xfrm>
            <a:custGeom>
              <a:avLst/>
              <a:gdLst/>
              <a:ahLst/>
              <a:rect l="l" t="t" r="r" b="b"/>
              <a:pathLst>
                <a:path w="336" h="52">
                  <a:moveTo>
                    <a:pt x="0" y="12"/>
                  </a:moveTo>
                  <a:cubicBezTo>
                    <a:pt x="27" y="16"/>
                    <a:pt x="40" y="24"/>
                    <a:pt x="64" y="32"/>
                  </a:cubicBezTo>
                  <a:cubicBezTo>
                    <a:pt x="87" y="26"/>
                    <a:pt x="95" y="22"/>
                    <a:pt x="116" y="8"/>
                  </a:cubicBezTo>
                  <a:cubicBezTo>
                    <a:pt x="123" y="3"/>
                    <a:pt x="140" y="0"/>
                    <a:pt x="140" y="0"/>
                  </a:cubicBezTo>
                  <a:cubicBezTo>
                    <a:pt x="161" y="5"/>
                    <a:pt x="186" y="20"/>
                    <a:pt x="204" y="32"/>
                  </a:cubicBezTo>
                  <a:cubicBezTo>
                    <a:pt x="207" y="36"/>
                    <a:pt x="208" y="41"/>
                    <a:pt x="212" y="44"/>
                  </a:cubicBezTo>
                  <a:cubicBezTo>
                    <a:pt x="219" y="48"/>
                    <a:pt x="236" y="52"/>
                    <a:pt x="236" y="52"/>
                  </a:cubicBezTo>
                  <a:cubicBezTo>
                    <a:pt x="251" y="51"/>
                    <a:pt x="265" y="50"/>
                    <a:pt x="280" y="48"/>
                  </a:cubicBezTo>
                  <a:cubicBezTo>
                    <a:pt x="302" y="45"/>
                    <a:pt x="316" y="22"/>
                    <a:pt x="336" y="12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74040" y="1076400"/>
              <a:ext cx="250560" cy="13644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72"/>
                  </a:moveTo>
                  <a:cubicBezTo>
                    <a:pt x="41" y="65"/>
                    <a:pt x="62" y="62"/>
                    <a:pt x="96" y="40"/>
                  </a:cubicBezTo>
                  <a:cubicBezTo>
                    <a:pt x="121" y="3"/>
                    <a:pt x="119" y="25"/>
                    <a:pt x="144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5640" y="1009800"/>
              <a:ext cx="150480" cy="14256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0" y="76"/>
                  </a:moveTo>
                  <a:cubicBezTo>
                    <a:pt x="8" y="71"/>
                    <a:pt x="15" y="64"/>
                    <a:pt x="24" y="60"/>
                  </a:cubicBezTo>
                  <a:cubicBezTo>
                    <a:pt x="39" y="53"/>
                    <a:pt x="72" y="44"/>
                    <a:pt x="72" y="44"/>
                  </a:cubicBezTo>
                  <a:cubicBezTo>
                    <a:pt x="87" y="0"/>
                    <a:pt x="76" y="28"/>
                    <a:pt x="48" y="2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5791320" y="5105520"/>
          <a:ext cx="2209320" cy="1229760"/>
        </p:xfrm>
        <a:graphic>
          <a:graphicData uri="http://schemas.openxmlformats.org/drawingml/2006/table">
            <a:tbl>
              <a:tblPr/>
              <a:tblGrid>
                <a:gridCol w="220932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Real T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105520" y="1600200"/>
            <a:ext cx="3809880" cy="31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Motorw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orth Con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ouro Lit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RISA Concessio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(1100 k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itoral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est Con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rande Lisb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480" y="2819520"/>
            <a:ext cx="3353040" cy="3808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057040" y="1295280"/>
            <a:ext cx="3048120" cy="9907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828440" y="1676160"/>
            <a:ext cx="3352680" cy="10666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371240" y="3047760"/>
            <a:ext cx="3809880" cy="60948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990360" y="3885840"/>
            <a:ext cx="4190760" cy="22860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990360" y="4343040"/>
            <a:ext cx="4190760" cy="22860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rot="16200000">
            <a:off x="-39240" y="677160"/>
            <a:ext cx="1343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Humanst521 BT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>
            <a:grayscl/>
            <a:lum bright="18000"/>
          </a:blip>
          <a:srcRect l="3841" t="2423" r="2996" b="2004"/>
          <a:stretch/>
        </p:blipFill>
        <p:spPr>
          <a:xfrm>
            <a:off x="404640" y="353880"/>
            <a:ext cx="3862440" cy="6351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87640" y="1254240"/>
            <a:ext cx="55440" cy="244440"/>
          </a:xfrm>
          <a:custGeom>
            <a:avLst/>
            <a:gdLst/>
            <a:ahLst/>
            <a:rect l="l" t="t" r="r" b="b"/>
            <a:pathLst>
              <a:path w="79" h="351">
                <a:moveTo>
                  <a:pt x="0" y="0"/>
                </a:moveTo>
                <a:cubicBezTo>
                  <a:pt x="15" y="19"/>
                  <a:pt x="31" y="39"/>
                  <a:pt x="43" y="89"/>
                </a:cubicBezTo>
                <a:cubicBezTo>
                  <a:pt x="55" y="139"/>
                  <a:pt x="63" y="254"/>
                  <a:pt x="69" y="298"/>
                </a:cubicBezTo>
                <a:lnTo>
                  <a:pt x="79" y="351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65160" y="2139840"/>
            <a:ext cx="1570320" cy="158760"/>
          </a:xfrm>
          <a:custGeom>
            <a:avLst/>
            <a:gdLst/>
            <a:ahLst/>
            <a:rect l="l" t="t" r="r" b="b"/>
            <a:pathLst>
              <a:path w="2213" h="232">
                <a:moveTo>
                  <a:pt x="0" y="52"/>
                </a:moveTo>
                <a:cubicBezTo>
                  <a:pt x="13" y="54"/>
                  <a:pt x="63" y="66"/>
                  <a:pt x="84" y="64"/>
                </a:cubicBezTo>
                <a:cubicBezTo>
                  <a:pt x="105" y="62"/>
                  <a:pt x="107" y="37"/>
                  <a:pt x="125" y="42"/>
                </a:cubicBezTo>
                <a:cubicBezTo>
                  <a:pt x="143" y="47"/>
                  <a:pt x="173" y="93"/>
                  <a:pt x="192" y="95"/>
                </a:cubicBezTo>
                <a:cubicBezTo>
                  <a:pt x="211" y="97"/>
                  <a:pt x="224" y="60"/>
                  <a:pt x="238" y="54"/>
                </a:cubicBezTo>
                <a:cubicBezTo>
                  <a:pt x="252" y="48"/>
                  <a:pt x="260" y="67"/>
                  <a:pt x="274" y="62"/>
                </a:cubicBezTo>
                <a:cubicBezTo>
                  <a:pt x="288" y="57"/>
                  <a:pt x="292" y="29"/>
                  <a:pt x="324" y="26"/>
                </a:cubicBezTo>
                <a:cubicBezTo>
                  <a:pt x="356" y="23"/>
                  <a:pt x="435" y="46"/>
                  <a:pt x="468" y="42"/>
                </a:cubicBezTo>
                <a:cubicBezTo>
                  <a:pt x="501" y="38"/>
                  <a:pt x="506" y="4"/>
                  <a:pt x="524" y="2"/>
                </a:cubicBezTo>
                <a:cubicBezTo>
                  <a:pt x="542" y="0"/>
                  <a:pt x="564" y="13"/>
                  <a:pt x="574" y="28"/>
                </a:cubicBezTo>
                <a:cubicBezTo>
                  <a:pt x="584" y="43"/>
                  <a:pt x="572" y="82"/>
                  <a:pt x="581" y="93"/>
                </a:cubicBezTo>
                <a:cubicBezTo>
                  <a:pt x="590" y="104"/>
                  <a:pt x="615" y="98"/>
                  <a:pt x="627" y="93"/>
                </a:cubicBezTo>
                <a:cubicBezTo>
                  <a:pt x="639" y="88"/>
                  <a:pt x="644" y="71"/>
                  <a:pt x="656" y="64"/>
                </a:cubicBezTo>
                <a:cubicBezTo>
                  <a:pt x="668" y="57"/>
                  <a:pt x="680" y="58"/>
                  <a:pt x="701" y="52"/>
                </a:cubicBezTo>
                <a:cubicBezTo>
                  <a:pt x="722" y="46"/>
                  <a:pt x="762" y="30"/>
                  <a:pt x="780" y="26"/>
                </a:cubicBezTo>
                <a:cubicBezTo>
                  <a:pt x="798" y="22"/>
                  <a:pt x="796" y="23"/>
                  <a:pt x="809" y="28"/>
                </a:cubicBezTo>
                <a:cubicBezTo>
                  <a:pt x="822" y="33"/>
                  <a:pt x="847" y="42"/>
                  <a:pt x="857" y="57"/>
                </a:cubicBezTo>
                <a:cubicBezTo>
                  <a:pt x="867" y="72"/>
                  <a:pt x="855" y="105"/>
                  <a:pt x="869" y="117"/>
                </a:cubicBezTo>
                <a:cubicBezTo>
                  <a:pt x="883" y="129"/>
                  <a:pt x="918" y="123"/>
                  <a:pt x="939" y="129"/>
                </a:cubicBezTo>
                <a:cubicBezTo>
                  <a:pt x="960" y="135"/>
                  <a:pt x="972" y="149"/>
                  <a:pt x="994" y="155"/>
                </a:cubicBezTo>
                <a:cubicBezTo>
                  <a:pt x="1016" y="161"/>
                  <a:pt x="1041" y="168"/>
                  <a:pt x="1071" y="167"/>
                </a:cubicBezTo>
                <a:cubicBezTo>
                  <a:pt x="1101" y="166"/>
                  <a:pt x="1142" y="148"/>
                  <a:pt x="1172" y="150"/>
                </a:cubicBezTo>
                <a:cubicBezTo>
                  <a:pt x="1202" y="152"/>
                  <a:pt x="1232" y="178"/>
                  <a:pt x="1253" y="179"/>
                </a:cubicBezTo>
                <a:cubicBezTo>
                  <a:pt x="1274" y="180"/>
                  <a:pt x="1274" y="163"/>
                  <a:pt x="1296" y="153"/>
                </a:cubicBezTo>
                <a:cubicBezTo>
                  <a:pt x="1318" y="143"/>
                  <a:pt x="1357" y="119"/>
                  <a:pt x="1385" y="117"/>
                </a:cubicBezTo>
                <a:cubicBezTo>
                  <a:pt x="1413" y="115"/>
                  <a:pt x="1445" y="137"/>
                  <a:pt x="1467" y="138"/>
                </a:cubicBezTo>
                <a:cubicBezTo>
                  <a:pt x="1489" y="139"/>
                  <a:pt x="1502" y="129"/>
                  <a:pt x="1515" y="124"/>
                </a:cubicBezTo>
                <a:cubicBezTo>
                  <a:pt x="1528" y="119"/>
                  <a:pt x="1529" y="102"/>
                  <a:pt x="1544" y="105"/>
                </a:cubicBezTo>
                <a:cubicBezTo>
                  <a:pt x="1559" y="108"/>
                  <a:pt x="1591" y="126"/>
                  <a:pt x="1606" y="141"/>
                </a:cubicBezTo>
                <a:cubicBezTo>
                  <a:pt x="1621" y="156"/>
                  <a:pt x="1621" y="181"/>
                  <a:pt x="1632" y="196"/>
                </a:cubicBezTo>
                <a:cubicBezTo>
                  <a:pt x="1643" y="211"/>
                  <a:pt x="1650" y="228"/>
                  <a:pt x="1671" y="230"/>
                </a:cubicBezTo>
                <a:cubicBezTo>
                  <a:pt x="1692" y="232"/>
                  <a:pt x="1733" y="220"/>
                  <a:pt x="1757" y="210"/>
                </a:cubicBezTo>
                <a:cubicBezTo>
                  <a:pt x="1781" y="200"/>
                  <a:pt x="1783" y="178"/>
                  <a:pt x="1817" y="170"/>
                </a:cubicBezTo>
                <a:cubicBezTo>
                  <a:pt x="1851" y="162"/>
                  <a:pt x="1928" y="165"/>
                  <a:pt x="1959" y="162"/>
                </a:cubicBezTo>
                <a:cubicBezTo>
                  <a:pt x="1990" y="159"/>
                  <a:pt x="1987" y="153"/>
                  <a:pt x="2002" y="153"/>
                </a:cubicBezTo>
                <a:cubicBezTo>
                  <a:pt x="2017" y="153"/>
                  <a:pt x="2032" y="164"/>
                  <a:pt x="2048" y="162"/>
                </a:cubicBezTo>
                <a:cubicBezTo>
                  <a:pt x="2064" y="160"/>
                  <a:pt x="2073" y="144"/>
                  <a:pt x="2100" y="143"/>
                </a:cubicBezTo>
                <a:cubicBezTo>
                  <a:pt x="2127" y="142"/>
                  <a:pt x="2190" y="152"/>
                  <a:pt x="2213" y="15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4280" y="844560"/>
            <a:ext cx="481320" cy="1333440"/>
          </a:xfrm>
          <a:custGeom>
            <a:avLst/>
            <a:gdLst/>
            <a:ahLst/>
            <a:rect l="l" t="t" r="r" b="b"/>
            <a:pathLst>
              <a:path w="678" h="1930">
                <a:moveTo>
                  <a:pt x="3" y="1930"/>
                </a:moveTo>
                <a:cubicBezTo>
                  <a:pt x="1" y="1909"/>
                  <a:pt x="0" y="1889"/>
                  <a:pt x="6" y="1863"/>
                </a:cubicBezTo>
                <a:cubicBezTo>
                  <a:pt x="12" y="1837"/>
                  <a:pt x="34" y="1808"/>
                  <a:pt x="37" y="1776"/>
                </a:cubicBezTo>
                <a:cubicBezTo>
                  <a:pt x="40" y="1744"/>
                  <a:pt x="24" y="1721"/>
                  <a:pt x="27" y="1673"/>
                </a:cubicBezTo>
                <a:cubicBezTo>
                  <a:pt x="30" y="1625"/>
                  <a:pt x="46" y="1526"/>
                  <a:pt x="56" y="1486"/>
                </a:cubicBezTo>
                <a:cubicBezTo>
                  <a:pt x="66" y="1446"/>
                  <a:pt x="80" y="1459"/>
                  <a:pt x="87" y="1435"/>
                </a:cubicBezTo>
                <a:cubicBezTo>
                  <a:pt x="94" y="1411"/>
                  <a:pt x="88" y="1371"/>
                  <a:pt x="99" y="1342"/>
                </a:cubicBezTo>
                <a:cubicBezTo>
                  <a:pt x="110" y="1313"/>
                  <a:pt x="129" y="1286"/>
                  <a:pt x="152" y="1263"/>
                </a:cubicBezTo>
                <a:cubicBezTo>
                  <a:pt x="175" y="1240"/>
                  <a:pt x="225" y="1247"/>
                  <a:pt x="238" y="1205"/>
                </a:cubicBezTo>
                <a:cubicBezTo>
                  <a:pt x="251" y="1163"/>
                  <a:pt x="223" y="1064"/>
                  <a:pt x="229" y="1013"/>
                </a:cubicBezTo>
                <a:cubicBezTo>
                  <a:pt x="235" y="962"/>
                  <a:pt x="262" y="924"/>
                  <a:pt x="274" y="900"/>
                </a:cubicBezTo>
                <a:cubicBezTo>
                  <a:pt x="286" y="876"/>
                  <a:pt x="293" y="908"/>
                  <a:pt x="301" y="871"/>
                </a:cubicBezTo>
                <a:cubicBezTo>
                  <a:pt x="309" y="834"/>
                  <a:pt x="310" y="734"/>
                  <a:pt x="320" y="677"/>
                </a:cubicBezTo>
                <a:cubicBezTo>
                  <a:pt x="330" y="620"/>
                  <a:pt x="349" y="564"/>
                  <a:pt x="363" y="528"/>
                </a:cubicBezTo>
                <a:cubicBezTo>
                  <a:pt x="377" y="492"/>
                  <a:pt x="395" y="480"/>
                  <a:pt x="406" y="459"/>
                </a:cubicBezTo>
                <a:cubicBezTo>
                  <a:pt x="417" y="438"/>
                  <a:pt x="425" y="428"/>
                  <a:pt x="430" y="403"/>
                </a:cubicBezTo>
                <a:cubicBezTo>
                  <a:pt x="435" y="378"/>
                  <a:pt x="433" y="335"/>
                  <a:pt x="438" y="307"/>
                </a:cubicBezTo>
                <a:cubicBezTo>
                  <a:pt x="443" y="279"/>
                  <a:pt x="444" y="262"/>
                  <a:pt x="462" y="235"/>
                </a:cubicBezTo>
                <a:cubicBezTo>
                  <a:pt x="480" y="208"/>
                  <a:pt x="523" y="162"/>
                  <a:pt x="543" y="144"/>
                </a:cubicBezTo>
                <a:cubicBezTo>
                  <a:pt x="563" y="126"/>
                  <a:pt x="560" y="149"/>
                  <a:pt x="582" y="125"/>
                </a:cubicBezTo>
                <a:cubicBezTo>
                  <a:pt x="604" y="101"/>
                  <a:pt x="658" y="26"/>
                  <a:pt x="678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298600"/>
            <a:ext cx="930240" cy="1282680"/>
          </a:xfrm>
          <a:custGeom>
            <a:avLst/>
            <a:gdLst/>
            <a:ahLst/>
            <a:rect l="l" t="t" r="r" b="b"/>
            <a:pathLst>
              <a:path w="1312" h="1855">
                <a:moveTo>
                  <a:pt x="0" y="1848"/>
                </a:moveTo>
                <a:cubicBezTo>
                  <a:pt x="10" y="1847"/>
                  <a:pt x="31" y="1839"/>
                  <a:pt x="60" y="1840"/>
                </a:cubicBezTo>
                <a:cubicBezTo>
                  <a:pt x="89" y="1841"/>
                  <a:pt x="148" y="1855"/>
                  <a:pt x="175" y="1852"/>
                </a:cubicBezTo>
                <a:cubicBezTo>
                  <a:pt x="202" y="1849"/>
                  <a:pt x="208" y="1827"/>
                  <a:pt x="223" y="1824"/>
                </a:cubicBezTo>
                <a:cubicBezTo>
                  <a:pt x="238" y="1821"/>
                  <a:pt x="241" y="1837"/>
                  <a:pt x="268" y="1831"/>
                </a:cubicBezTo>
                <a:cubicBezTo>
                  <a:pt x="295" y="1825"/>
                  <a:pt x="355" y="1793"/>
                  <a:pt x="386" y="1785"/>
                </a:cubicBezTo>
                <a:cubicBezTo>
                  <a:pt x="417" y="1777"/>
                  <a:pt x="438" y="1789"/>
                  <a:pt x="456" y="1783"/>
                </a:cubicBezTo>
                <a:cubicBezTo>
                  <a:pt x="474" y="1777"/>
                  <a:pt x="478" y="1755"/>
                  <a:pt x="494" y="1747"/>
                </a:cubicBezTo>
                <a:cubicBezTo>
                  <a:pt x="510" y="1739"/>
                  <a:pt x="531" y="1755"/>
                  <a:pt x="552" y="1737"/>
                </a:cubicBezTo>
                <a:cubicBezTo>
                  <a:pt x="573" y="1719"/>
                  <a:pt x="604" y="1674"/>
                  <a:pt x="619" y="1641"/>
                </a:cubicBezTo>
                <a:cubicBezTo>
                  <a:pt x="634" y="1608"/>
                  <a:pt x="629" y="1566"/>
                  <a:pt x="645" y="1536"/>
                </a:cubicBezTo>
                <a:cubicBezTo>
                  <a:pt x="661" y="1506"/>
                  <a:pt x="703" y="1479"/>
                  <a:pt x="715" y="1461"/>
                </a:cubicBezTo>
                <a:cubicBezTo>
                  <a:pt x="727" y="1443"/>
                  <a:pt x="712" y="1433"/>
                  <a:pt x="717" y="1428"/>
                </a:cubicBezTo>
                <a:cubicBezTo>
                  <a:pt x="722" y="1423"/>
                  <a:pt x="727" y="1441"/>
                  <a:pt x="748" y="1432"/>
                </a:cubicBezTo>
                <a:cubicBezTo>
                  <a:pt x="769" y="1423"/>
                  <a:pt x="825" y="1388"/>
                  <a:pt x="844" y="1372"/>
                </a:cubicBezTo>
                <a:cubicBezTo>
                  <a:pt x="863" y="1356"/>
                  <a:pt x="848" y="1346"/>
                  <a:pt x="864" y="1334"/>
                </a:cubicBezTo>
                <a:cubicBezTo>
                  <a:pt x="880" y="1322"/>
                  <a:pt x="923" y="1340"/>
                  <a:pt x="943" y="1300"/>
                </a:cubicBezTo>
                <a:cubicBezTo>
                  <a:pt x="963" y="1260"/>
                  <a:pt x="974" y="1134"/>
                  <a:pt x="986" y="1092"/>
                </a:cubicBezTo>
                <a:cubicBezTo>
                  <a:pt x="998" y="1050"/>
                  <a:pt x="1012" y="1063"/>
                  <a:pt x="1015" y="1046"/>
                </a:cubicBezTo>
                <a:cubicBezTo>
                  <a:pt x="1018" y="1029"/>
                  <a:pt x="1007" y="1015"/>
                  <a:pt x="1003" y="988"/>
                </a:cubicBezTo>
                <a:cubicBezTo>
                  <a:pt x="999" y="961"/>
                  <a:pt x="994" y="938"/>
                  <a:pt x="988" y="885"/>
                </a:cubicBezTo>
                <a:cubicBezTo>
                  <a:pt x="982" y="832"/>
                  <a:pt x="974" y="722"/>
                  <a:pt x="969" y="667"/>
                </a:cubicBezTo>
                <a:cubicBezTo>
                  <a:pt x="964" y="612"/>
                  <a:pt x="945" y="592"/>
                  <a:pt x="955" y="552"/>
                </a:cubicBezTo>
                <a:cubicBezTo>
                  <a:pt x="965" y="512"/>
                  <a:pt x="996" y="460"/>
                  <a:pt x="1029" y="429"/>
                </a:cubicBezTo>
                <a:cubicBezTo>
                  <a:pt x="1062" y="398"/>
                  <a:pt x="1119" y="404"/>
                  <a:pt x="1154" y="367"/>
                </a:cubicBezTo>
                <a:cubicBezTo>
                  <a:pt x="1189" y="330"/>
                  <a:pt x="1223" y="248"/>
                  <a:pt x="1240" y="208"/>
                </a:cubicBezTo>
                <a:cubicBezTo>
                  <a:pt x="1257" y="168"/>
                  <a:pt x="1245" y="164"/>
                  <a:pt x="1257" y="129"/>
                </a:cubicBezTo>
                <a:cubicBezTo>
                  <a:pt x="1269" y="94"/>
                  <a:pt x="1301" y="27"/>
                  <a:pt x="1312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47720" y="6184800"/>
            <a:ext cx="1262160" cy="184320"/>
          </a:xfrm>
          <a:custGeom>
            <a:avLst/>
            <a:gdLst/>
            <a:ahLst/>
            <a:rect l="l" t="t" r="r" b="b"/>
            <a:pathLst>
              <a:path w="1778" h="266">
                <a:moveTo>
                  <a:pt x="0" y="155"/>
                </a:moveTo>
                <a:cubicBezTo>
                  <a:pt x="42" y="141"/>
                  <a:pt x="84" y="127"/>
                  <a:pt x="122" y="121"/>
                </a:cubicBezTo>
                <a:cubicBezTo>
                  <a:pt x="160" y="115"/>
                  <a:pt x="165" y="109"/>
                  <a:pt x="230" y="119"/>
                </a:cubicBezTo>
                <a:cubicBezTo>
                  <a:pt x="295" y="129"/>
                  <a:pt x="441" y="174"/>
                  <a:pt x="513" y="184"/>
                </a:cubicBezTo>
                <a:cubicBezTo>
                  <a:pt x="585" y="194"/>
                  <a:pt x="632" y="189"/>
                  <a:pt x="664" y="181"/>
                </a:cubicBezTo>
                <a:cubicBezTo>
                  <a:pt x="696" y="173"/>
                  <a:pt x="683" y="138"/>
                  <a:pt x="708" y="133"/>
                </a:cubicBezTo>
                <a:cubicBezTo>
                  <a:pt x="733" y="128"/>
                  <a:pt x="792" y="140"/>
                  <a:pt x="816" y="150"/>
                </a:cubicBezTo>
                <a:cubicBezTo>
                  <a:pt x="840" y="160"/>
                  <a:pt x="828" y="184"/>
                  <a:pt x="849" y="193"/>
                </a:cubicBezTo>
                <a:cubicBezTo>
                  <a:pt x="870" y="202"/>
                  <a:pt x="916" y="194"/>
                  <a:pt x="940" y="205"/>
                </a:cubicBezTo>
                <a:cubicBezTo>
                  <a:pt x="964" y="216"/>
                  <a:pt x="967" y="250"/>
                  <a:pt x="993" y="258"/>
                </a:cubicBezTo>
                <a:cubicBezTo>
                  <a:pt x="1019" y="266"/>
                  <a:pt x="1074" y="256"/>
                  <a:pt x="1096" y="253"/>
                </a:cubicBezTo>
                <a:cubicBezTo>
                  <a:pt x="1118" y="250"/>
                  <a:pt x="1105" y="236"/>
                  <a:pt x="1125" y="237"/>
                </a:cubicBezTo>
                <a:cubicBezTo>
                  <a:pt x="1145" y="238"/>
                  <a:pt x="1194" y="260"/>
                  <a:pt x="1216" y="261"/>
                </a:cubicBezTo>
                <a:cubicBezTo>
                  <a:pt x="1238" y="262"/>
                  <a:pt x="1250" y="249"/>
                  <a:pt x="1257" y="241"/>
                </a:cubicBezTo>
                <a:cubicBezTo>
                  <a:pt x="1264" y="233"/>
                  <a:pt x="1250" y="222"/>
                  <a:pt x="1260" y="213"/>
                </a:cubicBezTo>
                <a:cubicBezTo>
                  <a:pt x="1270" y="204"/>
                  <a:pt x="1296" y="195"/>
                  <a:pt x="1320" y="189"/>
                </a:cubicBezTo>
                <a:cubicBezTo>
                  <a:pt x="1344" y="183"/>
                  <a:pt x="1381" y="191"/>
                  <a:pt x="1406" y="179"/>
                </a:cubicBezTo>
                <a:cubicBezTo>
                  <a:pt x="1431" y="167"/>
                  <a:pt x="1437" y="132"/>
                  <a:pt x="1468" y="117"/>
                </a:cubicBezTo>
                <a:cubicBezTo>
                  <a:pt x="1499" y="102"/>
                  <a:pt x="1558" y="98"/>
                  <a:pt x="1593" y="88"/>
                </a:cubicBezTo>
                <a:cubicBezTo>
                  <a:pt x="1628" y="78"/>
                  <a:pt x="1659" y="70"/>
                  <a:pt x="1680" y="57"/>
                </a:cubicBezTo>
                <a:cubicBezTo>
                  <a:pt x="1701" y="44"/>
                  <a:pt x="1702" y="18"/>
                  <a:pt x="1718" y="9"/>
                </a:cubicBezTo>
                <a:cubicBezTo>
                  <a:pt x="1734" y="0"/>
                  <a:pt x="1756" y="2"/>
                  <a:pt x="1778" y="4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7040" y="2217600"/>
            <a:ext cx="88920" cy="219240"/>
          </a:xfrm>
          <a:custGeom>
            <a:avLst/>
            <a:gdLst/>
            <a:ahLst/>
            <a:rect l="l" t="t" r="r" b="b"/>
            <a:pathLst>
              <a:path w="126" h="319">
                <a:moveTo>
                  <a:pt x="0" y="319"/>
                </a:moveTo>
                <a:cubicBezTo>
                  <a:pt x="15" y="295"/>
                  <a:pt x="30" y="272"/>
                  <a:pt x="36" y="254"/>
                </a:cubicBezTo>
                <a:cubicBezTo>
                  <a:pt x="42" y="236"/>
                  <a:pt x="31" y="232"/>
                  <a:pt x="38" y="211"/>
                </a:cubicBezTo>
                <a:cubicBezTo>
                  <a:pt x="45" y="190"/>
                  <a:pt x="71" y="148"/>
                  <a:pt x="79" y="127"/>
                </a:cubicBezTo>
                <a:cubicBezTo>
                  <a:pt x="87" y="106"/>
                  <a:pt x="79" y="99"/>
                  <a:pt x="86" y="84"/>
                </a:cubicBezTo>
                <a:cubicBezTo>
                  <a:pt x="93" y="69"/>
                  <a:pt x="114" y="50"/>
                  <a:pt x="120" y="36"/>
                </a:cubicBezTo>
                <a:cubicBezTo>
                  <a:pt x="126" y="22"/>
                  <a:pt x="123" y="11"/>
                  <a:pt x="120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652760"/>
            <a:ext cx="76320" cy="509400"/>
          </a:xfrm>
          <a:custGeom>
            <a:avLst/>
            <a:gdLst/>
            <a:ahLst/>
            <a:rect l="l" t="t" r="r" b="b"/>
            <a:pathLst>
              <a:path w="108" h="737">
                <a:moveTo>
                  <a:pt x="108" y="737"/>
                </a:moveTo>
                <a:cubicBezTo>
                  <a:pt x="99" y="718"/>
                  <a:pt x="91" y="700"/>
                  <a:pt x="87" y="684"/>
                </a:cubicBezTo>
                <a:cubicBezTo>
                  <a:pt x="83" y="668"/>
                  <a:pt x="88" y="651"/>
                  <a:pt x="84" y="641"/>
                </a:cubicBezTo>
                <a:cubicBezTo>
                  <a:pt x="80" y="631"/>
                  <a:pt x="67" y="650"/>
                  <a:pt x="63" y="622"/>
                </a:cubicBezTo>
                <a:cubicBezTo>
                  <a:pt x="59" y="594"/>
                  <a:pt x="62" y="517"/>
                  <a:pt x="58" y="473"/>
                </a:cubicBezTo>
                <a:cubicBezTo>
                  <a:pt x="54" y="429"/>
                  <a:pt x="41" y="405"/>
                  <a:pt x="36" y="360"/>
                </a:cubicBezTo>
                <a:cubicBezTo>
                  <a:pt x="31" y="315"/>
                  <a:pt x="35" y="244"/>
                  <a:pt x="29" y="202"/>
                </a:cubicBezTo>
                <a:cubicBezTo>
                  <a:pt x="23" y="160"/>
                  <a:pt x="0" y="140"/>
                  <a:pt x="0" y="106"/>
                </a:cubicBezTo>
                <a:cubicBezTo>
                  <a:pt x="0" y="72"/>
                  <a:pt x="14" y="36"/>
                  <a:pt x="29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46280" y="2176560"/>
            <a:ext cx="218880" cy="63360"/>
          </a:xfrm>
          <a:custGeom>
            <a:avLst/>
            <a:gdLst/>
            <a:ahLst/>
            <a:rect l="l" t="t" r="r" b="b"/>
            <a:pathLst>
              <a:path w="307" h="91">
                <a:moveTo>
                  <a:pt x="0" y="84"/>
                </a:moveTo>
                <a:cubicBezTo>
                  <a:pt x="21" y="87"/>
                  <a:pt x="43" y="91"/>
                  <a:pt x="55" y="89"/>
                </a:cubicBezTo>
                <a:cubicBezTo>
                  <a:pt x="67" y="87"/>
                  <a:pt x="63" y="72"/>
                  <a:pt x="72" y="70"/>
                </a:cubicBezTo>
                <a:cubicBezTo>
                  <a:pt x="81" y="68"/>
                  <a:pt x="94" y="80"/>
                  <a:pt x="108" y="75"/>
                </a:cubicBezTo>
                <a:cubicBezTo>
                  <a:pt x="122" y="70"/>
                  <a:pt x="141" y="42"/>
                  <a:pt x="156" y="39"/>
                </a:cubicBezTo>
                <a:cubicBezTo>
                  <a:pt x="171" y="36"/>
                  <a:pt x="186" y="60"/>
                  <a:pt x="197" y="56"/>
                </a:cubicBezTo>
                <a:cubicBezTo>
                  <a:pt x="208" y="52"/>
                  <a:pt x="203" y="24"/>
                  <a:pt x="221" y="15"/>
                </a:cubicBezTo>
                <a:cubicBezTo>
                  <a:pt x="239" y="6"/>
                  <a:pt x="289" y="3"/>
                  <a:pt x="30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405080"/>
            <a:ext cx="433440" cy="125280"/>
          </a:xfrm>
          <a:custGeom>
            <a:avLst/>
            <a:gdLst/>
            <a:ahLst/>
            <a:rect l="l" t="t" r="r" b="b"/>
            <a:pathLst>
              <a:path w="610" h="182">
                <a:moveTo>
                  <a:pt x="0" y="182"/>
                </a:moveTo>
                <a:cubicBezTo>
                  <a:pt x="33" y="165"/>
                  <a:pt x="67" y="148"/>
                  <a:pt x="98" y="146"/>
                </a:cubicBezTo>
                <a:cubicBezTo>
                  <a:pt x="129" y="144"/>
                  <a:pt x="147" y="165"/>
                  <a:pt x="185" y="168"/>
                </a:cubicBezTo>
                <a:cubicBezTo>
                  <a:pt x="223" y="171"/>
                  <a:pt x="297" y="172"/>
                  <a:pt x="326" y="166"/>
                </a:cubicBezTo>
                <a:cubicBezTo>
                  <a:pt x="355" y="160"/>
                  <a:pt x="344" y="137"/>
                  <a:pt x="358" y="132"/>
                </a:cubicBezTo>
                <a:cubicBezTo>
                  <a:pt x="372" y="127"/>
                  <a:pt x="385" y="149"/>
                  <a:pt x="410" y="137"/>
                </a:cubicBezTo>
                <a:cubicBezTo>
                  <a:pt x="435" y="125"/>
                  <a:pt x="478" y="85"/>
                  <a:pt x="511" y="62"/>
                </a:cubicBezTo>
                <a:cubicBezTo>
                  <a:pt x="544" y="39"/>
                  <a:pt x="577" y="19"/>
                  <a:pt x="610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12880" y="1562040"/>
            <a:ext cx="88920" cy="17640"/>
          </a:xfrm>
          <a:custGeom>
            <a:avLst/>
            <a:gdLst/>
            <a:ahLst/>
            <a:rect l="l" t="t" r="r" b="b"/>
            <a:pathLst>
              <a:path w="127" h="25">
                <a:moveTo>
                  <a:pt x="0" y="25"/>
                </a:moveTo>
                <a:cubicBezTo>
                  <a:pt x="7" y="21"/>
                  <a:pt x="24" y="6"/>
                  <a:pt x="45" y="3"/>
                </a:cubicBezTo>
                <a:cubicBezTo>
                  <a:pt x="66" y="0"/>
                  <a:pt x="110" y="5"/>
                  <a:pt x="127" y="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5040" y="822240"/>
            <a:ext cx="162000" cy="709560"/>
          </a:xfrm>
          <a:custGeom>
            <a:avLst/>
            <a:gdLst/>
            <a:ahLst/>
            <a:rect l="l" t="t" r="r" b="b"/>
            <a:pathLst>
              <a:path w="229" h="1027">
                <a:moveTo>
                  <a:pt x="205" y="1027"/>
                </a:moveTo>
                <a:cubicBezTo>
                  <a:pt x="205" y="1019"/>
                  <a:pt x="201" y="986"/>
                  <a:pt x="205" y="974"/>
                </a:cubicBezTo>
                <a:cubicBezTo>
                  <a:pt x="209" y="962"/>
                  <a:pt x="229" y="966"/>
                  <a:pt x="227" y="952"/>
                </a:cubicBezTo>
                <a:cubicBezTo>
                  <a:pt x="225" y="938"/>
                  <a:pt x="201" y="910"/>
                  <a:pt x="195" y="888"/>
                </a:cubicBezTo>
                <a:cubicBezTo>
                  <a:pt x="189" y="866"/>
                  <a:pt x="196" y="836"/>
                  <a:pt x="188" y="818"/>
                </a:cubicBezTo>
                <a:cubicBezTo>
                  <a:pt x="180" y="800"/>
                  <a:pt x="153" y="797"/>
                  <a:pt x="147" y="780"/>
                </a:cubicBezTo>
                <a:cubicBezTo>
                  <a:pt x="141" y="763"/>
                  <a:pt x="149" y="729"/>
                  <a:pt x="152" y="715"/>
                </a:cubicBezTo>
                <a:cubicBezTo>
                  <a:pt x="155" y="701"/>
                  <a:pt x="166" y="714"/>
                  <a:pt x="167" y="698"/>
                </a:cubicBezTo>
                <a:cubicBezTo>
                  <a:pt x="168" y="682"/>
                  <a:pt x="163" y="638"/>
                  <a:pt x="159" y="616"/>
                </a:cubicBezTo>
                <a:cubicBezTo>
                  <a:pt x="155" y="594"/>
                  <a:pt x="149" y="590"/>
                  <a:pt x="140" y="564"/>
                </a:cubicBezTo>
                <a:cubicBezTo>
                  <a:pt x="131" y="538"/>
                  <a:pt x="108" y="483"/>
                  <a:pt x="104" y="460"/>
                </a:cubicBezTo>
                <a:cubicBezTo>
                  <a:pt x="100" y="437"/>
                  <a:pt x="112" y="440"/>
                  <a:pt x="116" y="424"/>
                </a:cubicBezTo>
                <a:cubicBezTo>
                  <a:pt x="120" y="408"/>
                  <a:pt x="132" y="385"/>
                  <a:pt x="131" y="362"/>
                </a:cubicBezTo>
                <a:cubicBezTo>
                  <a:pt x="130" y="339"/>
                  <a:pt x="118" y="304"/>
                  <a:pt x="109" y="285"/>
                </a:cubicBezTo>
                <a:cubicBezTo>
                  <a:pt x="100" y="266"/>
                  <a:pt x="81" y="260"/>
                  <a:pt x="78" y="247"/>
                </a:cubicBezTo>
                <a:cubicBezTo>
                  <a:pt x="75" y="234"/>
                  <a:pt x="90" y="238"/>
                  <a:pt x="90" y="208"/>
                </a:cubicBezTo>
                <a:cubicBezTo>
                  <a:pt x="90" y="178"/>
                  <a:pt x="93" y="94"/>
                  <a:pt x="80" y="67"/>
                </a:cubicBezTo>
                <a:cubicBezTo>
                  <a:pt x="67" y="40"/>
                  <a:pt x="22" y="54"/>
                  <a:pt x="11" y="43"/>
                </a:cubicBezTo>
                <a:cubicBezTo>
                  <a:pt x="0" y="32"/>
                  <a:pt x="14" y="9"/>
                  <a:pt x="15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89040" y="909720"/>
            <a:ext cx="196920" cy="87120"/>
          </a:xfrm>
          <a:custGeom>
            <a:avLst/>
            <a:gdLst/>
            <a:ahLst/>
            <a:rect l="l" t="t" r="r" b="b"/>
            <a:pathLst>
              <a:path w="279" h="127">
                <a:moveTo>
                  <a:pt x="0" y="123"/>
                </a:moveTo>
                <a:cubicBezTo>
                  <a:pt x="28" y="125"/>
                  <a:pt x="56" y="127"/>
                  <a:pt x="70" y="125"/>
                </a:cubicBezTo>
                <a:cubicBezTo>
                  <a:pt x="84" y="123"/>
                  <a:pt x="74" y="113"/>
                  <a:pt x="84" y="111"/>
                </a:cubicBezTo>
                <a:cubicBezTo>
                  <a:pt x="94" y="109"/>
                  <a:pt x="116" y="122"/>
                  <a:pt x="130" y="113"/>
                </a:cubicBezTo>
                <a:cubicBezTo>
                  <a:pt x="144" y="104"/>
                  <a:pt x="153" y="70"/>
                  <a:pt x="166" y="60"/>
                </a:cubicBezTo>
                <a:cubicBezTo>
                  <a:pt x="179" y="50"/>
                  <a:pt x="201" y="59"/>
                  <a:pt x="209" y="53"/>
                </a:cubicBezTo>
                <a:cubicBezTo>
                  <a:pt x="217" y="47"/>
                  <a:pt x="204" y="33"/>
                  <a:pt x="216" y="24"/>
                </a:cubicBezTo>
                <a:cubicBezTo>
                  <a:pt x="228" y="15"/>
                  <a:pt x="253" y="7"/>
                  <a:pt x="279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85840" y="1255680"/>
            <a:ext cx="57240" cy="244440"/>
          </a:xfrm>
          <a:custGeom>
            <a:avLst/>
            <a:gdLst/>
            <a:ahLst/>
            <a:rect l="l" t="t" r="r" b="b"/>
            <a:pathLst>
              <a:path w="79" h="351">
                <a:moveTo>
                  <a:pt x="0" y="0"/>
                </a:moveTo>
                <a:cubicBezTo>
                  <a:pt x="15" y="19"/>
                  <a:pt x="31" y="39"/>
                  <a:pt x="43" y="89"/>
                </a:cubicBezTo>
                <a:cubicBezTo>
                  <a:pt x="55" y="139"/>
                  <a:pt x="63" y="254"/>
                  <a:pt x="69" y="298"/>
                </a:cubicBezTo>
                <a:lnTo>
                  <a:pt x="79" y="351"/>
                </a:lnTo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89320" y="1069920"/>
            <a:ext cx="263520" cy="1396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2"/>
                </a:moveTo>
                <a:cubicBezTo>
                  <a:pt x="41" y="65"/>
                  <a:pt x="62" y="62"/>
                  <a:pt x="96" y="40"/>
                </a:cubicBezTo>
                <a:cubicBezTo>
                  <a:pt x="121" y="3"/>
                  <a:pt x="119" y="25"/>
                  <a:pt x="144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5240" y="1000080"/>
            <a:ext cx="160200" cy="147600"/>
          </a:xfrm>
          <a:custGeom>
            <a:avLst/>
            <a:gdLst/>
            <a:ahLst/>
            <a:rect l="l" t="t" r="r" b="b"/>
            <a:pathLst>
              <a:path w="87" h="76">
                <a:moveTo>
                  <a:pt x="0" y="76"/>
                </a:moveTo>
                <a:cubicBezTo>
                  <a:pt x="8" y="71"/>
                  <a:pt x="15" y="64"/>
                  <a:pt x="24" y="60"/>
                </a:cubicBezTo>
                <a:cubicBezTo>
                  <a:pt x="39" y="53"/>
                  <a:pt x="72" y="44"/>
                  <a:pt x="72" y="44"/>
                </a:cubicBezTo>
                <a:cubicBezTo>
                  <a:pt x="87" y="0"/>
                  <a:pt x="76" y="28"/>
                  <a:pt x="48" y="2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1523880"/>
            <a:ext cx="2438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CUT motorw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terior N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rte Lit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nde P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ira Litoral-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a da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ira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g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600200" y="1143000"/>
            <a:ext cx="4572000" cy="1447920"/>
          </a:xfrm>
          <a:prstGeom prst="line">
            <a:avLst/>
          </a:prstGeom>
          <a:ln w="1908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04760" y="1523520"/>
            <a:ext cx="4343400" cy="16002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666520" y="1219320"/>
            <a:ext cx="3505320" cy="9144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2742840" y="2285640"/>
            <a:ext cx="3505320" cy="121932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28440" y="1980720"/>
            <a:ext cx="4419720" cy="20574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819160" y="2895480"/>
            <a:ext cx="3429000" cy="152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514600" y="4952880"/>
            <a:ext cx="3733920" cy="12956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990720"/>
            <a:ext cx="35053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00"/>
                </a:solidFill>
                <a:latin typeface="Arial"/>
              </a:rPr>
              <a:t>SHADOW 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72200" y="5257800"/>
          <a:ext cx="2209680" cy="14032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Shadow Toll (SC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3300"/>
                          </a:solidFill>
                          <a:latin typeface="Humanst521 B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600200"/>
            <a:ext cx="838188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B has assumed anchor financing role in all road PPP transactions to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typically represents 35-50% of all-in co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ments to date totals  € 3bn for 10 projects for an estimated investment cost of € 6.3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and flexible loans (25-28 years maturity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 years grace) with sculpted amortisation sched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orrowers have opted to lock into forward rate fixings but standard financing options also off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2600" algn="just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of EIB to assume post-construction project risk on a phased basis, generally (SFF also possible), on basis of no MAC and agreed performance criteria (forward/backward looking ADSCR/LL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of European Investment Bank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IRAS</cp:lastModifiedBy>
  <dcterms:modified xsi:type="dcterms:W3CDTF">2005-11-28T20:21:00Z</dcterms:modified>
  <cp:revision>236</cp:revision>
  <dc:subject/>
  <dc:title>PowerPoint Presentation</dc:title>
</cp:coreProperties>
</file>