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4DE0-4C11-4A27-BEE3-FF6135A0C7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CE0D-5E8D-4FB3-971D-0ABED2AD33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GLOB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BIG CONTRIBUTOR TO SHORT AND MAYBE LONG-TERM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E38E-142D-4EDD-BBB3-B6BD04B4D4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EXAMPLE OF A ´COMUNICABLE´ NUMBER THAT WAS USEFUL IN CHANGING POLICY – GARNERING THE POLITICAL SUPPORT NECESSARY FOR A HEALTH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5A49-5BDB-4CC9-861A-2841A44CE1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USEFUL FOR DESIGNING A POLICY – IN THIS CASE THE PACKAGE OF COVER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6F7B-EBC4-4033-B8B8-1DB49D8DEF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USEFUL FOR THINKING ABOUT THE FUTURE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3E81-3D36-41BE-BB52-58E6AB6E72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-1447920" y="2819160"/>
            <a:ext cx="96775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OW MUCH DOES THIS HAVE TO DO WITH QOL - AFFECTS ALMOST ALL TH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W COST -difficulties in financing health affect most families on a day-to-day basis both through low-cost problems (common childhood illness) and higher-cost problems associated with the epi transition (diabe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IGH COST -the poor also face truly catastrophic problems – child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STANT WORRY ABOUT THE FUTURE-but this is just the limiting case of what it means for a family NOT TO BE ABLE AFFORD ADECUATE CARE – FOR SOME THERE IS A DECISION BETWEEN IMPOVERISHMENT AND HEALTH CARE BUT FOR OTHERS THERE IS NO DECISION BC THEY CANNOT AFFORD IT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MALL AND LARGE SHOCKS TO INCOME THAT CAN BE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C391-DA93-4CFE-A784-0899A86507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581280" y="6227640"/>
            <a:ext cx="2057040" cy="511200"/>
            <a:chOff x="3581280" y="6227640"/>
            <a:chExt cx="2057040" cy="511200"/>
          </a:xfrm>
        </p:grpSpPr>
        <p:grpSp>
          <p:nvGrpSpPr>
            <p:cNvPr id="2" name=""/>
            <p:cNvGrpSpPr/>
            <p:nvPr/>
          </p:nvGrpSpPr>
          <p:grpSpPr>
            <a:xfrm>
              <a:off x="4514040" y="6270480"/>
              <a:ext cx="1124280" cy="424440"/>
              <a:chOff x="4514040" y="6270480"/>
              <a:chExt cx="1124280" cy="424440"/>
            </a:xfrm>
          </p:grpSpPr>
          <p:pic>
            <p:nvPicPr>
              <p:cNvPr id="3" name="" descr=""/>
              <p:cNvPicPr/>
              <p:nvPr/>
            </p:nvPicPr>
            <p:blipFill>
              <a:blip r:embed="rId2">
                <a:lum bright="100000"/>
              </a:blip>
              <a:srcRect l="0" t="0" r="3764" b="0"/>
              <a:stretch/>
            </p:blipFill>
            <p:spPr>
              <a:xfrm>
                <a:off x="4514040" y="6270480"/>
                <a:ext cx="392040" cy="42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" descr=""/>
              <p:cNvPicPr/>
              <p:nvPr/>
            </p:nvPicPr>
            <p:blipFill>
              <a:blip r:embed="rId3">
                <a:biLevel thresh="50000"/>
                <a:lum bright="42000"/>
              </a:blip>
              <a:srcRect l="0" t="0" r="890" b="0"/>
              <a:stretch/>
            </p:blipFill>
            <p:spPr>
              <a:xfrm>
                <a:off x="4905360" y="6343560"/>
                <a:ext cx="7329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" name="" descr=""/>
            <p:cNvPicPr/>
            <p:nvPr/>
          </p:nvPicPr>
          <p:blipFill>
            <a:blip r:embed="rId4"/>
            <a:srcRect l="61823" t="15382" r="0" b="16381"/>
            <a:stretch/>
          </p:blipFill>
          <p:spPr>
            <a:xfrm>
              <a:off x="3581280" y="6227640"/>
              <a:ext cx="762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4434120" y="6250680"/>
              <a:ext cx="0" cy="46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31400"/>
            <a:ext cx="7597800" cy="93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4.wmf"/><Relationship Id="rId6" Type="http://schemas.openxmlformats.org/officeDocument/2006/relationships/image" Target="../media/image11.jpeg"/><Relationship Id="rId7" Type="http://schemas.openxmlformats.org/officeDocument/2006/relationships/image" Target="../media/image4.wmf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1844640"/>
            <a:chOff x="0" y="0"/>
            <a:chExt cx="9144000" cy="1844640"/>
          </a:xfrm>
        </p:grpSpPr>
        <p:pic>
          <p:nvPicPr>
            <p:cNvPr id="91" name="" descr=""/>
            <p:cNvPicPr/>
            <p:nvPr/>
          </p:nvPicPr>
          <p:blipFill>
            <a:blip r:embed="rId1">
              <a:lum bright="6000"/>
            </a:blip>
            <a:srcRect l="752" t="44654" r="68154" b="0"/>
            <a:stretch/>
          </p:blipFill>
          <p:spPr>
            <a:xfrm flipH="1" rot="10800000">
              <a:off x="0" y="0"/>
              <a:ext cx="45720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>
              <a:lum bright="6000"/>
            </a:blip>
            <a:srcRect l="68154" t="44654" r="1250" b="0"/>
            <a:stretch/>
          </p:blipFill>
          <p:spPr>
            <a:xfrm flipH="1" rot="10800000">
              <a:off x="4572000" y="0"/>
              <a:ext cx="4572000" cy="184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0" y="5013360"/>
            <a:ext cx="9144000" cy="1844640"/>
            <a:chOff x="0" y="5013360"/>
            <a:chExt cx="9144000" cy="1844640"/>
          </a:xfrm>
        </p:grpSpPr>
        <p:pic>
          <p:nvPicPr>
            <p:cNvPr id="94" name="" descr=""/>
            <p:cNvPicPr/>
            <p:nvPr/>
          </p:nvPicPr>
          <p:blipFill>
            <a:blip r:embed="rId3"/>
            <a:srcRect l="752" t="44654" r="68154" b="0"/>
            <a:stretch/>
          </p:blipFill>
          <p:spPr>
            <a:xfrm>
              <a:off x="0" y="5013360"/>
              <a:ext cx="45720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rcRect l="68154" t="44654" r="1250" b="0"/>
            <a:stretch/>
          </p:blipFill>
          <p:spPr>
            <a:xfrm>
              <a:off x="4572000" y="5013360"/>
              <a:ext cx="457200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solidFill>
            <a:srgbClr val="33993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280" y="5181480"/>
            <a:ext cx="5360400" cy="1518840"/>
            <a:chOff x="125280" y="5181480"/>
            <a:chExt cx="5360400" cy="1518840"/>
          </a:xfrm>
        </p:grpSpPr>
        <p:grpSp>
          <p:nvGrpSpPr>
            <p:cNvPr id="98" name=""/>
            <p:cNvGrpSpPr/>
            <p:nvPr/>
          </p:nvGrpSpPr>
          <p:grpSpPr>
            <a:xfrm>
              <a:off x="2557440" y="5308200"/>
              <a:ext cx="2928240" cy="1258920"/>
              <a:chOff x="2557440" y="5308200"/>
              <a:chExt cx="2928240" cy="1258920"/>
            </a:xfrm>
          </p:grpSpPr>
          <p:pic>
            <p:nvPicPr>
              <p:cNvPr id="99" name="" descr=""/>
              <p:cNvPicPr/>
              <p:nvPr/>
            </p:nvPicPr>
            <p:blipFill>
              <a:blip r:embed="rId5">
                <a:lum bright="-26000"/>
              </a:blip>
              <a:srcRect l="0" t="0" r="3764" b="0"/>
              <a:stretch/>
            </p:blipFill>
            <p:spPr>
              <a:xfrm>
                <a:off x="2557440" y="5308200"/>
                <a:ext cx="1020960" cy="12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>
                <a:biLevel thresh="50000"/>
                <a:lum bright="-64000"/>
              </a:blip>
              <a:srcRect l="0" t="0" r="890" b="0"/>
              <a:stretch/>
            </p:blipFill>
            <p:spPr>
              <a:xfrm>
                <a:off x="3576960" y="5525280"/>
                <a:ext cx="1908720" cy="74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1" name="" descr=""/>
            <p:cNvPicPr/>
            <p:nvPr/>
          </p:nvPicPr>
          <p:blipFill>
            <a:blip r:embed="rId7"/>
            <a:srcRect l="61823" t="15382" r="0" b="16381"/>
            <a:stretch/>
          </p:blipFill>
          <p:spPr>
            <a:xfrm>
              <a:off x="125280" y="5181480"/>
              <a:ext cx="1987920" cy="15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349360" y="5251680"/>
              <a:ext cx="0" cy="1375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486400" y="6019920"/>
            <a:ext cx="35053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66"/>
                </a:solidFill>
                <a:latin typeface="Impact"/>
              </a:rPr>
              <a:t>Knaul,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Impact"/>
              </a:rPr>
              <a:t>8 de diciembre del 2006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09480"/>
            <a:ext cx="82296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Impact"/>
              </a:rPr>
              <a:t> </a:t>
            </a: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Taller de consulta sobre Medición de la Calidad de Vida:</a:t>
            </a: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SALUD: QUE SABEMOS, </a:t>
            </a:r>
            <a:br>
              <a:rPr sz="3700"/>
            </a:b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QUE MÁS DEBERÍAMOS DE SABER Y COMO PODEMOS AVERIGUARL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gistry and bank of health and health establishment surveys for LAC – especially older surv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´Standardized´ questionnaires (similiar to LF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ink health surveys to other data b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cuestas de Ingreso y Gasto de los Hog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inks to administrativ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27000" y="160200"/>
            <a:ext cx="7288200" cy="103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Impact"/>
              </a:rPr>
              <a:t>More,  and more general requirement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9144000" cy="1844640"/>
            <a:chOff x="0" y="0"/>
            <a:chExt cx="9144000" cy="1844640"/>
          </a:xfrm>
        </p:grpSpPr>
        <p:pic>
          <p:nvPicPr>
            <p:cNvPr id="371" name="" descr=""/>
            <p:cNvPicPr/>
            <p:nvPr/>
          </p:nvPicPr>
          <p:blipFill>
            <a:blip r:embed="rId1">
              <a:lum bright="6000"/>
            </a:blip>
            <a:srcRect l="752" t="44654" r="68154" b="0"/>
            <a:stretch/>
          </p:blipFill>
          <p:spPr>
            <a:xfrm flipH="1" rot="10800000">
              <a:off x="0" y="0"/>
              <a:ext cx="45720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>
              <a:lum bright="6000"/>
            </a:blip>
            <a:srcRect l="68154" t="44654" r="1250" b="0"/>
            <a:stretch/>
          </p:blipFill>
          <p:spPr>
            <a:xfrm flipH="1" rot="10800000">
              <a:off x="4572000" y="0"/>
              <a:ext cx="4572000" cy="184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0" y="5013360"/>
            <a:ext cx="9144000" cy="1844640"/>
            <a:chOff x="0" y="5013360"/>
            <a:chExt cx="9144000" cy="1844640"/>
          </a:xfrm>
        </p:grpSpPr>
        <p:pic>
          <p:nvPicPr>
            <p:cNvPr id="374" name="" descr=""/>
            <p:cNvPicPr/>
            <p:nvPr/>
          </p:nvPicPr>
          <p:blipFill>
            <a:blip r:embed="rId3"/>
            <a:srcRect l="752" t="44654" r="68154" b="0"/>
            <a:stretch/>
          </p:blipFill>
          <p:spPr>
            <a:xfrm>
              <a:off x="0" y="5013360"/>
              <a:ext cx="45720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4"/>
            <a:srcRect l="68154" t="44654" r="1250" b="0"/>
            <a:stretch/>
          </p:blipFill>
          <p:spPr>
            <a:xfrm>
              <a:off x="4572000" y="5013360"/>
              <a:ext cx="457200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solidFill>
            <a:srgbClr val="33993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25280" y="5181480"/>
            <a:ext cx="5360400" cy="1518840"/>
            <a:chOff x="125280" y="5181480"/>
            <a:chExt cx="5360400" cy="1518840"/>
          </a:xfrm>
        </p:grpSpPr>
        <p:grpSp>
          <p:nvGrpSpPr>
            <p:cNvPr id="378" name=""/>
            <p:cNvGrpSpPr/>
            <p:nvPr/>
          </p:nvGrpSpPr>
          <p:grpSpPr>
            <a:xfrm>
              <a:off x="2557440" y="5308200"/>
              <a:ext cx="2928240" cy="1258920"/>
              <a:chOff x="2557440" y="5308200"/>
              <a:chExt cx="2928240" cy="1258920"/>
            </a:xfrm>
          </p:grpSpPr>
          <p:pic>
            <p:nvPicPr>
              <p:cNvPr id="379" name="" descr=""/>
              <p:cNvPicPr/>
              <p:nvPr/>
            </p:nvPicPr>
            <p:blipFill>
              <a:blip r:embed="rId5">
                <a:lum bright="-26000"/>
              </a:blip>
              <a:srcRect l="0" t="0" r="3764" b="0"/>
              <a:stretch/>
            </p:blipFill>
            <p:spPr>
              <a:xfrm>
                <a:off x="2557440" y="5308200"/>
                <a:ext cx="1020960" cy="12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6">
                <a:biLevel thresh="50000"/>
                <a:lum bright="-64000"/>
              </a:blip>
              <a:srcRect l="0" t="0" r="890" b="0"/>
              <a:stretch/>
            </p:blipFill>
            <p:spPr>
              <a:xfrm>
                <a:off x="3576960" y="5525280"/>
                <a:ext cx="1908720" cy="74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1" name="" descr=""/>
            <p:cNvPicPr/>
            <p:nvPr/>
          </p:nvPicPr>
          <p:blipFill>
            <a:blip r:embed="rId7"/>
            <a:srcRect l="61823" t="15382" r="0" b="16381"/>
            <a:stretch/>
          </p:blipFill>
          <p:spPr>
            <a:xfrm>
              <a:off x="125280" y="5181480"/>
              <a:ext cx="1987920" cy="15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349360" y="5251680"/>
              <a:ext cx="0" cy="1375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486400" y="6019920"/>
            <a:ext cx="35053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66"/>
                </a:solidFill>
                <a:latin typeface="Impact"/>
              </a:rPr>
              <a:t>Knaul,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Impact"/>
              </a:rPr>
              <a:t>8 de diciembre del 2006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1447920"/>
            <a:ext cx="723888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Impact"/>
              </a:rPr>
              <a:t> </a:t>
            </a: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Taller de consulta sobre Medición de la Calidad de Vida:</a:t>
            </a: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SALUD: QUE SABEMOS, </a:t>
            </a:r>
            <a:br>
              <a:rPr sz="3700"/>
            </a:b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QUE MÁS DEBERÍAMOS DE SABER Y COMO PODEMOS AVERIGUARLO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08000" y="189000"/>
            <a:ext cx="8028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CATASTROPHIC AND IMPOVERISHING HEALTH SPENDING: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 A GLOBAL PROBL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77376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990720"/>
            <a:ext cx="89917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 – high rates and increasingly important challenge for families as demographic and epidemiological transitions proce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ia: Van Doorslaer et 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seventy-eight million people or 2.7% of the total population, fall below the extreme poverty threshold of $1 per day after accounting for payments for health care. (11 COUNTRIES, 79% of the Asian population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represents a 14% increase in the rate of extreme pover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, Himmelstein, HEALTH AFFAIRS, 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cal problems contributed to 50% of all bankruptcy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ly, every year (WHO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 million households face catastrophic expendi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million households are pushed into poverty by the need to pay for servic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NNUAL, GLOBAL ESTIMATE MAY BE ?4? TIMES 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24000"/>
            <a:ext cx="9144000" cy="5661000"/>
          </a:xfrm>
          <a:prstGeom prst="rect">
            <a:avLst/>
          </a:prstGeom>
          <a:gradFill rotWithShape="0">
            <a:gsLst>
              <a:gs pos="0">
                <a:srgbClr val="bdbbe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719760"/>
            <a:ext cx="9144000" cy="165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620720"/>
            <a:ext cx="712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ahoma"/>
                <a:ea typeface="Arial"/>
              </a:rPr>
              <a:t>Relative  (more than 30% of disposable incom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1680" y="153972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cc"/>
                </a:solidFill>
                <a:latin typeface="Tahoma"/>
                <a:ea typeface="Arial"/>
              </a:rPr>
              <a:t>3.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01680" y="212580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Arial"/>
              </a:rPr>
              <a:t>3.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990800"/>
            <a:ext cx="6769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  <a:ea typeface="Arial"/>
              </a:rPr>
              <a:t>Absolute (pushed below pover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  <a:ea typeface="Arial"/>
              </a:rPr>
              <a:t>line or deeper into poverty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90720" y="4251240"/>
            <a:ext cx="3867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08000" y="189000"/>
            <a:ext cx="8028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MEXICO 2000(PRE-REFORM): THE INCIDENCE OF ABSOLUTE AND RELATIVE IMPOVERISHMENT FROM HEALTH SPENDING IS HIGH, PARTICULARLY AMONG THE UNINSURED AND THE POO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540160"/>
            <a:ext cx="8640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e5c"/>
                </a:solidFill>
                <a:latin typeface="Tahoma"/>
                <a:ea typeface="Arial"/>
              </a:rPr>
              <a:t>Absolute and/or relative:                                                     </a:t>
            </a:r>
            <a:r>
              <a:rPr b="1" lang="es-ES_tradnl" sz="2400" spc="-1" strike="noStrike">
                <a:solidFill>
                  <a:srgbClr val="3e3e5c"/>
                </a:solidFill>
                <a:latin typeface="Tahoma"/>
                <a:ea typeface="Arial"/>
              </a:rPr>
              <a:t>6.3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%,</a:t>
            </a:r>
            <a:r>
              <a:rPr b="1" lang="en-US" sz="2000" spc="-1" strike="noStrike">
                <a:solidFill>
                  <a:srgbClr val="3e3e5c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                  </a:t>
            </a:r>
            <a:r>
              <a:rPr b="1" lang="es-ES" sz="2000" spc="-1" strike="noStrike">
                <a:solidFill>
                  <a:srgbClr val="3e3e5c"/>
                </a:solidFill>
                <a:latin typeface="Tahoma"/>
                <a:ea typeface="Arial"/>
              </a:rPr>
              <a:t>1.5 million families per trimester =~ 4 million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3705120"/>
            <a:ext cx="882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3711600"/>
            <a:ext cx="302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Insur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7400" y="370836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e3e5c"/>
                </a:solidFill>
                <a:latin typeface="Tahoma"/>
                <a:ea typeface="Arial"/>
              </a:rPr>
              <a:t>2.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160880"/>
            <a:ext cx="302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Uninsur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7400" y="414324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e3e5c"/>
                </a:solidFill>
                <a:latin typeface="Tahoma"/>
                <a:ea typeface="Arial"/>
              </a:rPr>
              <a:t>9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360" y="4510080"/>
            <a:ext cx="882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4572000"/>
            <a:ext cx="668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Poorest quintile,</a:t>
            </a:r>
            <a:r>
              <a:rPr b="1" lang="en-US" sz="2800" spc="-1" strike="noStrike">
                <a:solidFill>
                  <a:srgbClr val="3e3e5c"/>
                </a:solidFill>
                <a:latin typeface="Tahoma"/>
                <a:ea typeface="Arial"/>
              </a:rPr>
              <a:t> </a:t>
            </a:r>
            <a:r>
              <a:rPr b="1" lang="en-US" sz="2000" spc="-1" strike="noStrike">
                <a:solidFill>
                  <a:srgbClr val="3e3e5c"/>
                </a:solidFill>
                <a:latin typeface="Arial"/>
                <a:ea typeface="Arial"/>
              </a:rPr>
              <a:t>910,000 families per trimester</a:t>
            </a:r>
            <a:r>
              <a:rPr b="1" lang="en-US" sz="2800" spc="-1" strike="noStrike">
                <a:solidFill>
                  <a:srgbClr val="3e3e5c"/>
                </a:solidFill>
                <a:latin typeface="Tahoma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586400"/>
            <a:ext cx="412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e3e5c"/>
                </a:solidFill>
                <a:latin typeface="Tahoma"/>
                <a:ea typeface="Arial"/>
              </a:rPr>
              <a:t>                   </a:t>
            </a:r>
            <a:r>
              <a:rPr b="1" lang="es-ES" sz="2400" spc="-1" strike="noStrike">
                <a:solidFill>
                  <a:srgbClr val="3e3e5c"/>
                </a:solidFill>
                <a:latin typeface="Tahoma"/>
                <a:ea typeface="Arial"/>
              </a:rPr>
              <a:t>19.6</a:t>
            </a:r>
            <a:r>
              <a:rPr b="1" lang="es-ES" sz="2800" spc="-1" strike="noStrike">
                <a:solidFill>
                  <a:srgbClr val="3e3e5c"/>
                </a:solidFill>
                <a:latin typeface="Tahoma"/>
                <a:ea typeface="Arial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967280"/>
            <a:ext cx="381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Quintiles 2,3,4 and 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7400" y="498312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e3e5c"/>
                </a:solidFill>
                <a:latin typeface="Tahoma"/>
                <a:ea typeface="Arial"/>
              </a:rPr>
              <a:t>3.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424480"/>
            <a:ext cx="8588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In the poorest quintile, 2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  <a:ea typeface="Arial"/>
              </a:rPr>
              <a:t>/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of families are below the poverty line and spend less than 30% of disposable income, and 22% cross the poverty line due to health spe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2548080"/>
            <a:ext cx="2376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677376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04920" y="6491160"/>
            <a:ext cx="228600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30%+, 20%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151600" cy="5516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5076720" cy="5516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afd7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75960"/>
            <a:ext cx="7929360" cy="10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AMONG POOR HOUSEHOLDS, IMPOVERISHING HEALTH EXPENDITURE IS CONCENTRATED IN MEDICINES AND AMBULATORY CARE;          AMONG THE RICH, IN HOSPITALIZATION</a:t>
            </a:r>
            <a:r>
              <a:rPr b="0" lang="es-MX" sz="2300" spc="-1" strike="noStrike">
                <a:solidFill>
                  <a:srgbClr val="ffffff"/>
                </a:solidFill>
                <a:latin typeface="Impact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108000" y="6522840"/>
            <a:ext cx="40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  <a:ea typeface="Arial"/>
              </a:rPr>
              <a:t>Source: Authors´ calculations based on  ENIGH, 2000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8520" y="3538440"/>
            <a:ext cx="222480" cy="2059200"/>
          </a:xfrm>
          <a:prstGeom prst="rect">
            <a:avLst/>
          </a:prstGeom>
          <a:solidFill>
            <a:srgbClr val="0033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440" y="5029200"/>
            <a:ext cx="239760" cy="568440"/>
          </a:xfrm>
          <a:prstGeom prst="rect">
            <a:avLst/>
          </a:prstGeom>
          <a:solidFill>
            <a:srgbClr val="3366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71720" y="2130480"/>
            <a:ext cx="226800" cy="3467160"/>
          </a:xfrm>
          <a:prstGeom prst="rect">
            <a:avLst/>
          </a:prstGeom>
          <a:solidFill>
            <a:srgbClr val="0066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4991040"/>
            <a:ext cx="239760" cy="606600"/>
          </a:xfrm>
          <a:prstGeom prst="rect">
            <a:avLst/>
          </a:prstGeom>
          <a:solidFill>
            <a:srgbClr val="66cc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4840" y="5543640"/>
            <a:ext cx="225720" cy="54000"/>
          </a:xfrm>
          <a:prstGeom prst="rect">
            <a:avLst/>
          </a:prstGeom>
          <a:solidFill>
            <a:srgbClr val="e33e03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7160" y="3936960"/>
            <a:ext cx="223920" cy="1660680"/>
          </a:xfrm>
          <a:prstGeom prst="rect">
            <a:avLst/>
          </a:prstGeom>
          <a:solidFill>
            <a:srgbClr val="0033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32520" y="3733920"/>
            <a:ext cx="239760" cy="1863720"/>
          </a:xfrm>
          <a:prstGeom prst="rect">
            <a:avLst/>
          </a:prstGeom>
          <a:solidFill>
            <a:srgbClr val="3366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3240" y="4195800"/>
            <a:ext cx="223920" cy="1401840"/>
          </a:xfrm>
          <a:prstGeom prst="rect">
            <a:avLst/>
          </a:prstGeom>
          <a:solidFill>
            <a:srgbClr val="0066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72280" y="4451400"/>
            <a:ext cx="243000" cy="1146240"/>
          </a:xfrm>
          <a:prstGeom prst="rect">
            <a:avLst/>
          </a:prstGeom>
          <a:solidFill>
            <a:srgbClr val="66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4911840"/>
            <a:ext cx="223920" cy="685800"/>
          </a:xfrm>
          <a:prstGeom prst="rect">
            <a:avLst/>
          </a:prstGeom>
          <a:solidFill>
            <a:srgbClr val="e33e0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07280" y="4568760"/>
            <a:ext cx="227160" cy="1028880"/>
          </a:xfrm>
          <a:prstGeom prst="rect">
            <a:avLst/>
          </a:prstGeom>
          <a:solidFill>
            <a:srgbClr val="0033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34440" y="1901880"/>
            <a:ext cx="237960" cy="3695760"/>
          </a:xfrm>
          <a:prstGeom prst="rect">
            <a:avLst/>
          </a:prstGeom>
          <a:solidFill>
            <a:srgbClr val="3366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5160" y="4340160"/>
            <a:ext cx="222120" cy="1257480"/>
          </a:xfrm>
          <a:prstGeom prst="rect">
            <a:avLst/>
          </a:prstGeom>
          <a:solidFill>
            <a:srgbClr val="0066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0" y="5110200"/>
            <a:ext cx="244440" cy="487440"/>
          </a:xfrm>
          <a:prstGeom prst="rect">
            <a:avLst/>
          </a:prstGeom>
          <a:solidFill>
            <a:srgbClr val="66cc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15400" y="5311800"/>
            <a:ext cx="222120" cy="285840"/>
          </a:xfrm>
          <a:prstGeom prst="rect">
            <a:avLst/>
          </a:prstGeom>
          <a:solidFill>
            <a:srgbClr val="e33e03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1960" y="2838600"/>
            <a:ext cx="71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3240" y="5591160"/>
            <a:ext cx="75042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01920" y="5532480"/>
            <a:ext cx="468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898800" y="5532480"/>
            <a:ext cx="32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15120" y="55324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912000" y="5532480"/>
            <a:ext cx="468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407440" y="5532480"/>
            <a:ext cx="32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360" y="5810400"/>
            <a:ext cx="109512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+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86840" y="5810400"/>
            <a:ext cx="19872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68960" y="5810400"/>
            <a:ext cx="29808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33800" y="5810400"/>
            <a:ext cx="33588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1840" y="5810400"/>
            <a:ext cx="161172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+ weal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628640"/>
            <a:ext cx="1906560" cy="3632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Medicin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852640"/>
            <a:ext cx="2139840" cy="363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Ambulatory ca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060640"/>
            <a:ext cx="1763640" cy="363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Matern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565360"/>
            <a:ext cx="1763640" cy="363240"/>
          </a:xfrm>
          <a:prstGeom prst="rect">
            <a:avLst/>
          </a:prstGeom>
          <a:solidFill>
            <a:srgbClr val="e33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O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547280" y="3141720"/>
            <a:ext cx="505080" cy="718920"/>
          </a:xfrm>
          <a:prstGeom prst="line">
            <a:avLst/>
          </a:prstGeom>
          <a:ln w="73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619280" y="2133720"/>
            <a:ext cx="4897440" cy="2879640"/>
          </a:xfrm>
          <a:prstGeom prst="line">
            <a:avLst/>
          </a:prstGeom>
          <a:ln w="73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331640" y="2060640"/>
            <a:ext cx="360360" cy="647640"/>
          </a:xfrm>
          <a:prstGeom prst="line">
            <a:avLst/>
          </a:prstGeom>
          <a:ln w="73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93960" y="3594240"/>
            <a:ext cx="223920" cy="2003400"/>
          </a:xfrm>
          <a:prstGeom prst="rect">
            <a:avLst/>
          </a:prstGeom>
          <a:solidFill>
            <a:srgbClr val="0033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17880" y="4226040"/>
            <a:ext cx="239760" cy="1371600"/>
          </a:xfrm>
          <a:prstGeom prst="rect">
            <a:avLst/>
          </a:prstGeom>
          <a:solidFill>
            <a:srgbClr val="3366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1840" y="3479760"/>
            <a:ext cx="222120" cy="2117880"/>
          </a:xfrm>
          <a:prstGeom prst="rect">
            <a:avLst/>
          </a:prstGeom>
          <a:solidFill>
            <a:srgbClr val="0066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57640" y="4568760"/>
            <a:ext cx="244440" cy="1028880"/>
          </a:xfrm>
          <a:prstGeom prst="rect">
            <a:avLst/>
          </a:prstGeom>
          <a:solidFill>
            <a:srgbClr val="66cc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3520" y="5345280"/>
            <a:ext cx="222480" cy="252360"/>
          </a:xfrm>
          <a:prstGeom prst="rect">
            <a:avLst/>
          </a:prstGeom>
          <a:solidFill>
            <a:srgbClr val="e33e03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29160" y="4451400"/>
            <a:ext cx="243000" cy="1146240"/>
          </a:xfrm>
          <a:prstGeom prst="rect">
            <a:avLst/>
          </a:prstGeom>
          <a:solidFill>
            <a:srgbClr val="3366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09920" y="3905280"/>
            <a:ext cx="222480" cy="1692360"/>
          </a:xfrm>
          <a:prstGeom prst="rect">
            <a:avLst/>
          </a:prstGeom>
          <a:solidFill>
            <a:srgbClr val="0033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78440" y="3564000"/>
            <a:ext cx="239400" cy="2033640"/>
          </a:xfrm>
          <a:prstGeom prst="rect">
            <a:avLst/>
          </a:prstGeom>
          <a:solidFill>
            <a:srgbClr val="0066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73600" y="4108320"/>
            <a:ext cx="228600" cy="1489320"/>
          </a:xfrm>
          <a:prstGeom prst="rect">
            <a:avLst/>
          </a:prstGeom>
          <a:solidFill>
            <a:srgbClr val="66cc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2200" y="5199120"/>
            <a:ext cx="237960" cy="398520"/>
          </a:xfrm>
          <a:prstGeom prst="rect">
            <a:avLst/>
          </a:prstGeom>
          <a:solidFill>
            <a:srgbClr val="e33e03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2133720"/>
            <a:ext cx="865080" cy="790560"/>
          </a:xfrm>
          <a:prstGeom prst="line">
            <a:avLst/>
          </a:prstGeom>
          <a:ln w="73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3240" y="2060640"/>
            <a:ext cx="1728720" cy="363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Hospitaliz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800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  <a:ea typeface="Arial"/>
              </a:rPr>
              <a:t>THE HIGHEST RATES OF RELATIVE AND ABSOLUTE IMPOVERISHMENT FROM HEALTH SPENDING ARE AMONG FAMILIES WITH OLDER ADULTS AND YOUNG CHILDREN, AND SINCE 2000 PARTICULARLY AMONG FAMILIES WITH OLDER ADUL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60440" y="2562120"/>
            <a:ext cx="3240" cy="32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6680" y="57783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6680" y="5245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6680" y="47102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6680" y="41767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6680" y="36306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6680" y="30970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6680" y="2562120"/>
            <a:ext cx="23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92120" y="5778360"/>
            <a:ext cx="6018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60440" y="5778000"/>
            <a:ext cx="32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47840" y="5778000"/>
            <a:ext cx="32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116160" y="57780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71880" y="5778000"/>
            <a:ext cx="32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29040" y="57780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88000" y="57780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553080" y="57780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294680" y="51303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4120" y="4892760"/>
            <a:ext cx="5153040" cy="681120"/>
          </a:xfrm>
          <a:custGeom>
            <a:avLst/>
            <a:gdLst/>
            <a:ahLst/>
            <a:rect l="l" t="t" r="r" b="b"/>
            <a:pathLst>
              <a:path w="607" h="60">
                <a:moveTo>
                  <a:pt x="0" y="41"/>
                </a:moveTo>
                <a:lnTo>
                  <a:pt x="101" y="30"/>
                </a:lnTo>
                <a:lnTo>
                  <a:pt x="202" y="0"/>
                </a:lnTo>
                <a:lnTo>
                  <a:pt x="304" y="30"/>
                </a:lnTo>
                <a:lnTo>
                  <a:pt x="405" y="40"/>
                </a:lnTo>
                <a:lnTo>
                  <a:pt x="506" y="50"/>
                </a:lnTo>
                <a:lnTo>
                  <a:pt x="607" y="60"/>
                </a:lnTo>
              </a:path>
            </a:pathLst>
          </a:custGeom>
          <a:noFill/>
          <a:ln w="66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4120" y="2778120"/>
            <a:ext cx="5153040" cy="2170080"/>
          </a:xfrm>
          <a:custGeom>
            <a:avLst/>
            <a:gdLst/>
            <a:ahLst/>
            <a:rect l="l" t="t" r="r" b="b"/>
            <a:pathLst>
              <a:path w="607" h="191">
                <a:moveTo>
                  <a:pt x="0" y="145"/>
                </a:moveTo>
                <a:lnTo>
                  <a:pt x="101" y="30"/>
                </a:lnTo>
                <a:lnTo>
                  <a:pt x="202" y="0"/>
                </a:lnTo>
                <a:lnTo>
                  <a:pt x="304" y="47"/>
                </a:lnTo>
                <a:lnTo>
                  <a:pt x="405" y="117"/>
                </a:lnTo>
                <a:lnTo>
                  <a:pt x="506" y="191"/>
                </a:lnTo>
                <a:lnTo>
                  <a:pt x="607" y="179"/>
                </a:lnTo>
              </a:path>
            </a:pathLst>
          </a:custGeom>
          <a:noFill/>
          <a:ln w="66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4120" y="4335480"/>
            <a:ext cx="5153040" cy="658800"/>
          </a:xfrm>
          <a:custGeom>
            <a:avLst/>
            <a:gdLst/>
            <a:ahLst/>
            <a:rect l="l" t="t" r="r" b="b"/>
            <a:pathLst>
              <a:path w="607" h="58">
                <a:moveTo>
                  <a:pt x="0" y="37"/>
                </a:moveTo>
                <a:lnTo>
                  <a:pt x="101" y="41"/>
                </a:lnTo>
                <a:lnTo>
                  <a:pt x="202" y="0"/>
                </a:lnTo>
                <a:lnTo>
                  <a:pt x="304" y="5"/>
                </a:lnTo>
                <a:lnTo>
                  <a:pt x="405" y="28"/>
                </a:lnTo>
                <a:lnTo>
                  <a:pt x="506" y="45"/>
                </a:lnTo>
                <a:lnTo>
                  <a:pt x="607" y="58"/>
                </a:lnTo>
              </a:path>
            </a:pathLst>
          </a:custGeom>
          <a:noFill/>
          <a:ln w="66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4120" y="3892680"/>
            <a:ext cx="5153040" cy="1352520"/>
          </a:xfrm>
          <a:custGeom>
            <a:avLst/>
            <a:gdLst/>
            <a:ahLst/>
            <a:rect l="l" t="t" r="r" b="b"/>
            <a:pathLst>
              <a:path w="607" h="119">
                <a:moveTo>
                  <a:pt x="0" y="56"/>
                </a:moveTo>
                <a:lnTo>
                  <a:pt x="101" y="55"/>
                </a:lnTo>
                <a:lnTo>
                  <a:pt x="202" y="0"/>
                </a:lnTo>
                <a:lnTo>
                  <a:pt x="304" y="24"/>
                </a:lnTo>
                <a:lnTo>
                  <a:pt x="405" y="96"/>
                </a:lnTo>
                <a:lnTo>
                  <a:pt x="506" y="119"/>
                </a:lnTo>
                <a:lnTo>
                  <a:pt x="607" y="111"/>
                </a:lnTo>
              </a:path>
            </a:pathLst>
          </a:custGeom>
          <a:noFill/>
          <a:ln w="66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22600" y="5062680"/>
            <a:ext cx="1285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60960" y="5232240"/>
            <a:ext cx="1270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5440" y="5278320"/>
            <a:ext cx="126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773000" y="528948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4120" y="535788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73000" y="535788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24120" y="528948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824120" y="5289480"/>
            <a:ext cx="32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24120" y="5357880"/>
            <a:ext cx="32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2600" y="5153040"/>
            <a:ext cx="128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630160" y="5163840"/>
            <a:ext cx="5220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5232240"/>
            <a:ext cx="511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630160" y="5232240"/>
            <a:ext cx="5220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682720" y="5163840"/>
            <a:ext cx="5112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82720" y="5163840"/>
            <a:ext cx="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82720" y="5232240"/>
            <a:ext cx="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1560" y="4813200"/>
            <a:ext cx="12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489120" y="482436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40240" y="4892760"/>
            <a:ext cx="489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489120" y="489276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40240" y="4824360"/>
            <a:ext cx="489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40240" y="4824360"/>
            <a:ext cx="14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40240" y="4892760"/>
            <a:ext cx="14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6640" y="5153040"/>
            <a:ext cx="1252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354200" y="516384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05320" y="5232240"/>
            <a:ext cx="493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354200" y="523224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05320" y="5163840"/>
            <a:ext cx="4932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05320" y="5163840"/>
            <a:ext cx="14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05320" y="5232240"/>
            <a:ext cx="14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02360" y="5267160"/>
            <a:ext cx="12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211360" y="5278320"/>
            <a:ext cx="493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61040" y="5346720"/>
            <a:ext cx="5220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211360" y="5346720"/>
            <a:ext cx="493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261040" y="5278320"/>
            <a:ext cx="5220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261040" y="5278320"/>
            <a:ext cx="32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61040" y="5346720"/>
            <a:ext cx="32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60960" y="5380200"/>
            <a:ext cx="127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070680" y="5392440"/>
            <a:ext cx="489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9640" y="5460840"/>
            <a:ext cx="511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070680" y="5460840"/>
            <a:ext cx="489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119640" y="5392440"/>
            <a:ext cx="5112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19640" y="5392440"/>
            <a:ext cx="32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9640" y="5460840"/>
            <a:ext cx="32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18480" y="5494320"/>
            <a:ext cx="126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6926040" y="550548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77160" y="5573880"/>
            <a:ext cx="5220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926040" y="557388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77160" y="5505480"/>
            <a:ext cx="5220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977160" y="5505480"/>
            <a:ext cx="14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77160" y="5573880"/>
            <a:ext cx="14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73360" y="4357800"/>
            <a:ext cx="95040" cy="125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30520" y="3051000"/>
            <a:ext cx="93600" cy="12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9480" y="2709720"/>
            <a:ext cx="91800" cy="12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4560" y="3244680"/>
            <a:ext cx="93600" cy="12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11720" y="4040280"/>
            <a:ext cx="93600" cy="125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70680" y="4881600"/>
            <a:ext cx="92160" cy="123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26400" y="4745160"/>
            <a:ext cx="95040" cy="123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65440" y="4676760"/>
            <a:ext cx="126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824120" y="4687920"/>
            <a:ext cx="32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24120" y="4756320"/>
            <a:ext cx="3240" cy="6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773000" y="475632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24120" y="475632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2600" y="4721400"/>
            <a:ext cx="128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682720" y="4732200"/>
            <a:ext cx="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82720" y="4800600"/>
            <a:ext cx="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630160" y="4800600"/>
            <a:ext cx="52200" cy="32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82720" y="4800600"/>
            <a:ext cx="51120" cy="32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81560" y="4255920"/>
            <a:ext cx="12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40240" y="426708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40240" y="433548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489120" y="433548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40240" y="4335480"/>
            <a:ext cx="489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46640" y="4313160"/>
            <a:ext cx="12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405320" y="432432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05320" y="4392720"/>
            <a:ext cx="1440" cy="6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354200" y="439272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05320" y="4392720"/>
            <a:ext cx="4932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02360" y="4573440"/>
            <a:ext cx="128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261040" y="4584600"/>
            <a:ext cx="32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61040" y="4653000"/>
            <a:ext cx="32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211360" y="4653000"/>
            <a:ext cx="49320" cy="32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61040" y="4653000"/>
            <a:ext cx="52200" cy="32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60960" y="4767120"/>
            <a:ext cx="12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9640" y="4846680"/>
            <a:ext cx="32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070680" y="4846680"/>
            <a:ext cx="489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9640" y="4846680"/>
            <a:ext cx="5112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18480" y="4915080"/>
            <a:ext cx="1267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977160" y="492588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77160" y="499428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926040" y="499428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77160" y="4994280"/>
            <a:ext cx="5220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4120" y="4516560"/>
            <a:ext cx="50760" cy="1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82720" y="4505400"/>
            <a:ext cx="51120" cy="11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40240" y="3881520"/>
            <a:ext cx="48960" cy="11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05320" y="4152960"/>
            <a:ext cx="49320" cy="1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61040" y="4971960"/>
            <a:ext cx="52200" cy="11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9640" y="5232240"/>
            <a:ext cx="51120" cy="12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77160" y="5141880"/>
            <a:ext cx="52200" cy="11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07360" y="5699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76040" y="51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28520" y="2482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2548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8048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3692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0452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6096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1884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7456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-325080" y="3355200"/>
            <a:ext cx="203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% of house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57560" y="2276640"/>
            <a:ext cx="24685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Older adults and child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639600" y="2460600"/>
            <a:ext cx="319320" cy="21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54040" y="3195720"/>
            <a:ext cx="2634480" cy="3682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hildren, no older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024080" y="3541680"/>
            <a:ext cx="1027080" cy="476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4724280"/>
            <a:ext cx="1406520" cy="916920"/>
          </a:xfrm>
          <a:prstGeom prst="rect">
            <a:avLst/>
          </a:prstGeom>
          <a:solidFill>
            <a:srgbClr val="80008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Neither children or older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19280" y="5013360"/>
            <a:ext cx="431640" cy="21600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33280" y="3933720"/>
            <a:ext cx="25718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older adults, no child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986000" y="4405320"/>
            <a:ext cx="963720" cy="14436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9280" y="633168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  <a:ea typeface="Arial"/>
              </a:rPr>
              <a:t>Source: Knaul F, Arreola H, Mendez O. Tendencias en la protección financiera en salud en México. México, D. F.: FUNSALUD,documento de trabajo, 2005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4760" y="1566720"/>
            <a:ext cx="8547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 of households with relative and/or absolute impoveris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4581360"/>
            <a:ext cx="1728720" cy="5032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3942" t="0" r="35417" b="7362"/>
          <a:stretch/>
        </p:blipFill>
        <p:spPr>
          <a:xfrm>
            <a:off x="0" y="1066680"/>
            <a:ext cx="4495680" cy="57913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267080" y="1066680"/>
            <a:ext cx="4876920" cy="5791320"/>
          </a:xfrm>
          <a:prstGeom prst="rect">
            <a:avLst/>
          </a:prstGeom>
          <a:solidFill>
            <a:srgbClr val="e33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7632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ffffff"/>
                </a:solidFill>
                <a:latin typeface="Impact"/>
                <a:ea typeface="Arial"/>
              </a:rPr>
              <a:t>Health (care) or impoverishment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1295280"/>
            <a:ext cx="4648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gle mother earning 2 m.s. on Oaxaca, both children develop a throat infection:  doctor visits and antibiotics &gt;30% of disposable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6-person family in Veracruz, below poverty line, agricultural work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1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randmother-Type II diabe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1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hild with canc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Impact"/>
                <a:ea typeface="Arial"/>
              </a:rPr>
              <a:t>How do families finance health events?: often by reducing investment in other basic needs and human capital, 2001</a:t>
            </a:r>
            <a:endParaRPr b="0" lang="en-US" sz="29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825480" y="1341360"/>
            <a:ext cx="7194960" cy="4719240"/>
            <a:chOff x="825480" y="1341360"/>
            <a:chExt cx="7194960" cy="4719240"/>
          </a:xfrm>
        </p:grpSpPr>
        <p:sp>
          <p:nvSpPr>
            <p:cNvPr id="331" name=""/>
            <p:cNvSpPr/>
            <p:nvPr/>
          </p:nvSpPr>
          <p:spPr>
            <a:xfrm>
              <a:off x="4787640" y="1522440"/>
              <a:ext cx="2769480" cy="204408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28880" y="2037600"/>
              <a:ext cx="3824640" cy="4023000"/>
            </a:xfrm>
            <a:prstGeom prst="ellipse">
              <a:avLst/>
            </a:prstGeom>
            <a:gradFill rotWithShape="0">
              <a:gsLst>
                <a:gs pos="0">
                  <a:srgbClr val="b7b7ff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08520" y="3962520"/>
              <a:ext cx="472320" cy="1041480"/>
            </a:xfrm>
            <a:prstGeom prst="rect">
              <a:avLst/>
            </a:prstGeom>
            <a:solidFill>
              <a:srgbClr val="d305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01120" y="3178080"/>
              <a:ext cx="471240" cy="1823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16280" y="4223520"/>
              <a:ext cx="472320" cy="747360"/>
            </a:xfrm>
            <a:prstGeom prst="rect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657720" y="5068080"/>
              <a:ext cx="47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iviend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49560" y="1783800"/>
              <a:ext cx="3114360" cy="432720"/>
            </a:xfrm>
            <a:custGeom>
              <a:avLst/>
              <a:gdLst/>
              <a:ahLst/>
              <a:rect l="l" t="t" r="r" b="b"/>
              <a:pathLst>
                <a:path w="20450" h="7810">
                  <a:moveTo>
                    <a:pt x="0" y="7623"/>
                  </a:moveTo>
                  <a:lnTo>
                    <a:pt x="20229" y="134"/>
                  </a:lnTo>
                  <a:lnTo>
                    <a:pt x="20299" y="321"/>
                  </a:lnTo>
                  <a:lnTo>
                    <a:pt x="70" y="7810"/>
                  </a:lnTo>
                  <a:lnTo>
                    <a:pt x="0" y="7623"/>
                  </a:lnTo>
                  <a:close/>
                  <a:moveTo>
                    <a:pt x="19597" y="9"/>
                  </a:moveTo>
                  <a:lnTo>
                    <a:pt x="20450" y="159"/>
                  </a:lnTo>
                  <a:lnTo>
                    <a:pt x="19900" y="828"/>
                  </a:lnTo>
                  <a:cubicBezTo>
                    <a:pt x="19865" y="870"/>
                    <a:pt x="19802" y="876"/>
                    <a:pt x="19759" y="841"/>
                  </a:cubicBezTo>
                  <a:cubicBezTo>
                    <a:pt x="19717" y="806"/>
                    <a:pt x="19710" y="743"/>
                    <a:pt x="19745" y="701"/>
                  </a:cubicBezTo>
                  <a:lnTo>
                    <a:pt x="20187" y="164"/>
                  </a:lnTo>
                  <a:lnTo>
                    <a:pt x="20247" y="326"/>
                  </a:lnTo>
                  <a:lnTo>
                    <a:pt x="19562" y="206"/>
                  </a:lnTo>
                  <a:cubicBezTo>
                    <a:pt x="19508" y="197"/>
                    <a:pt x="19472" y="145"/>
                    <a:pt x="19481" y="90"/>
                  </a:cubicBezTo>
                  <a:cubicBezTo>
                    <a:pt x="19491" y="36"/>
                    <a:pt x="19543" y="0"/>
                    <a:pt x="19597" y="9"/>
                  </a:cubicBezTo>
                  <a:close/>
                </a:path>
              </a:pathLst>
            </a:custGeom>
            <a:solidFill>
              <a:srgbClr val="cc99ff"/>
            </a:solidFill>
            <a:ln w="1440">
              <a:solidFill>
                <a:srgbClr val="cc99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23320" y="3529800"/>
              <a:ext cx="1401120" cy="1766880"/>
            </a:xfrm>
            <a:custGeom>
              <a:avLst/>
              <a:gdLst/>
              <a:ahLst/>
              <a:rect l="l" t="t" r="r" b="b"/>
              <a:pathLst>
                <a:path w="1139" h="1174">
                  <a:moveTo>
                    <a:pt x="0" y="1161"/>
                  </a:moveTo>
                  <a:lnTo>
                    <a:pt x="1098" y="28"/>
                  </a:lnTo>
                  <a:lnTo>
                    <a:pt x="1112" y="41"/>
                  </a:lnTo>
                  <a:lnTo>
                    <a:pt x="14" y="1174"/>
                  </a:lnTo>
                  <a:lnTo>
                    <a:pt x="0" y="1161"/>
                  </a:lnTo>
                  <a:close/>
                  <a:moveTo>
                    <a:pt x="1077" y="21"/>
                  </a:moveTo>
                  <a:lnTo>
                    <a:pt x="1139" y="0"/>
                  </a:lnTo>
                  <a:lnTo>
                    <a:pt x="1119" y="62"/>
                  </a:lnTo>
                  <a:lnTo>
                    <a:pt x="1077" y="21"/>
                  </a:lnTo>
                  <a:close/>
                </a:path>
              </a:pathLst>
            </a:custGeom>
            <a:solidFill>
              <a:srgbClr val="cc99ff"/>
            </a:solidFill>
            <a:ln w="1440">
              <a:solidFill>
                <a:srgbClr val="cc99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0920" y="2100960"/>
              <a:ext cx="12092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900" spc="-1" strike="noStrike">
                  <a:solidFill>
                    <a:srgbClr val="6600ff"/>
                  </a:solidFill>
                  <a:latin typeface="Arial"/>
                </a:rPr>
                <a:t>ALL</a:t>
              </a:r>
              <a:endParaRPr b="0" lang="en-US" sz="4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17920" y="1341360"/>
              <a:ext cx="28054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900" spc="-1" strike="noStrike">
                  <a:solidFill>
                    <a:srgbClr val="6600ff"/>
                  </a:solidFill>
                  <a:latin typeface="Arial"/>
                </a:rPr>
                <a:t>Poorest 20%</a:t>
              </a:r>
              <a:r>
                <a:rPr b="0" lang="es-ES" sz="2900" spc="-1" strike="noStrike">
                  <a:solidFill>
                    <a:srgbClr val="6600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94400" y="4392720"/>
              <a:ext cx="263520" cy="264960"/>
            </a:xfrm>
            <a:prstGeom prst="rect">
              <a:avLst/>
            </a:prstGeom>
            <a:solidFill>
              <a:srgbClr val="d305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94400" y="4021920"/>
              <a:ext cx="263520" cy="264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94400" y="4763520"/>
              <a:ext cx="263520" cy="264960"/>
            </a:xfrm>
            <a:prstGeom prst="rect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64280" y="5134680"/>
              <a:ext cx="593280" cy="325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9600" y="4015080"/>
              <a:ext cx="729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92560" y="4385880"/>
              <a:ext cx="1067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HOUSING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82480" y="4762440"/>
              <a:ext cx="1299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EDUC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92560" y="5180040"/>
              <a:ext cx="20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NY OF THE ABOV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39920" y="2910240"/>
              <a:ext cx="613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18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7520" y="3700080"/>
              <a:ext cx="613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2920" y="3968280"/>
              <a:ext cx="4932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70480" y="2473200"/>
              <a:ext cx="4932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70400" y="2096640"/>
              <a:ext cx="613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18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4680" y="1956600"/>
              <a:ext cx="613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91000" y="2407320"/>
              <a:ext cx="365400" cy="821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14000" y="2220480"/>
              <a:ext cx="366480" cy="1008360"/>
            </a:xfrm>
            <a:prstGeom prst="rect">
              <a:avLst/>
            </a:prstGeom>
            <a:solidFill>
              <a:srgbClr val="d305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04320" y="2781000"/>
              <a:ext cx="335160" cy="447840"/>
            </a:xfrm>
            <a:prstGeom prst="rect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6680" y="2656080"/>
              <a:ext cx="589320" cy="234252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99960" y="1654200"/>
              <a:ext cx="399960" cy="15746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36400" y="2041920"/>
              <a:ext cx="714240" cy="41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1040" y="3432240"/>
              <a:ext cx="919800" cy="53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9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042920" y="6237360"/>
            <a:ext cx="403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Source: Authors´ calculations based on  ENAGS, 2001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73612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w ca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measurement and definitio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issues be improv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termina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excessive, catastrophic and impoverishing health expenditure among famil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hat is the effect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 on poverty, human capital and family well-being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(eg. Gertler and Gruber) at the micro level and, o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irms, labor markets, growth and competitivenes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t the macro le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s ther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mpact/a causal relationship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between the changes in fairness of finance and the efforts to achieve financial protection that are proposed i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eforms and polici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27000" y="-76320"/>
            <a:ext cx="7288200" cy="103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Impact"/>
              </a:rPr>
              <a:t>Future resear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6320" y="995400"/>
            <a:ext cx="914400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ing and correcting variation across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 spending, total spending and family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ng periodicity and the timeframe of impover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per year; number of time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per week, month, tri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ing changes over time – longitud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ding and improving concepts and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of disposable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ly defining ´catastrophic´ and deepening impover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porating income losses due to il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es of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ind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-76320"/>
            <a:ext cx="9144000" cy="105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Impact"/>
              </a:rPr>
              <a:t>Methodological and data-related challenge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2:38:17Z</dcterms:created>
  <dc:creator> </dc:creator>
  <dc:description/>
  <dc:language>en-US</dc:language>
  <cp:lastModifiedBy>PRESENTATION</cp:lastModifiedBy>
  <dcterms:modified xsi:type="dcterms:W3CDTF">2006-12-08T16:56:01Z</dcterms:modified>
  <cp:revision>166</cp:revision>
  <dc:subject/>
  <dc:title>Slide 1</dc:title>
</cp:coreProperties>
</file>