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F86-C497-4437-8C82-0420FE01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C628-4076-49A7-9D78-2EE88801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6E5D-F5A4-41A3-8297-9520FA44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7ED6-EF80-4632-999A-2FC75F50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90D0-2B7E-4C41-A605-B30EBF82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68F8-1687-41AD-8C9D-BBD65775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A622-3DA7-4160-B8C0-B0297540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CF6A-08D0-4C81-8130-12BFDD52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EC05-93F5-4C67-84A2-FFE9E9AA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0EA6-0A72-4579-A873-0F2C136D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8D9D-C38B-4AC8-BD87-40D69FCC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A131-D408-41D1-A157-9F37A6A9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8AFE-FE6D-4DFC-AFFD-C3AA2AC4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D140-0360-444A-AF89-99A74E18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3FF1-CF2B-44F3-AFCC-D7D43ACD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918D-25CF-4935-93DE-FB113982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A07F-BB05-468B-851E-F3BF7814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E8B3-2713-4B7B-AF59-7F26ADE6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B184-D1B5-47AB-933F-6201BF1A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E964-AD1C-4BDA-B0FE-76AEE4B6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208D-E6B3-4C0C-8D92-065667C1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43F8-F906-46A2-A8C4-2CB54084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51D4-64BD-4AFD-BF62-AE532D86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1E26-E38B-480A-8173-31884136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0791"/>
            </a:gs>
            <a:gs pos="50000">
              <a:srgbClr val="000099"/>
            </a:gs>
            <a:gs pos="100000">
              <a:srgbClr val="1b079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435E-418C-4AB1-A1E1-BFA9634DEE27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1042"/>
          <p:cNvSpPr/>
          <p:nvPr/>
        </p:nvSpPr>
        <p:spPr>
          <a:xfrm flipV="1" rot="10800000">
            <a:off x="-360" y="530280"/>
            <a:ext cx="9140760" cy="252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80b3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Text Box 1043"/>
          <p:cNvSpPr/>
          <p:nvPr/>
        </p:nvSpPr>
        <p:spPr>
          <a:xfrm>
            <a:off x="713520" y="11448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00"/>
                </a:solidFill>
                <a:latin typeface="Arial"/>
              </a:rPr>
              <a:t>Economic Advisory – PPP Unit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Text Box 1045"/>
          <p:cNvSpPr/>
          <p:nvPr/>
        </p:nvSpPr>
        <p:spPr>
          <a:xfrm>
            <a:off x="6477120" y="0"/>
            <a:ext cx="2666880" cy="5335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" name="Picture 1046" descr="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47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0791"/>
            </a:gs>
            <a:gs pos="50000">
              <a:srgbClr val="000099"/>
            </a:gs>
            <a:gs pos="100000">
              <a:srgbClr val="1b079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42"/>
          <p:cNvSpPr/>
          <p:nvPr/>
        </p:nvSpPr>
        <p:spPr>
          <a:xfrm flipV="1" rot="10800000">
            <a:off x="-360" y="530280"/>
            <a:ext cx="9140760" cy="252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80b3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Text Box 1043"/>
          <p:cNvSpPr/>
          <p:nvPr/>
        </p:nvSpPr>
        <p:spPr>
          <a:xfrm>
            <a:off x="762120" y="114480"/>
            <a:ext cx="36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00"/>
                </a:solidFill>
                <a:latin typeface="Arial"/>
              </a:rPr>
              <a:t>Economic Advisory  – PPP Uni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Text Box 1045"/>
          <p:cNvSpPr/>
          <p:nvPr/>
        </p:nvSpPr>
        <p:spPr>
          <a:xfrm>
            <a:off x="6477120" y="0"/>
            <a:ext cx="2666880" cy="5335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Picture 1046" descr="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479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4CCA-BBF7-4CA5-9543-9A0C8AE2475E}" type="slidenum">
              <a:rPr b="0" lang="pt-B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F241-9FB2-4CA2-BF7F-56C2BC5D2C5A}" type="slidenum">
              <a:rPr b="0" lang="pt-B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2472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PP Contracts in Brazil</a:t>
            </a:r>
            <a:br>
              <a:rPr sz="4400"/>
            </a:b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99680" y="371448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Isaac Averbuch </a:t>
            </a: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Madrid, October, 2009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E5EC-2FD1-47FC-B198-A2F42F75659D}" type="slidenum">
              <a:rPr b="0" lang="pt-B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380880" y="1676520"/>
            <a:ext cx="8534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>
              <a:lnSpc>
                <a:spcPct val="120000"/>
              </a:lnSpc>
              <a:spcAft>
                <a:spcPts val="1349"/>
              </a:spcAft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re’s a legal framework which emphasizes the transparency along the process (before and along the contract lifetime);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40" indent="-3240">
              <a:lnSpc>
                <a:spcPct val="80000"/>
              </a:lnSpc>
              <a:spcAft>
                <a:spcPts val="1125"/>
              </a:spcAft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40" indent="-3240">
              <a:lnSpc>
                <a:spcPct val="120000"/>
              </a:lnSpc>
              <a:spcAft>
                <a:spcPts val="1349"/>
              </a:spcAft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legislation provides also some definitions about fiscal balance, including States and Municipalities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40" indent="-3240">
              <a:lnSpc>
                <a:spcPct val="120000"/>
              </a:lnSpc>
              <a:spcAft>
                <a:spcPts val="1349"/>
              </a:spcAft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40" indent="-3240">
              <a:lnSpc>
                <a:spcPct val="120000"/>
              </a:lnSpc>
              <a:spcAft>
                <a:spcPts val="1349"/>
              </a:spcAft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t was created a Federal Guarantee Fund to offer more liability to the entrepreneurs (Federal level only). 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9680" y="7855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he Brazilian Legislation 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E9CC-CB39-4C4B-A565-76AE0007BEDC}" type="slidenum">
              <a:rPr b="0" lang="pt-B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324000" y="1557360"/>
            <a:ext cx="8534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>
              <a:lnSpc>
                <a:spcPct val="120000"/>
              </a:lnSpc>
              <a:spcAft>
                <a:spcPts val="1349"/>
              </a:spcAft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legislation addresses all these points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40" indent="-3240">
              <a:lnSpc>
                <a:spcPct val="80000"/>
              </a:lnSpc>
              <a:spcAft>
                <a:spcPts val="1349"/>
              </a:spcAft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buClr>
                <a:srgbClr val="ffff00"/>
              </a:buClr>
              <a:buFont typeface="Arial"/>
              <a:buChar char="•"/>
              <a:tabLst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lection of projects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buClr>
                <a:srgbClr val="ffff00"/>
              </a:buClr>
              <a:buFont typeface="Arial"/>
              <a:buChar char="•"/>
              <a:tabLst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steps until the bidding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buClr>
                <a:srgbClr val="ffff00"/>
              </a:buClr>
              <a:buFont typeface="Arial"/>
              <a:buChar char="•"/>
              <a:tabLst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ules for the contracts (amount, term, clauses...)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buClr>
                <a:srgbClr val="ffff00"/>
              </a:buClr>
              <a:buFont typeface="Arial"/>
              <a:buChar char="•"/>
              <a:tabLst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llow up after the formal contract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buClr>
                <a:srgbClr val="ffff00"/>
              </a:buClr>
              <a:buFont typeface="Arial"/>
              <a:buChar char="•"/>
              <a:tabLst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uarante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buClr>
                <a:srgbClr val="ffff00"/>
              </a:buClr>
              <a:buFont typeface="Arial"/>
              <a:buChar char="•"/>
              <a:tabLst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Division of risk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buClr>
                <a:srgbClr val="ffff00"/>
              </a:buClr>
              <a:buFont typeface="Arial"/>
              <a:buChar char="•"/>
              <a:tabLst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olution of contrac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buClr>
                <a:srgbClr val="ffff00"/>
              </a:buClr>
              <a:buFont typeface="Arial"/>
              <a:buChar char="•"/>
              <a:tabLst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lling for proposal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tabLst>
                <a:tab algn="l" pos="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9680" y="7855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he Brazilian Legislation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C4E5-8E31-4976-BE93-80F53B1C0AFF}" type="slidenum">
              <a:rPr b="0" lang="pt-B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324000" y="1557360"/>
            <a:ext cx="8712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>
              <a:lnSpc>
                <a:spcPct val="120000"/>
              </a:lnSpc>
              <a:spcAft>
                <a:spcPts val="1349"/>
              </a:spcAft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legislation addresses all these points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40" indent="-3240">
              <a:lnSpc>
                <a:spcPct val="50000"/>
              </a:lnSpc>
              <a:spcAft>
                <a:spcPts val="1349"/>
              </a:spcAft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buClr>
                <a:srgbClr val="ffff00"/>
              </a:buClr>
              <a:buFont typeface="Arial"/>
              <a:buChar char="•"/>
              <a:tabLst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scal restrictions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buClr>
                <a:srgbClr val="ffff00"/>
              </a:buClr>
              <a:buFont typeface="Arial"/>
              <a:buChar char="•"/>
              <a:tabLst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ssibility of arbitrage in disputes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buClr>
                <a:srgbClr val="ffff00"/>
              </a:buClr>
              <a:buFont typeface="Arial"/>
              <a:buChar char="•"/>
              <a:tabLst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Step in rights for financing institutions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buClr>
                <a:srgbClr val="ffff00"/>
              </a:buClr>
              <a:buFont typeface="Arial"/>
              <a:buChar char="•"/>
              <a:tabLst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balancing of contracts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buClr>
                <a:srgbClr val="ffff00"/>
              </a:buClr>
              <a:buFont typeface="Arial"/>
              <a:buChar char="•"/>
              <a:tabLst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 of revenu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buClr>
                <a:srgbClr val="ffff00"/>
              </a:buClr>
              <a:buFont typeface="Arial"/>
              <a:buChar char="•"/>
              <a:tabLst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Good degree of freedom for the entrepreneur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buClr>
                <a:srgbClr val="ffff00"/>
              </a:buClr>
              <a:buFont typeface="Arial"/>
              <a:buChar char="•"/>
              <a:tabLst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ules for payment by the Government (output based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buClr>
                <a:srgbClr val="ffff00"/>
              </a:buClr>
              <a:buFont typeface="Arial"/>
              <a:buChar char="•"/>
              <a:tabLst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version of investments by the end of contrac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tabLst>
                <a:tab algn="l" pos="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9680" y="7855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he Brazilian Legislation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E190-2C7D-44C9-BBA3-50FBE8394C96}" type="slidenum">
              <a:rPr b="0" lang="pt-B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971640" y="2133720"/>
            <a:ext cx="734544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>
              <a:lnSpc>
                <a:spcPct val="120000"/>
              </a:lnSpc>
              <a:spcAft>
                <a:spcPts val="1349"/>
              </a:spcAft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en with very few contracts, the PPP legislation and studies brought some good results for the Brazilian Government and society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120000"/>
              </a:lnSpc>
              <a:spcAft>
                <a:spcPts val="1349"/>
              </a:spcAft>
              <a:tabLst>
                <a:tab algn="l" pos="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tabLst>
                <a:tab algn="l" pos="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9680" y="7855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Results by now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971640" y="4292640"/>
            <a:ext cx="75596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The case of “Seven Lots of Highways”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The modernization of irrigation projec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3212-47F9-4CA8-AADB-82D52E5E5D40}" type="slidenum">
              <a:rPr b="0" lang="pt-B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55640" y="1700280"/>
            <a:ext cx="76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80" indent="0" algn="just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To change the wrong perception of some important policy makers about the “excessive complexity” of PPPs, which “take so long time” to a project become real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880" indent="0" algn="just">
              <a:lnSpc>
                <a:spcPct val="11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00"/>
              </a:solidFill>
              <a:latin typeface="Arial"/>
            </a:endParaRPr>
          </a:p>
          <a:p>
            <a:pPr marL="2880" indent="0" algn="just">
              <a:lnSpc>
                <a:spcPct val="11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971640" y="692280"/>
            <a:ext cx="7493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00"/>
                </a:solidFill>
                <a:latin typeface="Arial"/>
              </a:rPr>
              <a:t>Challenges for the future</a:t>
            </a:r>
            <a:endParaRPr b="1" lang="en-US" sz="29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755640" y="3573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To implement, in concrete, the legal determinations about selection of projects – consolidate the institutions;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755640" y="4941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To improve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the coordination among the Government agents involved in the PPP projects – it means goals and procedur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F56B-BC19-4A29-AD25-B40C8337D2BF}" type="slidenum">
              <a:rPr b="0" lang="pt-B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55280" y="1700280"/>
            <a:ext cx="79945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just">
              <a:lnSpc>
                <a:spcPct val="11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To improve the general knowledge about the PPPs as a good public management tool;</a:t>
            </a:r>
            <a:r>
              <a:rPr b="1" lang="pt-BR" sz="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971640" y="692280"/>
            <a:ext cx="7493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00"/>
                </a:solidFill>
                <a:latin typeface="Arial"/>
              </a:rPr>
              <a:t>Challenges for the future</a:t>
            </a:r>
            <a:endParaRPr b="1" lang="en-US" sz="29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684360" y="321300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To remove political resistances (legitimate or not) – including the fear of the word “private”;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755640" y="450864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To improve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evaluation procedures and the relationship with the control institution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D24A-8DB0-4B6A-AAD8-CF883F877765}" type="slidenum">
              <a:rPr b="0" lang="pt-B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8100" spc="-1" strike="noStrike">
                <a:solidFill>
                  <a:srgbClr val="ffff00"/>
                </a:solidFill>
                <a:latin typeface="Arial"/>
                <a:ea typeface="Arial"/>
              </a:rPr>
              <a:t>¡</a:t>
            </a:r>
            <a:r>
              <a:rPr b="0" i="1" lang="pt-BR" sz="8100" spc="-1" strike="noStrike">
                <a:solidFill>
                  <a:srgbClr val="ffff00"/>
                </a:solidFill>
                <a:latin typeface="Arial"/>
              </a:rPr>
              <a:t>Gracias!</a:t>
            </a:r>
            <a:endParaRPr b="1" lang="en-US" sz="81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isaac.averbuch@planejamento.gov.b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+55-61-2020-4683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15:38:35Z</dcterms:created>
  <dc:creator>martim.cavalcanti</dc:creator>
  <dc:description/>
  <dc:language>en-US</dc:language>
  <cp:lastModifiedBy>dennisb</cp:lastModifiedBy>
  <dcterms:modified xsi:type="dcterms:W3CDTF">2010-08-02T18:35:05Z</dcterms:modified>
  <cp:revision>356</cp:revision>
  <dc:subject/>
  <dc:title>Parcerias Público Privada – Aspectos Gerais</dc:title>
</cp:coreProperties>
</file>