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4A3-91CD-437C-936E-BFFC6855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478-A075-451D-BE6B-AA08CDA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ACA-665F-4249-8A84-0299F83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99B-2E14-4508-9DD3-9269FCA4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E6C1-3237-4DF6-970A-440E4F8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110-56F6-4574-858E-FA28975D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C164-5B17-45DF-9B14-1FEAB016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9BAF-A365-42B5-89F8-8749F37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F4B-FA0C-49FE-9257-7B483397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F4F8-DF47-4B4D-8E5B-64C64DF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B9B3-69B1-402B-BDEE-9E7B591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1C0-4162-468F-BA64-51C3451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0A17-8786-43C9-96A6-8776112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7CF-2985-49CF-A5E8-82DC74A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FD5-D4F8-432E-88A5-FE6C60A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793F-F0A9-4E1C-A2AC-71CE377A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DBC7-9090-4AB0-890B-22105045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D15-168D-4035-92DA-3DBC5DDB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1C9-6734-4849-BBA8-A07DDB2E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4F3-A65A-4F9A-A377-F13FF5E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B10-E16E-47DC-88AB-33851D9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35D-DB0D-43E4-B615-34E0992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43F-969C-47DB-8D24-B194903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473-6991-439D-83BF-FD9A5D7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791"/>
            </a:gs>
            <a:gs pos="50000">
              <a:srgbClr val="000099"/>
            </a:gs>
            <a:gs pos="100000">
              <a:srgbClr val="1b079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9D7-CAE4-4CF2-A14C-44D65F6699F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1042"/>
          <p:cNvSpPr/>
          <p:nvPr/>
        </p:nvSpPr>
        <p:spPr>
          <a:xfrm flipV="1" rot="10800000">
            <a:off x="-360" y="530280"/>
            <a:ext cx="9140760" cy="252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80b3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Text Box 1043"/>
          <p:cNvSpPr/>
          <p:nvPr/>
        </p:nvSpPr>
        <p:spPr>
          <a:xfrm>
            <a:off x="713520" y="114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Economic Advisory – PPP Unit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Text Box 1045"/>
          <p:cNvSpPr/>
          <p:nvPr/>
        </p:nvSpPr>
        <p:spPr>
          <a:xfrm>
            <a:off x="6477120" y="0"/>
            <a:ext cx="2666880" cy="533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" name="Picture 1046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0791"/>
            </a:gs>
            <a:gs pos="50000">
              <a:srgbClr val="000099"/>
            </a:gs>
            <a:gs pos="100000">
              <a:srgbClr val="1b079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42"/>
          <p:cNvSpPr/>
          <p:nvPr/>
        </p:nvSpPr>
        <p:spPr>
          <a:xfrm flipV="1" rot="10800000">
            <a:off x="-360" y="530280"/>
            <a:ext cx="9140760" cy="252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80b3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Text Box 1043"/>
          <p:cNvSpPr/>
          <p:nvPr/>
        </p:nvSpPr>
        <p:spPr>
          <a:xfrm>
            <a:off x="762120" y="114480"/>
            <a:ext cx="36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00"/>
                </a:solidFill>
                <a:latin typeface="Arial"/>
              </a:rPr>
              <a:t>Economic Advisory  – PPP Uni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Text Box 1045"/>
          <p:cNvSpPr/>
          <p:nvPr/>
        </p:nvSpPr>
        <p:spPr>
          <a:xfrm>
            <a:off x="6477120" y="0"/>
            <a:ext cx="2666880" cy="533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1046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47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929-0EEC-4026-A1F3-90027027C5F6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E7F-D05C-4EDD-89DF-5CEDA6D2F64F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PP Contracts in Brazil</a:t>
            </a:r>
            <a:br>
              <a:rPr sz="4400"/>
            </a:b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9680" y="37144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Isaac Averbuch 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adrid, October, 2009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5E10-A3D0-4787-9730-A89E767D7642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8088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re’s a legal framework which emphasizes the transparency along the process (before and along the contract lifetime);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80000"/>
              </a:lnSpc>
              <a:spcAft>
                <a:spcPts val="1125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provides also some definitions about fiscal balance, including States and Municipalitie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was created a Federal Guarantee Fund to offer more liability to the entrepreneurs (Federal level only).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 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BD4-7727-4D15-8F24-4B22ED7EEEA6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24000" y="1557360"/>
            <a:ext cx="8534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addresses all these points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tion of project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teps until the bidding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ules for the contracts (amount, term, clauses...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llow up after the formal contract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uarante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ivision of risk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lution of contra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lling for proposa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B80-3286-4A9F-99DD-84EE99D86EB5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4000" y="1557360"/>
            <a:ext cx="8712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egislation addresses all these points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40" indent="-3240">
              <a:lnSpc>
                <a:spcPct val="5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scal restriction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sibility of arbitrage in dispute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tep in rights for financing institution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balancing of contract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 of revenu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Good degree of freedom for the entrepreneu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s for payment by the Government (output base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buClr>
                <a:srgbClr val="ffff00"/>
              </a:buClr>
              <a:buFont typeface="Arial"/>
              <a:buChar char="•"/>
              <a:tabLst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version of investments by the end of contrac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Brazilian Legisl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F7E7-E232-41C9-AA53-E98EAEF51CF3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2133720"/>
            <a:ext cx="73454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n with very few contracts, the PPP legislation and studies brought some good results for the Brazilian Government and society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31800" indent="-95400">
              <a:lnSpc>
                <a:spcPct val="80000"/>
              </a:lnSpc>
              <a:spcAft>
                <a:spcPts val="1349"/>
              </a:spcAft>
              <a:tabLst>
                <a:tab algn="l" pos="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sults by now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4292640"/>
            <a:ext cx="7559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he case of “Seven Lots of Highways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he modernization of irrigation proje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0CB6-BB2C-4ED9-815E-27F033A4FE1D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80" indent="0" algn="just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change the wrong perception of some important policy makers about the “excessive complexity” of PPPs, which “take so long time” to a project become re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00"/>
              </a:solidFill>
              <a:latin typeface="Arial"/>
            </a:endParaRPr>
          </a:p>
          <a:p>
            <a:pPr marL="288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49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Challenges for the future</a:t>
            </a:r>
            <a:endParaRPr b="1" lang="en-US" sz="29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5564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lement, in concrete, the legal determinations about selection of projects – consolidate the institutions;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5564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he coordination among the Government agents involved in the PPP projects – it means goals and procedu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ço Reservado para Número de Slid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BE9-4B9B-47C0-A95B-CC395F22CC64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7994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1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 the general knowledge about the PPPs as a good public management tool;</a:t>
            </a:r>
            <a:r>
              <a:rPr b="1" lang="pt-BR" sz="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49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Challenges for the future</a:t>
            </a:r>
            <a:endParaRPr b="1" lang="en-US" sz="29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4360" y="3213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remove political resistances (legitimate or not) – including the fear of the word “private”;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55640" y="450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o improve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ion procedures and the relationship with the control institu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9A45-24FF-4B5A-BB83-8E400CDF8E3D}" type="slidenum">
              <a:rPr b="0" lang="pt-B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100" spc="-1" strike="noStrike">
                <a:solidFill>
                  <a:srgbClr val="ffff00"/>
                </a:solidFill>
                <a:latin typeface="Arial"/>
                <a:ea typeface="Arial"/>
              </a:rPr>
              <a:t>¡</a:t>
            </a:r>
            <a:r>
              <a:rPr b="0" i="1" lang="pt-BR" sz="8100" spc="-1" strike="noStrike">
                <a:solidFill>
                  <a:srgbClr val="ffff00"/>
                </a:solidFill>
                <a:latin typeface="Arial"/>
              </a:rPr>
              <a:t>Gracias!</a:t>
            </a:r>
            <a:endParaRPr b="1" lang="en-US" sz="81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saac.averbuch@planejamento.gov.b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+55-61-2020-468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5:38:35Z</dcterms:created>
  <dc:creator>martim.cavalcanti</dc:creator>
  <dc:description/>
  <dc:language>en-US</dc:language>
  <cp:lastModifiedBy>dennisb</cp:lastModifiedBy>
  <dcterms:modified xsi:type="dcterms:W3CDTF">2010-08-02T18:35:05Z</dcterms:modified>
  <cp:revision>356</cp:revision>
  <dc:subject/>
  <dc:title>Parcerias Público Privada – Aspectos Gerais</dc:title>
</cp:coreProperties>
</file>