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4B1B-CE37-4B7B-B2AF-1C24BE4B6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ed by two IDB loans. I was the project leader for the implementation of the first lo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er/provider costs are significantly higher for direct and mixed provides. Even after adjusting for volunteer labor, are about 1/3 of PSS costs and ½ of mixed cos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we look at the per capita cost of effective coverage, direct providers are the better 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coverage was drawn from the HH survey and based on the observed demand for prioirty interverntions (ARI care, diarrhea care, prenatal care and well-baby check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op. Coverage:52 % for PSS, 25 for ADMSS and 26 for P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the available evidence at least based on first 4-5 years suggests a fairly successful innovation. The new direct and mixed provider models performed as well, and in the case of mixed providers, often better than traditional health care services in deliverying a basck health package to rural, indigenous communities that previously had no, or limited access to health care services.These models were generally more productive and displayed higher labor productivity than the traditional model. But they also have significantly higher unit costs—but display lower per capita costs when accounting for effective population coverage. These models are viable alternatives as long as government continues t commit the additional funding required to underwrite the higher cost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 closer to roads and tow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 distant commun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 health posts already located close to roads and tow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verage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contract: Took anyone that met minimal standards – some not really qualified– led to some problems later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PAS proceeded to expand with a fledgling contracting structure: though they did good job from the beginning regarding financial management of the contracts – in part due to fear of corruption – technical monitoring was often ad hoc, especially during the early years; this contributed to some contractors providing less than full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elays in issuing payments and shifting MOH priorities also contributed to delivery of less than full package (vaccines) as well as low and unadjusted per capita payments; MoH gave different signals regarding service priorities – one year –1998 – vaccination – many NGOs reported stopping other services during a few months to meet vaccine coverag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ustainability depended on external financing. Always unclear whether future governments would draw from national resources to support the progr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MSPAS decidió usar ONGs para extender cobertua (modelos ASS e PSS) en lugar de expandir la capacidade de provisión del MSPAS. En outras palabras, el MPSAS hizo </a:t>
            </a:r>
            <a:r>
              <a:rPr b="0" i="1" lang="en-US" sz="1200" spc="-1" strike="noStrike">
                <a:solidFill>
                  <a:srgbClr val="000000"/>
                </a:solidFill>
                <a:latin typeface="Arial"/>
              </a:rPr>
              <a:t>bypass </a:t>
            </a:r>
            <a:r>
              <a:rPr b="0" lang="en-US" sz="1200" spc="-1" strike="noStrike">
                <a:solidFill>
                  <a:srgbClr val="000000"/>
                </a:solidFill>
                <a:latin typeface="Arial"/>
              </a:rPr>
              <a:t>de sua propria rede (para la extensión de cobertura).  Esto fue la primera vez en sua historia del MSPAS que intentó usar terceiros para proveer servicios de salud.  En parte , el MSPAS reconoció que el aparato publico del MSPAS (administración direta) no era suficientemente agil, flexible o robusto para a rápida extensión a grande escala. Qual fue el analisis politico de las ventajas e desventajas de hacer </a:t>
            </a:r>
            <a:r>
              <a:rPr b="0" i="1" lang="en-US" sz="1200" spc="-1" strike="noStrike">
                <a:solidFill>
                  <a:srgbClr val="000000"/>
                </a:solidFill>
                <a:latin typeface="Arial"/>
              </a:rPr>
              <a:t>bypass </a:t>
            </a:r>
            <a:r>
              <a:rPr b="0" lang="en-US" sz="1200" spc="-1" strike="noStrike">
                <a:solidFill>
                  <a:srgbClr val="000000"/>
                </a:solidFill>
                <a:latin typeface="Arial"/>
              </a:rPr>
              <a:t>de la rede de provisión del MSPAS e orientar SIAS a ONGs? Por que no considerabam usar el sector privado lucrativo? </a:t>
            </a:r>
            <a:endParaRPr b="0" lang="en-US" sz="1200" spc="-1" strike="noStrike">
              <a:solidFill>
                <a:srgbClr val="000000"/>
              </a:solidFill>
              <a:latin typeface="Arial"/>
            </a:endParaRPr>
          </a:p>
          <a:p>
            <a:pPr>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modelo de ASS no fue originalmente contemplado ni por el Projeto BID o por el MSPAS. Este modelo "tipo mixto" salió a base de discussiones políticas internas entre as autoridades del MSPAS e trabajadores de salud, particularmente os jefes de areas e los técnicos rurales, los cuales oponian el uso de ONGs. Seria interessante comentar sobre las debates politicos que resultaron en el "parto" del modelo ASS. </a:t>
            </a:r>
            <a:endParaRPr b="0" lang="en-US" sz="1200" spc="-1" strike="noStrike">
              <a:solidFill>
                <a:srgbClr val="000000"/>
              </a:solidFill>
              <a:latin typeface="Arial"/>
            </a:endParaRPr>
          </a:p>
          <a:p>
            <a:pPr>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cisión de colocar los PSSs en comunidades distantes e los ASSs en comunidades mas cerca a pequenas ciudades respondia también a las pressiones de los trabajadores del MSPAS quem estaban por vincularse a los ASSs. Estos trabajadores querian trabajar en comunidades que conocían y a su vez quedaron mas cerca de las pequeñas ciudades donde vivían.  En cambio, a situación de acceso fue mas deficil y el estado de salud de la población era mas precaria que en las comunidades (distantes) asignadas a los PSS. Esta situación contribuia a que los ASS demostraban mejor desempeño que los PSS en la evaluación. Seria importante comentar sobre las pressiones de parte de los trabajadores de MSPAS sobre a assignación de comunidades a las ASSs e PSSs. </a:t>
            </a:r>
            <a:endParaRPr b="0" lang="en-US" sz="1200" spc="-1" strike="noStrike">
              <a:solidFill>
                <a:srgbClr val="000000"/>
              </a:solidFill>
              <a:latin typeface="Arial"/>
            </a:endParaRPr>
          </a:p>
          <a:p>
            <a:pPr>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nuevo codigo de salude hizo posible la existencia de SIAS y la contratación de ONGs mediande los "convenios. También el código  fue desafiado jurídicamente. El MSPAS salió exitoso tanto con el codigo como con el desafio juridico. Seria interesante comentar sobre  las "inversiones politicas" por parte del MSPAS para que el codigo saliera de Congreso sin modificaciones mayores, e que el desafio juurídico saliera a favor del MSP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expansion – why not step into extension rather than doing everything at once. What drove this decision, especially given the absence of experience in contracting out health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mpact, coverage, production, costs) – based on HH survey, provider cost survey, and analysis of contracting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objective of the research is three-fold: (i) assess processes and procedures related to the contracting of NGOs and extending immunization services through the NGO-based delivery system, (ii) assess the impact of the Program on coverage of basic health services by comparing key indicators in communities served by the NGOs with to those obtained in communities served by the MSPAS (using a household survey), and (iii) determine the relative economic efficiency of NGO and MSPAS providers in delivering basic health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is bad, but much worse for mayan populations who generally live in the rural and mountainous north and northwestern section, but migrate to the coast for agricultural work once or twice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infant mortality and maternal mortality rates in the reg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his and next few slides aim to establish the context of the C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nceptualized in 1996-97, launched in late 1997: Driven by Peace Accords signed in 1996 and in that same year a new government came to power  -- Pease accords called for significant improvements in health – reducing by half infant and maternal mortality b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xtend to rural, indigenous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Service package of 24 services and activities grouped in four areas: maternal care, infant-child care, attention to illness, and environment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and mixed providers assigned to areas that MOH providers did not reach; assigned geographical areas of between 8, 000 and 12,000 populations expected to establish community based outposts where most services and activities were delivered: outreach team consisted of MS, nurse auxiliary, rural health technician which visited the outposts monthly, also worked with and trained promoter volunteer5s and midwives at the community level. Also was place for distribution of essenti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raditional –expect to provide coverage to entire catchment area but not enter into new geographical areas – not an out reach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post suppose to deliver same package but in catchment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from scratch: created agreements known as convenios – had to set legal and regulatory framework for contracting out. This was done through the new health law in early 1998. In fact, the approval of the law enabled the rapid expansion starting in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Mixed and tra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centers for Direct and M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posts for tra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received per capita and responsible for all purchasing (except vaccines) service delivery, reporting and financial management. As will see later, assigned most distant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also received a per- capita. But were Responsible for contracting some personnel – mainly MDs, and for all purchasing (except vaccines) --  but MSPAS assigned other personnel. Supported MOH personnel who were responsible for service delivery, but only financial reporting. Generally assigned areas closer to MOH health centers where – according to MOH – there should be health p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rapid expans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7-1998 –big jump in agreements under implementation; reached 136 agreements with 88 NGOs – established bout 1800 CCs, and claimed coverage extension of 3 million. The new health law cleared the path for contra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s Direct and 1/3 indi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laimed to meet vaccination coverage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coverage of about 3 millio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rgets were global national targets, but included in the norms annexed to the agreemen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least 2 prenatal care vis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no. of PNC  visits for those with at least one vis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ds ratio: mixed model were significantly different from traditional providers on nearly all services;  direct model showed no significance difference from traditional providers except for growth monitoring – but must recall that direct providers were assigned to distant communities in which starting conditions were probably much worse. Under these conditions they were having similar impact and performance as traditional providers located in areas closer to cities and tow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that </a:t>
            </a:r>
            <a:r>
              <a:rPr b="1" lang="en-US" sz="900" spc="-1" strike="noStrike">
                <a:solidFill>
                  <a:srgbClr val="000000"/>
                </a:solidFill>
                <a:latin typeface="Arial"/>
              </a:rPr>
              <a:t>we do not have a baseline</a:t>
            </a:r>
            <a:r>
              <a:rPr b="0" lang="en-US" sz="900" spc="-1" strike="noStrike">
                <a:solidFill>
                  <a:srgbClr val="000000"/>
                </a:solidFill>
                <a:latin typeface="Arial"/>
              </a:rPr>
              <a:t> </a:t>
            </a:r>
            <a:r>
              <a:rPr b="1" lang="en-US" sz="900" spc="-1" strike="noStrike">
                <a:solidFill>
                  <a:srgbClr val="000000"/>
                </a:solidFill>
                <a:latin typeface="Arial"/>
              </a:rPr>
              <a:t>– and therefore do not know the answer to a KEY questions: which communities showed the greatest improvement</a:t>
            </a:r>
            <a:r>
              <a:rPr b="0" lang="en-US" sz="900" spc="-1" strike="noStrike">
                <a:solidFill>
                  <a:srgbClr val="000000"/>
                </a:solidFill>
                <a:latin typeface="Arial"/>
              </a:rPr>
              <a:t>. It is possible that the baselines for the direct communities were much worse than for the other two groups, but our study cannot pick this u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out a baseline—difficult to determine progress---anectodal evidence suggests that vaccination coverage was less than 30% and prenatal care about 25%</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production in terms of all services (ALL) and the Basic Package (PBS) PSSs demonstrate markedly higher production and productivity  than the HPs and slightly but still significantly higher higher than the mixed model providers. The differences hold even if we control for vaccinations.Not shown, if we only included providers with physicians, again the differences h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2A8A4-AC75-438E-94E0-C0DB18D8E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C96E1-489D-41EA-8364-35CA1A7D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03212-0541-4655-B5F6-045173D32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40E13-1955-4E5D-954F-CAAF048BC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0EE02-340C-4189-81A0-363B432D3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29822-0841-42D0-8E1A-ED41C1AC7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8F45-EECE-47DD-AB9B-6E301DB67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5E297-2997-4774-B885-E3FFFC5D3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3C110-E224-4778-979A-2AA3AF986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628E-D151-4E8B-A75B-58D6B71D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CEA1-BDE0-4890-9FD8-D4BB6C408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D7D7-3726-431C-90A8-27FD02D94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CEB2-728A-4C09-ADE9-55E7897F9B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99072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Large Scale Contracting out of  Basic Health Services For the Poor in Guatemala</a:t>
            </a:r>
            <a:r>
              <a:rPr b="1" lang="en-US" sz="4800" spc="-1" strike="noStrike">
                <a:solidFill>
                  <a:srgbClr val="008000"/>
                </a:solidFill>
                <a:latin typeface="Arial"/>
              </a:rPr>
              <a:t> </a:t>
            </a:r>
            <a:br>
              <a:rPr sz="4800"/>
            </a:br>
            <a:br>
              <a:rPr sz="4800"/>
            </a:br>
            <a:r>
              <a:rPr b="1" lang="en-US" sz="3600" spc="-1" strike="noStrike">
                <a:solidFill>
                  <a:srgbClr val="cc0000"/>
                </a:solidFill>
                <a:latin typeface="Arial"/>
              </a:rPr>
              <a:t>The SIAS Program</a:t>
            </a:r>
            <a:br>
              <a:rPr sz="3600"/>
            </a:br>
            <a:r>
              <a:rPr b="1" lang="en-US" sz="2800" spc="-1" strike="noStrike">
                <a:solidFill>
                  <a:srgbClr val="cc0000"/>
                </a:solidFill>
                <a:latin typeface="Arial"/>
              </a:rPr>
              <a:t>Design, Processes and Results</a:t>
            </a:r>
            <a:endParaRPr b="0" lang="en-US" sz="2800" spc="-1" strike="noStrike">
              <a:solidFill>
                <a:srgbClr val="000000"/>
              </a:solidFill>
              <a:latin typeface="Arial"/>
            </a:endParaRPr>
          </a:p>
        </p:txBody>
      </p:sp>
      <p:sp>
        <p:nvSpPr>
          <p:cNvPr id="49" name="PlaceHolder 2"/>
          <p:cNvSpPr>
            <a:spLocks noGrp="1"/>
          </p:cNvSpPr>
          <p:nvPr>
            <p:ph type="subTitle"/>
          </p:nvPr>
        </p:nvSpPr>
        <p:spPr>
          <a:xfrm>
            <a:off x="990720" y="3505320"/>
            <a:ext cx="6400800" cy="30477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B-IBRD Joint Conference on th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tical Economy of Service Delive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rry La Forgi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e 2,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71" name=""/>
          <p:cNvGraphicFramePr/>
          <p:nvPr/>
        </p:nvGraphicFramePr>
        <p:xfrm>
          <a:off x="533520" y="457200"/>
          <a:ext cx="7848360" cy="5867280"/>
        </p:xfrm>
        <a:graphic>
          <a:graphicData uri="http://schemas.openxmlformats.org/presentationml/2006/ole">
            <p:oleObj r:id="rId1" spid="">
              <p:embed/>
              <p:pic>
                <p:nvPicPr>
                  <p:cNvPr id="72" name="" descr=""/>
                  <p:cNvPicPr/>
                  <p:nvPr/>
                </p:nvPicPr>
                <p:blipFill>
                  <a:blip r:embed="rId2"/>
                  <a:stretch/>
                </p:blipFill>
                <p:spPr>
                  <a:xfrm>
                    <a:off x="533520" y="457200"/>
                    <a:ext cx="7848360" cy="5867280"/>
                  </a:xfrm>
                  <a:prstGeom prst="rect">
                    <a:avLst/>
                  </a:prstGeom>
                  <a:ln w="0">
                    <a:noFill/>
                  </a:ln>
                </p:spPr>
              </p:pic>
            </p:oleObj>
          </a:graphicData>
        </a:graphic>
      </p:graphicFrame>
      <p:sp>
        <p:nvSpPr>
          <p:cNvPr id="73" name=""/>
          <p:cNvSpPr/>
          <p:nvPr/>
        </p:nvSpPr>
        <p:spPr>
          <a:xfrm>
            <a:off x="1008720" y="152280"/>
            <a:ext cx="6755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Average Per Provider Cos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Observed and Adjusted, 2001 (in Q$)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pSp>
        <p:nvGrpSpPr>
          <p:cNvPr id="74" name=""/>
          <p:cNvGrpSpPr/>
          <p:nvPr/>
        </p:nvGrpSpPr>
        <p:grpSpPr>
          <a:xfrm>
            <a:off x="380880" y="1523880"/>
            <a:ext cx="8382240" cy="5105520"/>
            <a:chOff x="380880" y="1523880"/>
            <a:chExt cx="8382240" cy="5105520"/>
          </a:xfrm>
        </p:grpSpPr>
        <p:graphicFrame>
          <p:nvGraphicFramePr>
            <p:cNvPr id="75" name=""/>
            <p:cNvGraphicFramePr/>
            <p:nvPr/>
          </p:nvGraphicFramePr>
          <p:xfrm>
            <a:off x="380880" y="1523880"/>
            <a:ext cx="8382240" cy="5105520"/>
          </p:xfrm>
          <a:graphic>
            <a:graphicData uri="http://schemas.openxmlformats.org/presentationml/2006/ole">
              <p:oleObj r:id="rId1" spid="">
                <p:embed/>
                <p:pic>
                  <p:nvPicPr>
                    <p:cNvPr id="76" name="" descr=""/>
                    <p:cNvPicPr/>
                    <p:nvPr/>
                  </p:nvPicPr>
                  <p:blipFill>
                    <a:blip r:embed="rId2"/>
                    <a:stretch/>
                  </p:blipFill>
                  <p:spPr>
                    <a:xfrm>
                      <a:off x="380880" y="1523880"/>
                      <a:ext cx="8382240" cy="5105520"/>
                    </a:xfrm>
                    <a:prstGeom prst="rect">
                      <a:avLst/>
                    </a:prstGeom>
                    <a:ln w="9360">
                      <a:solidFill>
                        <a:srgbClr val="000000"/>
                      </a:solidFill>
                      <a:miter/>
                    </a:ln>
                  </p:spPr>
                </p:pic>
              </p:oleObj>
            </a:graphicData>
          </a:graphic>
        </p:graphicFrame>
        <p:sp>
          <p:nvSpPr>
            <p:cNvPr id="77" name=""/>
            <p:cNvSpPr/>
            <p:nvPr/>
          </p:nvSpPr>
          <p:spPr>
            <a:xfrm>
              <a:off x="682200" y="5862240"/>
              <a:ext cx="8034120" cy="63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 = &lt;0.05 (differences between each pair of providers for both nominal and effective coverage).</a:t>
              </a:r>
              <a:endParaRPr b="0" lang="en-US" sz="1400" spc="-1" strike="noStrike">
                <a:solidFill>
                  <a:srgbClr val="000000"/>
                </a:solidFill>
                <a:latin typeface="Arial"/>
              </a:endParaRPr>
            </a:p>
          </p:txBody>
        </p:sp>
      </p:grpSp>
      <p:sp>
        <p:nvSpPr>
          <p:cNvPr id="78" name=""/>
          <p:cNvSpPr/>
          <p:nvPr/>
        </p:nvSpPr>
        <p:spPr>
          <a:xfrm>
            <a:off x="521640" y="-47520"/>
            <a:ext cx="7918200" cy="149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Cost per Capita by Provider Typ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Nominal and Effective Population Coverage</a:t>
            </a:r>
            <a:r>
              <a:rPr b="1" lang="en-US" sz="2800" spc="-1" strike="noStrike">
                <a:solidFill>
                  <a:srgbClr val="cc0000"/>
                </a:solidFill>
                <a:latin typeface="Times New Roman"/>
                <a:ea typeface="Times New Roman"/>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Times New Roman"/>
              </a:rPr>
              <a:t>(adjusted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Issues and Problem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ment areas-- not a level playing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contract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contracting infra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ight adjust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 dela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 (if any) providers delivered the full pack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ustainability</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Political Economy of </a:t>
            </a:r>
            <a:br>
              <a:rPr sz="3600"/>
            </a:br>
            <a:r>
              <a:rPr b="1" lang="en-US" sz="3600" spc="-1" strike="noStrike">
                <a:solidFill>
                  <a:srgbClr val="cc0000"/>
                </a:solidFill>
                <a:latin typeface="Arial"/>
              </a:rPr>
              <a:t>Innovative Program Design and Implementation</a:t>
            </a:r>
            <a:endParaRPr b="0" lang="en-US" sz="36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NGOs instead of expanding of MoH delivery network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model – not contemplated in original design</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ing of catchment areas to Mixed and Direct provide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framework</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isk but necessary step</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expansion rejected</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too quickly?</a:t>
            </a:r>
            <a:endParaRPr b="0" lang="en-US" sz="24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Over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AS Program  (1997-200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and Probl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Economy of Chang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Guatemala: Health Situation</a:t>
            </a:r>
            <a:br>
              <a:rPr sz="4000"/>
            </a:br>
            <a:r>
              <a:rPr b="1" lang="en-US" sz="4000" spc="-1" strike="noStrike">
                <a:solidFill>
                  <a:srgbClr val="cc0000"/>
                </a:solidFill>
                <a:latin typeface="Arial"/>
              </a:rPr>
              <a:t>(circa 1996)</a:t>
            </a:r>
            <a:endParaRPr b="0" lang="en-US" sz="4000" spc="-1" strike="noStrike">
              <a:solidFill>
                <a:srgbClr val="000000"/>
              </a:solidFill>
              <a:latin typeface="Arial"/>
            </a:endParaRPr>
          </a:p>
        </p:txBody>
      </p:sp>
      <p:sp>
        <p:nvSpPr>
          <p:cNvPr id="53" name="PlaceHolder 2"/>
          <p:cNvSpPr>
            <a:spLocks noGrp="1"/>
          </p:cNvSpPr>
          <p:nvPr>
            <p:ph/>
          </p:nvPr>
        </p:nvSpPr>
        <p:spPr>
          <a:xfrm>
            <a:off x="609480" y="1294920"/>
            <a:ext cx="79250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million: 50% indigeno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R 46/1000 nationall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genous pop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ru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1000 IMR (vs. 44 for non-indigen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tality: 300-500/100,00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ARI/diarrhea 40-5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births attended trained professional or midwife (vs. 55% for non-indigen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cost and cultural barri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utilization r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overage Extension Program</a:t>
            </a:r>
            <a:endParaRPr b="0" lang="en-US" sz="4000" spc="-1" strike="noStrike">
              <a:solidFill>
                <a:srgbClr val="000000"/>
              </a:solidFill>
              <a:latin typeface="Arial"/>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rural and indigenous popul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package (24 services/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delivery platforms (Direct and Mix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each model (direct and mixed mode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geographical areas (jurisdic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centers (outpo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 auxiliary nurse, rural health technician (monthly vis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r volunteers, midwives (community-based)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s (</a:t>
            </a:r>
            <a:r>
              <a:rPr b="0" i="1" lang="en-US" sz="2800" spc="-1" strike="noStrike">
                <a:solidFill>
                  <a:srgbClr val="000000"/>
                </a:solidFill>
                <a:latin typeface="Arial"/>
              </a:rPr>
              <a:t>convenio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56" name=""/>
          <p:cNvGraphicFramePr/>
          <p:nvPr/>
        </p:nvGraphicFramePr>
        <p:xfrm>
          <a:off x="525600" y="252360"/>
          <a:ext cx="7872120" cy="5910480"/>
        </p:xfrm>
        <a:graphic>
          <a:graphicData uri="http://schemas.openxmlformats.org/presentationml/2006/ole">
            <p:oleObj progId="PowerPoint.Show.12" r:id="rId1" spid="">
              <p:embed/>
              <p:pic>
                <p:nvPicPr>
                  <p:cNvPr id="57" name="" descr=""/>
                  <p:cNvPicPr/>
                  <p:nvPr/>
                </p:nvPicPr>
                <p:blipFill>
                  <a:blip r:embed="rId2"/>
                  <a:stretch/>
                </p:blipFill>
                <p:spPr>
                  <a:xfrm>
                    <a:off x="525600" y="252360"/>
                    <a:ext cx="7872120" cy="591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Agreements/NGOs by Year</a:t>
            </a:r>
            <a:endParaRPr b="0" lang="en-US" sz="3600" spc="-1" strike="noStrike">
              <a:solidFill>
                <a:srgbClr val="000000"/>
              </a:solidFill>
              <a:latin typeface="Arial"/>
            </a:endParaRPr>
          </a:p>
        </p:txBody>
      </p:sp>
      <p:graphicFrame>
        <p:nvGraphicFramePr>
          <p:cNvPr id="59" name=""/>
          <p:cNvGraphicFramePr/>
          <p:nvPr/>
        </p:nvGraphicFramePr>
        <p:xfrm>
          <a:off x="380880" y="1600200"/>
          <a:ext cx="8382240" cy="4648320"/>
        </p:xfrm>
        <a:graphic>
          <a:graphicData uri="http://schemas.openxmlformats.org/presentationml/2006/ole">
            <p:oleObj r:id="rId1" spid="">
              <p:embed/>
              <p:pic>
                <p:nvPicPr>
                  <p:cNvPr id="60" name="" descr=""/>
                  <p:cNvPicPr/>
                  <p:nvPr/>
                </p:nvPicPr>
                <p:blipFill>
                  <a:blip r:embed="rId2"/>
                  <a:stretch/>
                </p:blipFill>
                <p:spPr>
                  <a:xfrm>
                    <a:off x="380880" y="1600200"/>
                    <a:ext cx="838224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Nominal Population Coverage</a:t>
            </a:r>
            <a:endParaRPr b="0" lang="en-US" sz="3600" spc="-1" strike="noStrike">
              <a:solidFill>
                <a:srgbClr val="000000"/>
              </a:solidFill>
              <a:latin typeface="Arial"/>
            </a:endParaRPr>
          </a:p>
        </p:txBody>
      </p:sp>
      <p:graphicFrame>
        <p:nvGraphicFramePr>
          <p:cNvPr id="62" name=""/>
          <p:cNvGraphicFramePr/>
          <p:nvPr/>
        </p:nvGraphicFramePr>
        <p:xfrm>
          <a:off x="380880" y="1600200"/>
          <a:ext cx="8305920" cy="4724280"/>
        </p:xfrm>
        <a:graphic>
          <a:graphicData uri="http://schemas.openxmlformats.org/presentationml/2006/ole">
            <p:oleObj r:id="rId1" spid="">
              <p:embed/>
              <p:pic>
                <p:nvPicPr>
                  <p:cNvPr id="63" name="" descr=""/>
                  <p:cNvPicPr/>
                  <p:nvPr/>
                </p:nvPicPr>
                <p:blipFill>
                  <a:blip r:embed="rId2"/>
                  <a:stretch/>
                </p:blipFill>
                <p:spPr>
                  <a:xfrm>
                    <a:off x="380880" y="1600200"/>
                    <a:ext cx="830592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mparison of Performance, 2001</a:t>
            </a:r>
            <a:endParaRPr b="0" lang="en-US" sz="3600" spc="-1" strike="noStrike">
              <a:solidFill>
                <a:srgbClr val="000000"/>
              </a:solidFill>
              <a:latin typeface="Arial"/>
            </a:endParaRPr>
          </a:p>
        </p:txBody>
      </p:sp>
      <p:graphicFrame>
        <p:nvGraphicFramePr>
          <p:cNvPr id="65" name=""/>
          <p:cNvGraphicFramePr/>
          <p:nvPr/>
        </p:nvGraphicFramePr>
        <p:xfrm>
          <a:off x="380880" y="762120"/>
          <a:ext cx="8382240" cy="5619600"/>
        </p:xfrm>
        <a:graphic>
          <a:graphicData uri="http://schemas.openxmlformats.org/drawingml/2006/table">
            <a:tbl>
              <a:tblPr/>
              <a:tblGrid>
                <a:gridCol w="3657600"/>
                <a:gridCol w="1067040"/>
                <a:gridCol w="1295280"/>
                <a:gridCol w="1143000"/>
                <a:gridCol w="1219320"/>
              </a:tblGrid>
              <a:tr h="4903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rvice/Activit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rget</a:t>
                      </a:r>
                      <a:endParaRPr b="0" lang="en-US" sz="2100" spc="-1" strike="noStrike">
                        <a:solidFill>
                          <a:srgbClr val="000000"/>
                        </a:solidFill>
                        <a:latin typeface="Arial"/>
                      </a:endParaRPr>
                    </a:p>
                  </a:txBody>
                  <a:tcPr anchor="t" marL="90000" marR="90000">
                    <a:lnL w="5760">
                      <a:solidFill>
                        <a:srgbClr val="000000"/>
                      </a:solidFill>
                    </a:lnL>
                    <a:lnR w="2808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Trad.</a:t>
                      </a:r>
                      <a:endParaRPr b="0" lang="en-US" sz="2300" spc="-1" strike="noStrike">
                        <a:solidFill>
                          <a:srgbClr val="000000"/>
                        </a:solidFill>
                        <a:latin typeface="Arial"/>
                      </a:endParaRPr>
                    </a:p>
                  </a:txBody>
                  <a:tcPr anchor="t" marL="90000" marR="90000">
                    <a:lnL w="28080">
                      <a:solidFill>
                        <a:srgbClr val="000000"/>
                      </a:solidFill>
                    </a:lnL>
                    <a:lnR w="5760">
                      <a:solidFill>
                        <a:srgbClr val="000000"/>
                      </a:solidFill>
                    </a:lnR>
                    <a:lnT w="18720">
                      <a:solidFill>
                        <a:srgbClr val="000000"/>
                      </a:solidFill>
                    </a:lnT>
                    <a:lnB w="5760">
                      <a:solidFill>
                        <a:srgbClr val="000000"/>
                      </a:solidFill>
                    </a:lnB>
                    <a:solidFill>
                      <a:srgbClr val="ffff99"/>
                    </a:solid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333399"/>
                          </a:solidFill>
                          <a:uFillTx/>
                          <a:latin typeface="Arial"/>
                        </a:rPr>
                        <a:t>Mixed</a:t>
                      </a:r>
                      <a:r>
                        <a:rPr b="1" lang="en-US" sz="2300" spc="-1" strike="noStrike" u="sng" baseline="30000">
                          <a:solidFill>
                            <a:srgbClr val="333399"/>
                          </a:solidFill>
                          <a:uFillTx/>
                          <a:latin typeface="Arial"/>
                        </a:rPr>
                        <a:t>*</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99"/>
                    </a:solid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Direct</a:t>
                      </a:r>
                      <a:endParaRPr b="0" lang="en-US" sz="23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99"/>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renatal ca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44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 # prenatal visi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70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etanus coverage pregnant wom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2</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6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1855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hildren &lt; 5 wit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C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PT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lio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as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89</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8</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69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hildren &lt;2 with diarrhea who rec’d 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99"/>
                    </a:solidFill>
                  </a:tcPr>
                </a:tc>
              </a:tr>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ant growth monitoring </a:t>
                      </a:r>
                      <a:r>
                        <a:rPr b="1" lang="en-US" sz="1800" spc="-1" strike="noStrike">
                          <a:solidFill>
                            <a:srgbClr val="000000"/>
                          </a:solidFill>
                          <a:latin typeface="Arial"/>
                        </a:rPr>
                        <a:t>(% children &lt;2 during previous 3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872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ff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2</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ffff99"/>
                    </a:solidFill>
                  </a:tcPr>
                </a:tc>
              </a:tr>
            </a:tbl>
          </a:graphicData>
        </a:graphic>
      </p:graphicFrame>
      <p:sp>
        <p:nvSpPr>
          <p:cNvPr id="66" name=""/>
          <p:cNvSpPr/>
          <p:nvPr/>
        </p:nvSpPr>
        <p:spPr>
          <a:xfrm>
            <a:off x="612000" y="6507000"/>
            <a:ext cx="23922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 Quiché and Verapaz</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17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0" y="773280"/>
          <a:ext cx="9144000" cy="5856120"/>
        </p:xfrm>
        <a:graphic>
          <a:graphicData uri="http://schemas.openxmlformats.org/presentationml/2006/ole">
            <p:oleObj r:id="rId1" spid="">
              <p:embed/>
              <p:pic>
                <p:nvPicPr>
                  <p:cNvPr id="69" name="" descr=""/>
                  <p:cNvPicPr/>
                  <p:nvPr/>
                </p:nvPicPr>
                <p:blipFill>
                  <a:blip r:embed="rId2"/>
                  <a:stretch/>
                </p:blipFill>
                <p:spPr>
                  <a:xfrm>
                    <a:off x="0" y="773280"/>
                    <a:ext cx="9144000" cy="5856120"/>
                  </a:xfrm>
                  <a:prstGeom prst="rect">
                    <a:avLst/>
                  </a:prstGeom>
                  <a:ln w="0">
                    <a:noFill/>
                  </a:ln>
                </p:spPr>
              </p:pic>
            </p:oleObj>
          </a:graphicData>
        </a:graphic>
      </p:graphicFrame>
      <p:sp>
        <p:nvSpPr>
          <p:cNvPr id="70" name=""/>
          <p:cNvSpPr/>
          <p:nvPr/>
        </p:nvSpPr>
        <p:spPr>
          <a:xfrm>
            <a:off x="220320" y="130320"/>
            <a:ext cx="8846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Average monthly production and productivity b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output category And provider type,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6:52:24Z</dcterms:created>
  <dc:creator>wb64230</dc:creator>
  <dc:description/>
  <dc:language>en-US</dc:language>
  <cp:lastModifiedBy>wb64230</cp:lastModifiedBy>
  <dcterms:modified xsi:type="dcterms:W3CDTF">2005-06-02T13:11:38Z</dcterms:modified>
  <cp:revision>41</cp:revision>
  <dc:subject/>
  <dc:title>Large Scale Contracting out of  Basic Health Services For the Poor in Guatemala    Program Design, Processes and Results</dc:title>
</cp:coreProperties>
</file>