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928440" y="752040"/>
            <a:ext cx="4941720" cy="3706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Times New Roman"/>
              </a:rPr>
              <a:t>Click to move the slide</a:t>
            </a:r>
            <a:endParaRPr b="1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85128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85128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851280" y="7920"/>
            <a:ext cx="2946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851280" y="9451800"/>
            <a:ext cx="294624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0" y="9451800"/>
            <a:ext cx="294624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0" y="7920"/>
            <a:ext cx="2946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body"/>
          </p:nvPr>
        </p:nvSpPr>
        <p:spPr>
          <a:xfrm>
            <a:off x="830160" y="4717800"/>
            <a:ext cx="5060880" cy="45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ldImg"/>
          </p:nvPr>
        </p:nvSpPr>
        <p:spPr>
          <a:xfrm>
            <a:off x="928800" y="752400"/>
            <a:ext cx="4941720" cy="37069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"/>
          <p:cNvSpPr/>
          <p:nvPr/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85128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85128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3851280" y="7920"/>
            <a:ext cx="2946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3851280" y="9451800"/>
            <a:ext cx="294624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0" y="9451800"/>
            <a:ext cx="294624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0" y="7920"/>
            <a:ext cx="2946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body"/>
          </p:nvPr>
        </p:nvSpPr>
        <p:spPr>
          <a:xfrm>
            <a:off x="906480" y="4718160"/>
            <a:ext cx="4984560" cy="391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ldImg"/>
          </p:nvPr>
        </p:nvSpPr>
        <p:spPr>
          <a:xfrm>
            <a:off x="928800" y="752400"/>
            <a:ext cx="4941720" cy="37069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"/>
          <p:cNvSpPr/>
          <p:nvPr/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385128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85128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3851280" y="7920"/>
            <a:ext cx="2946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3851280" y="9451800"/>
            <a:ext cx="294624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0" y="9451800"/>
            <a:ext cx="294624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0" y="7920"/>
            <a:ext cx="2946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body"/>
          </p:nvPr>
        </p:nvSpPr>
        <p:spPr>
          <a:xfrm>
            <a:off x="906480" y="4718160"/>
            <a:ext cx="4984560" cy="391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ldImg"/>
          </p:nvPr>
        </p:nvSpPr>
        <p:spPr>
          <a:xfrm>
            <a:off x="928800" y="752400"/>
            <a:ext cx="4941720" cy="37069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385128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385128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3851280" y="7920"/>
            <a:ext cx="2946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3851280" y="9451800"/>
            <a:ext cx="294624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0" y="9451800"/>
            <a:ext cx="294624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0" y="7920"/>
            <a:ext cx="2946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body"/>
          </p:nvPr>
        </p:nvSpPr>
        <p:spPr>
          <a:xfrm>
            <a:off x="906480" y="4718160"/>
            <a:ext cx="4984560" cy="391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sldImg"/>
          </p:nvPr>
        </p:nvSpPr>
        <p:spPr>
          <a:xfrm>
            <a:off x="928800" y="752400"/>
            <a:ext cx="4941720" cy="37069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/>
          <p:nvPr/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385128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85128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3851280" y="7920"/>
            <a:ext cx="2946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851280" y="9451800"/>
            <a:ext cx="294624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0" y="9451800"/>
            <a:ext cx="294624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0" y="7920"/>
            <a:ext cx="2946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body"/>
          </p:nvPr>
        </p:nvSpPr>
        <p:spPr>
          <a:xfrm>
            <a:off x="906480" y="4718160"/>
            <a:ext cx="4984560" cy="391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sldImg"/>
          </p:nvPr>
        </p:nvSpPr>
        <p:spPr>
          <a:xfrm>
            <a:off x="928800" y="752400"/>
            <a:ext cx="4941720" cy="37069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/>
          <p:nvPr/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385128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385128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851280" y="7920"/>
            <a:ext cx="2946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3851280" y="9451800"/>
            <a:ext cx="294624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0" y="9451800"/>
            <a:ext cx="294624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0" y="7920"/>
            <a:ext cx="2946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body"/>
          </p:nvPr>
        </p:nvSpPr>
        <p:spPr>
          <a:xfrm>
            <a:off x="906480" y="4718160"/>
            <a:ext cx="4984560" cy="391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ldImg"/>
          </p:nvPr>
        </p:nvSpPr>
        <p:spPr>
          <a:xfrm>
            <a:off x="928800" y="752400"/>
            <a:ext cx="4941720" cy="37069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"/>
          <p:cNvSpPr/>
          <p:nvPr/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385128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385128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3851280" y="7920"/>
            <a:ext cx="2946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3851280" y="9451800"/>
            <a:ext cx="294624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0" y="9451800"/>
            <a:ext cx="294624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0" y="7920"/>
            <a:ext cx="2946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body"/>
          </p:nvPr>
        </p:nvSpPr>
        <p:spPr>
          <a:xfrm>
            <a:off x="830160" y="4717800"/>
            <a:ext cx="5060880" cy="45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ldImg"/>
          </p:nvPr>
        </p:nvSpPr>
        <p:spPr>
          <a:xfrm>
            <a:off x="928800" y="752400"/>
            <a:ext cx="4941720" cy="37069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"/>
          <p:cNvSpPr/>
          <p:nvPr/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85128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85128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3851280" y="7920"/>
            <a:ext cx="2946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3851280" y="9451800"/>
            <a:ext cx="294624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0" y="9451800"/>
            <a:ext cx="294624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0" y="7920"/>
            <a:ext cx="2946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body"/>
          </p:nvPr>
        </p:nvSpPr>
        <p:spPr>
          <a:xfrm>
            <a:off x="906480" y="4718160"/>
            <a:ext cx="4984560" cy="391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 type="sldImg"/>
          </p:nvPr>
        </p:nvSpPr>
        <p:spPr>
          <a:xfrm>
            <a:off x="928800" y="752400"/>
            <a:ext cx="4941720" cy="37069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"/>
          <p:cNvSpPr/>
          <p:nvPr/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385128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385128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3851280" y="7920"/>
            <a:ext cx="2946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3851280" y="9451800"/>
            <a:ext cx="294624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0" y="9451800"/>
            <a:ext cx="294624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0" y="7920"/>
            <a:ext cx="2946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body"/>
          </p:nvPr>
        </p:nvSpPr>
        <p:spPr>
          <a:xfrm>
            <a:off x="906480" y="4718160"/>
            <a:ext cx="4984560" cy="391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 type="sldImg"/>
          </p:nvPr>
        </p:nvSpPr>
        <p:spPr>
          <a:xfrm>
            <a:off x="928800" y="752400"/>
            <a:ext cx="4941720" cy="37069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85128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385128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851280" y="7920"/>
            <a:ext cx="2946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851280" y="9451800"/>
            <a:ext cx="294624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0" y="9451800"/>
            <a:ext cx="294624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0" y="7920"/>
            <a:ext cx="2946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body"/>
          </p:nvPr>
        </p:nvSpPr>
        <p:spPr>
          <a:xfrm>
            <a:off x="906480" y="4718160"/>
            <a:ext cx="4984560" cy="391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sldImg"/>
          </p:nvPr>
        </p:nvSpPr>
        <p:spPr>
          <a:xfrm>
            <a:off x="928800" y="752400"/>
            <a:ext cx="4941720" cy="37069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"/>
          <p:cNvSpPr/>
          <p:nvPr/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385128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385128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3851280" y="7920"/>
            <a:ext cx="2946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3851280" y="9451800"/>
            <a:ext cx="294624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0" y="9451800"/>
            <a:ext cx="294624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0" y="7920"/>
            <a:ext cx="2946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body"/>
          </p:nvPr>
        </p:nvSpPr>
        <p:spPr>
          <a:xfrm>
            <a:off x="906480" y="4718160"/>
            <a:ext cx="4984560" cy="391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 type="sldImg"/>
          </p:nvPr>
        </p:nvSpPr>
        <p:spPr>
          <a:xfrm>
            <a:off x="928800" y="752400"/>
            <a:ext cx="4941720" cy="37069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"/>
          <p:cNvSpPr/>
          <p:nvPr/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385128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385128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3851280" y="7920"/>
            <a:ext cx="2946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3851280" y="9451800"/>
            <a:ext cx="294624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0" y="9451800"/>
            <a:ext cx="294624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0" y="7920"/>
            <a:ext cx="2946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body"/>
          </p:nvPr>
        </p:nvSpPr>
        <p:spPr>
          <a:xfrm>
            <a:off x="906480" y="4718160"/>
            <a:ext cx="4984560" cy="391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sldImg"/>
          </p:nvPr>
        </p:nvSpPr>
        <p:spPr>
          <a:xfrm>
            <a:off x="928800" y="752400"/>
            <a:ext cx="4941720" cy="37069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"/>
          <p:cNvSpPr/>
          <p:nvPr/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385128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385128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3851280" y="7920"/>
            <a:ext cx="2946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3851280" y="9451800"/>
            <a:ext cx="294624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0" y="9451800"/>
            <a:ext cx="294624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0" y="7920"/>
            <a:ext cx="2946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1"/>
          <p:cNvSpPr>
            <a:spLocks noGrp="1"/>
          </p:cNvSpPr>
          <p:nvPr>
            <p:ph type="body"/>
          </p:nvPr>
        </p:nvSpPr>
        <p:spPr>
          <a:xfrm>
            <a:off x="906480" y="4718160"/>
            <a:ext cx="4984560" cy="391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 type="sldImg"/>
          </p:nvPr>
        </p:nvSpPr>
        <p:spPr>
          <a:xfrm>
            <a:off x="928800" y="752400"/>
            <a:ext cx="4941720" cy="37069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"/>
          <p:cNvSpPr/>
          <p:nvPr/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385128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385128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3851280" y="7920"/>
            <a:ext cx="2946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3851280" y="9451800"/>
            <a:ext cx="294624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0" y="9451800"/>
            <a:ext cx="294624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0" y="7920"/>
            <a:ext cx="2946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PlaceHolder 1"/>
          <p:cNvSpPr>
            <a:spLocks noGrp="1"/>
          </p:cNvSpPr>
          <p:nvPr>
            <p:ph type="body"/>
          </p:nvPr>
        </p:nvSpPr>
        <p:spPr>
          <a:xfrm>
            <a:off x="906480" y="4718160"/>
            <a:ext cx="4984560" cy="391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sldImg"/>
          </p:nvPr>
        </p:nvSpPr>
        <p:spPr>
          <a:xfrm>
            <a:off x="928800" y="752400"/>
            <a:ext cx="4941720" cy="37069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"/>
          <p:cNvSpPr/>
          <p:nvPr/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85128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385128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3851280" y="7920"/>
            <a:ext cx="2946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3851280" y="9451800"/>
            <a:ext cx="294624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0" y="9451800"/>
            <a:ext cx="294624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0" y="7920"/>
            <a:ext cx="2946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PlaceHolder 1"/>
          <p:cNvSpPr>
            <a:spLocks noGrp="1"/>
          </p:cNvSpPr>
          <p:nvPr>
            <p:ph type="body"/>
          </p:nvPr>
        </p:nvSpPr>
        <p:spPr>
          <a:xfrm>
            <a:off x="906480" y="4718160"/>
            <a:ext cx="4984560" cy="391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 type="sldImg"/>
          </p:nvPr>
        </p:nvSpPr>
        <p:spPr>
          <a:xfrm>
            <a:off x="928800" y="752400"/>
            <a:ext cx="4941720" cy="37069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"/>
          <p:cNvSpPr/>
          <p:nvPr/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385128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385128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3851280" y="7920"/>
            <a:ext cx="2946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3851280" y="9451800"/>
            <a:ext cx="294624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0" y="9451800"/>
            <a:ext cx="294624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0" y="7920"/>
            <a:ext cx="2946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PlaceHolder 1"/>
          <p:cNvSpPr>
            <a:spLocks noGrp="1"/>
          </p:cNvSpPr>
          <p:nvPr>
            <p:ph type="sldImg"/>
          </p:nvPr>
        </p:nvSpPr>
        <p:spPr>
          <a:xfrm>
            <a:off x="928800" y="752400"/>
            <a:ext cx="4941720" cy="3706920"/>
          </a:xfrm>
          <a:prstGeom prst="rect">
            <a:avLst/>
          </a:prstGeom>
          <a:ln w="0">
            <a:noFill/>
          </a:ln>
        </p:spPr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"/>
          <p:cNvSpPr/>
          <p:nvPr/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385128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385128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3851280" y="7920"/>
            <a:ext cx="2946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3851280" y="9451800"/>
            <a:ext cx="294624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0" y="9451800"/>
            <a:ext cx="294624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0" y="7920"/>
            <a:ext cx="2946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sldImg"/>
          </p:nvPr>
        </p:nvSpPr>
        <p:spPr>
          <a:xfrm>
            <a:off x="928800" y="752400"/>
            <a:ext cx="4941720" cy="3706920"/>
          </a:xfrm>
          <a:prstGeom prst="rect">
            <a:avLst/>
          </a:prstGeom>
          <a:ln w="0">
            <a:noFill/>
          </a:ln>
        </p:spPr>
      </p:sp>
      <p:sp>
        <p:nvSpPr>
          <p:cNvPr id="665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385128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385128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3851280" y="7920"/>
            <a:ext cx="2946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3851280" y="9451800"/>
            <a:ext cx="294624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0" y="9451800"/>
            <a:ext cx="294624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0" y="7920"/>
            <a:ext cx="2946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PlaceHolder 1"/>
          <p:cNvSpPr>
            <a:spLocks noGrp="1"/>
          </p:cNvSpPr>
          <p:nvPr>
            <p:ph type="sldImg"/>
          </p:nvPr>
        </p:nvSpPr>
        <p:spPr>
          <a:xfrm>
            <a:off x="928800" y="752400"/>
            <a:ext cx="4941720" cy="3706920"/>
          </a:xfrm>
          <a:prstGeom prst="rect">
            <a:avLst/>
          </a:prstGeom>
          <a:ln w="0">
            <a:noFill/>
          </a:ln>
        </p:spPr>
      </p:sp>
      <p:sp>
        <p:nvSpPr>
          <p:cNvPr id="679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"/>
          <p:cNvSpPr/>
          <p:nvPr/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385128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385128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851280" y="7920"/>
            <a:ext cx="2946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3851280" y="9451800"/>
            <a:ext cx="294624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0" y="9451800"/>
            <a:ext cx="294624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0" y="7920"/>
            <a:ext cx="2946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PlaceHolder 1"/>
          <p:cNvSpPr>
            <a:spLocks noGrp="1"/>
          </p:cNvSpPr>
          <p:nvPr>
            <p:ph type="sldImg"/>
          </p:nvPr>
        </p:nvSpPr>
        <p:spPr>
          <a:xfrm>
            <a:off x="928800" y="752400"/>
            <a:ext cx="4941720" cy="3706920"/>
          </a:xfrm>
          <a:prstGeom prst="rect">
            <a:avLst/>
          </a:prstGeom>
          <a:ln w="0">
            <a:noFill/>
          </a:ln>
        </p:spPr>
      </p:sp>
      <p:sp>
        <p:nvSpPr>
          <p:cNvPr id="693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"/>
          <p:cNvSpPr/>
          <p:nvPr/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385128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385128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3851280" y="7920"/>
            <a:ext cx="2946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3851280" y="9451800"/>
            <a:ext cx="294624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0" y="9451800"/>
            <a:ext cx="294624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0" y="7920"/>
            <a:ext cx="2946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PlaceHolder 1"/>
          <p:cNvSpPr>
            <a:spLocks noGrp="1"/>
          </p:cNvSpPr>
          <p:nvPr>
            <p:ph type="sldImg"/>
          </p:nvPr>
        </p:nvSpPr>
        <p:spPr>
          <a:xfrm>
            <a:off x="928800" y="752400"/>
            <a:ext cx="4941720" cy="3706920"/>
          </a:xfrm>
          <a:prstGeom prst="rect">
            <a:avLst/>
          </a:prstGeom>
          <a:ln w="0">
            <a:noFill/>
          </a:ln>
        </p:spPr>
      </p:sp>
      <p:sp>
        <p:nvSpPr>
          <p:cNvPr id="707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85128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85128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851280" y="7920"/>
            <a:ext cx="2946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851280" y="9451800"/>
            <a:ext cx="294624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0" y="9451800"/>
            <a:ext cx="294624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0" y="7920"/>
            <a:ext cx="2946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body"/>
          </p:nvPr>
        </p:nvSpPr>
        <p:spPr>
          <a:xfrm>
            <a:off x="906480" y="4718160"/>
            <a:ext cx="4984560" cy="391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ldImg"/>
          </p:nvPr>
        </p:nvSpPr>
        <p:spPr>
          <a:xfrm>
            <a:off x="928800" y="752400"/>
            <a:ext cx="4941720" cy="37069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"/>
          <p:cNvSpPr/>
          <p:nvPr/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385128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385128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3851280" y="7920"/>
            <a:ext cx="2946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3851280" y="9451800"/>
            <a:ext cx="294624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0" y="9451800"/>
            <a:ext cx="294624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0" y="7920"/>
            <a:ext cx="2946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 type="sldImg"/>
          </p:nvPr>
        </p:nvSpPr>
        <p:spPr>
          <a:xfrm>
            <a:off x="928800" y="752400"/>
            <a:ext cx="4941720" cy="3706920"/>
          </a:xfrm>
          <a:prstGeom prst="rect">
            <a:avLst/>
          </a:prstGeom>
          <a:ln w="0">
            <a:noFill/>
          </a:ln>
        </p:spPr>
      </p:sp>
      <p:sp>
        <p:nvSpPr>
          <p:cNvPr id="721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"/>
          <p:cNvSpPr/>
          <p:nvPr/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385128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385128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3851280" y="7920"/>
            <a:ext cx="2946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3851280" y="9451800"/>
            <a:ext cx="294624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0" y="9451800"/>
            <a:ext cx="294624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0" y="7920"/>
            <a:ext cx="2946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PlaceHolder 1"/>
          <p:cNvSpPr>
            <a:spLocks noGrp="1"/>
          </p:cNvSpPr>
          <p:nvPr>
            <p:ph type="sldImg"/>
          </p:nvPr>
        </p:nvSpPr>
        <p:spPr>
          <a:xfrm>
            <a:off x="928800" y="752400"/>
            <a:ext cx="4941720" cy="3706920"/>
          </a:xfrm>
          <a:prstGeom prst="rect">
            <a:avLst/>
          </a:prstGeom>
          <a:ln w="0">
            <a:noFill/>
          </a:ln>
        </p:spPr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"/>
          <p:cNvSpPr/>
          <p:nvPr/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385128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385128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3851280" y="7920"/>
            <a:ext cx="2946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3851280" y="9451800"/>
            <a:ext cx="294624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0" y="9451800"/>
            <a:ext cx="294624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0" y="7920"/>
            <a:ext cx="2946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1"/>
          <p:cNvSpPr>
            <a:spLocks noGrp="1"/>
          </p:cNvSpPr>
          <p:nvPr>
            <p:ph type="sldImg"/>
          </p:nvPr>
        </p:nvSpPr>
        <p:spPr>
          <a:xfrm>
            <a:off x="928800" y="752400"/>
            <a:ext cx="4941720" cy="3706920"/>
          </a:xfrm>
          <a:prstGeom prst="rect">
            <a:avLst/>
          </a:prstGeom>
          <a:ln w="0">
            <a:noFill/>
          </a:ln>
        </p:spPr>
      </p:sp>
      <p:sp>
        <p:nvSpPr>
          <p:cNvPr id="749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"/>
          <p:cNvSpPr/>
          <p:nvPr/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385128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385128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3851280" y="7920"/>
            <a:ext cx="2946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3851280" y="9451800"/>
            <a:ext cx="294624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0" y="9451800"/>
            <a:ext cx="294624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0" y="7920"/>
            <a:ext cx="2946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1"/>
          <p:cNvSpPr>
            <a:spLocks noGrp="1"/>
          </p:cNvSpPr>
          <p:nvPr>
            <p:ph type="sldImg"/>
          </p:nvPr>
        </p:nvSpPr>
        <p:spPr>
          <a:xfrm>
            <a:off x="928800" y="752400"/>
            <a:ext cx="4941720" cy="3706920"/>
          </a:xfrm>
          <a:prstGeom prst="rect">
            <a:avLst/>
          </a:prstGeom>
          <a:ln w="0">
            <a:noFill/>
          </a:ln>
        </p:spPr>
      </p:sp>
      <p:sp>
        <p:nvSpPr>
          <p:cNvPr id="763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"/>
          <p:cNvSpPr/>
          <p:nvPr/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385128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385128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3851280" y="7920"/>
            <a:ext cx="2946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3851280" y="9451800"/>
            <a:ext cx="294624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0" y="9451800"/>
            <a:ext cx="294624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0" y="7920"/>
            <a:ext cx="2946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PlaceHolder 1"/>
          <p:cNvSpPr>
            <a:spLocks noGrp="1"/>
          </p:cNvSpPr>
          <p:nvPr>
            <p:ph type="sldImg"/>
          </p:nvPr>
        </p:nvSpPr>
        <p:spPr>
          <a:xfrm>
            <a:off x="928800" y="752400"/>
            <a:ext cx="4941720" cy="3706920"/>
          </a:xfrm>
          <a:prstGeom prst="rect">
            <a:avLst/>
          </a:prstGeom>
          <a:ln w="0">
            <a:noFill/>
          </a:ln>
        </p:spPr>
      </p:sp>
      <p:sp>
        <p:nvSpPr>
          <p:cNvPr id="777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85128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5128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851280" y="7920"/>
            <a:ext cx="2946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851280" y="9451800"/>
            <a:ext cx="294624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0" y="9451800"/>
            <a:ext cx="294624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0" y="7920"/>
            <a:ext cx="2946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body"/>
          </p:nvPr>
        </p:nvSpPr>
        <p:spPr>
          <a:xfrm>
            <a:off x="830160" y="4717800"/>
            <a:ext cx="5060880" cy="45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ldImg"/>
          </p:nvPr>
        </p:nvSpPr>
        <p:spPr>
          <a:xfrm>
            <a:off x="928800" y="752400"/>
            <a:ext cx="4941720" cy="37069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/>
          <p:nvPr/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85128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5128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851280" y="7920"/>
            <a:ext cx="2946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851280" y="9451800"/>
            <a:ext cx="294624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0" y="9451800"/>
            <a:ext cx="294624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0" y="7920"/>
            <a:ext cx="2946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body"/>
          </p:nvPr>
        </p:nvSpPr>
        <p:spPr>
          <a:xfrm>
            <a:off x="906480" y="4718160"/>
            <a:ext cx="4984560" cy="391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ldImg"/>
          </p:nvPr>
        </p:nvSpPr>
        <p:spPr>
          <a:xfrm>
            <a:off x="928800" y="752400"/>
            <a:ext cx="4941720" cy="37069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/>
          <p:nvPr/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85128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85128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3851280" y="7920"/>
            <a:ext cx="2946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851280" y="9451800"/>
            <a:ext cx="294624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0" y="9451800"/>
            <a:ext cx="294624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0" y="7920"/>
            <a:ext cx="2946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body"/>
          </p:nvPr>
        </p:nvSpPr>
        <p:spPr>
          <a:xfrm>
            <a:off x="906480" y="4718160"/>
            <a:ext cx="4984560" cy="391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ldImg"/>
          </p:nvPr>
        </p:nvSpPr>
        <p:spPr>
          <a:xfrm>
            <a:off x="928800" y="752400"/>
            <a:ext cx="4941720" cy="37069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/>
          <p:nvPr/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85128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85128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851280" y="7920"/>
            <a:ext cx="2946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851280" y="9451800"/>
            <a:ext cx="294624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0" y="9451800"/>
            <a:ext cx="294624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0" y="7920"/>
            <a:ext cx="2946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body"/>
          </p:nvPr>
        </p:nvSpPr>
        <p:spPr>
          <a:xfrm>
            <a:off x="906480" y="4718160"/>
            <a:ext cx="4984560" cy="391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ldImg"/>
          </p:nvPr>
        </p:nvSpPr>
        <p:spPr>
          <a:xfrm>
            <a:off x="928800" y="752400"/>
            <a:ext cx="4941720" cy="37069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/>
          <p:cNvSpPr/>
          <p:nvPr/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385128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85128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851280" y="7920"/>
            <a:ext cx="2946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851280" y="9451800"/>
            <a:ext cx="294624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0" y="9451800"/>
            <a:ext cx="294624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0" y="7920"/>
            <a:ext cx="2946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body"/>
          </p:nvPr>
        </p:nvSpPr>
        <p:spPr>
          <a:xfrm>
            <a:off x="906480" y="4718160"/>
            <a:ext cx="4984560" cy="391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ldImg"/>
          </p:nvPr>
        </p:nvSpPr>
        <p:spPr>
          <a:xfrm>
            <a:off x="928800" y="752400"/>
            <a:ext cx="4941720" cy="37069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85128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85128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851280" y="7920"/>
            <a:ext cx="2946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3851280" y="9451800"/>
            <a:ext cx="294624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0" y="9451800"/>
            <a:ext cx="294624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0" y="7920"/>
            <a:ext cx="2946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body"/>
          </p:nvPr>
        </p:nvSpPr>
        <p:spPr>
          <a:xfrm>
            <a:off x="906480" y="4718160"/>
            <a:ext cx="4984560" cy="391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sldImg"/>
          </p:nvPr>
        </p:nvSpPr>
        <p:spPr>
          <a:xfrm>
            <a:off x="928800" y="752400"/>
            <a:ext cx="4941720" cy="370692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65ED19-F4F6-46E2-BCD4-70AC674557C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52600" y="125748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90400" y="2343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90400" y="4492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E4609D-E444-4453-8AAB-98FEA1DD9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52600" y="125748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90400" y="2343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3080" y="2343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90400" y="4492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3080" y="4492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B2C487-C21B-4155-81D7-5A1A71233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52600" y="125748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90400" y="2343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18400" y="2343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46040" y="2343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90400" y="4492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18400" y="4492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46040" y="4492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780E09-91AE-46EC-B5D8-0B92015EDE8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52600" y="125748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90400" y="23432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3BA19A-67CF-4EFF-BB51-2DF8D7637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52600" y="125748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90400" y="23432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69335A-6D92-45F5-B7B6-BE0956ECD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52600" y="125748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90400" y="23432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73080" y="23432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269A9C-DB54-451F-B881-5DB691A75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52600" y="125748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B81BCD-02E6-44AB-9EE9-65772C06B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52600" y="125748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0F11EF-A895-4FB9-A464-263EDD308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52600" y="125748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90400" y="2343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73080" y="23432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90400" y="4492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A992B1-9F59-4A11-97A4-8C437927A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52600" y="125748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90400" y="23432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73080" y="2343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3080" y="4492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41C6D1-37F3-435E-AE21-C473EE44C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52600" y="125748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90400" y="2343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3080" y="2343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90400" y="4492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D2250C-780D-4B78-A21C-F5A15855F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52600" y="125748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0400" y="23432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65920" indent="-56592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225800" indent="-4712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886040" indent="-4712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0076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715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715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715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352F3-9088-45B2-981D-0B9D781BBD68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535E8-9E40-4984-83E6-0104B58FC6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6"/>
          <a:stretch/>
        </p:blipFill>
        <p:spPr>
          <a:xfrm>
            <a:off x="0" y="0"/>
            <a:ext cx="2735280" cy="1197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3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200240" y="588636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445400" y="2362320"/>
            <a:ext cx="6636240" cy="3384360"/>
          </a:xfrm>
          <a:prstGeom prst="rect">
            <a:avLst/>
          </a:prstGeom>
          <a:noFill/>
          <a:ln w="0">
            <a:noFill/>
          </a:ln>
          <a:effectLst>
            <a:outerShdw dist="64600" dir="4725161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99"/>
                </a:solidFill>
                <a:latin typeface="Times New Roman"/>
              </a:rPr>
              <a:t>“</a:t>
            </a:r>
            <a:r>
              <a:rPr b="1" i="1" lang="en-GB" sz="4400" spc="-1" strike="noStrike">
                <a:solidFill>
                  <a:srgbClr val="000099"/>
                </a:solidFill>
                <a:latin typeface="Times New Roman"/>
              </a:rPr>
              <a:t>Ingredients” in good PP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99"/>
                </a:solidFill>
                <a:latin typeface="Arial"/>
                <a:ea typeface="Times New Roman"/>
              </a:rPr>
              <a:t>Jaime Barragan</a:t>
            </a:r>
            <a:br>
              <a:rPr sz="1600"/>
            </a:br>
            <a:r>
              <a:rPr b="1" i="1" lang="en-US" sz="1600" spc="-1" strike="noStrike">
                <a:solidFill>
                  <a:srgbClr val="000099"/>
                </a:solidFill>
                <a:latin typeface="Arial"/>
                <a:ea typeface="Times New Roman"/>
              </a:rPr>
              <a:t>EIB – European Investment Bank</a:t>
            </a:r>
            <a:br>
              <a:rPr sz="40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i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IADB, 8-9 December 20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4800600"/>
            <a:ext cx="9144000" cy="2057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5d5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4800600"/>
            <a:ext cx="9144000" cy="2057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5d5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78120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Times New Roman"/>
              </a:rPr>
              <a:t>Others (advisors, arrangers, etc.) want :</a:t>
            </a:r>
            <a:endParaRPr b="1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38120" y="1962000"/>
            <a:ext cx="8477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125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Franklin Gothic Demi"/>
                <a:ea typeface="Times New Roman"/>
              </a:rPr>
              <a:t>Fees, fees, and fe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125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Franklin Gothic Demi"/>
                <a:ea typeface="Times New Roman"/>
              </a:rPr>
              <a:t>Prestige / Exposure / League table ma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125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Franklin Gothic Demi"/>
                <a:ea typeface="Times New Roman"/>
              </a:rPr>
              <a:t>Establish relationship for succeeding role/mand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125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Franklin Gothic Demi"/>
                <a:ea typeface="Times New Roman"/>
              </a:rPr>
              <a:t>Multiplier eff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09480" y="1619280"/>
            <a:ext cx="8210520" cy="0"/>
          </a:xfrm>
          <a:prstGeom prst="line">
            <a:avLst/>
          </a:prstGeom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0" y="4800600"/>
            <a:ext cx="9144000" cy="2057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5d5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78120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Times New Roman"/>
              </a:rPr>
              <a:t>But at the end…</a:t>
            </a:r>
            <a:endParaRPr b="1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38120" y="1962000"/>
            <a:ext cx="8477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125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Franklin Gothic Demi"/>
                <a:ea typeface="Times New Roman"/>
              </a:rPr>
              <a:t>This is a lifetime marri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125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Franklin Gothic Demi"/>
                <a:ea typeface="Times New Roman"/>
              </a:rPr>
              <a:t>In the long run, it’s a win-win solution or a no-go. E.g. : penalty points in Irish road PPP program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09480" y="1619280"/>
            <a:ext cx="8210520" cy="0"/>
          </a:xfrm>
          <a:prstGeom prst="line">
            <a:avLst/>
          </a:prstGeom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4800600"/>
            <a:ext cx="9144000" cy="2057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5d5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78120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Times New Roman"/>
              </a:rPr>
              <a:t>A secret :</a:t>
            </a:r>
            <a:endParaRPr b="1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38120" y="1962000"/>
            <a:ext cx="8477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508680" indent="-508680">
              <a:lnSpc>
                <a:spcPct val="125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Franklin Gothic Demi"/>
                <a:ea typeface="Times New Roman"/>
              </a:rPr>
              <a:t>Give me a good project – to overcome a real ne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086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Franklin Gothic Demi"/>
                <a:ea typeface="Times New Roman"/>
              </a:rPr>
              <a:t>… </a:t>
            </a:r>
            <a:r>
              <a:rPr b="0" lang="en-US" sz="3200" spc="-1" strike="noStrike">
                <a:solidFill>
                  <a:srgbClr val="808080"/>
                </a:solidFill>
                <a:latin typeface="Franklin Gothic Demi"/>
                <a:ea typeface="Times New Roman"/>
              </a:rPr>
              <a:t>and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08680" indent="-508680">
              <a:lnSpc>
                <a:spcPct val="125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Franklin Gothic Demi"/>
                <a:ea typeface="Times New Roman"/>
              </a:rPr>
              <a:t>Give me a good &amp; committed spons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086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Franklin Gothic Demi"/>
                <a:ea typeface="Times New Roman"/>
              </a:rPr>
              <a:t>… </a:t>
            </a:r>
            <a:r>
              <a:rPr b="0" lang="en-US" sz="3200" spc="-1" strike="noStrike">
                <a:solidFill>
                  <a:srgbClr val="808080"/>
                </a:solidFill>
                <a:latin typeface="Franklin Gothic Demi"/>
                <a:ea typeface="Times New Roman"/>
              </a:rPr>
              <a:t>the rest will co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08680" indent="-508680">
              <a:lnSpc>
                <a:spcPct val="125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Franklin Gothic Demi"/>
                <a:ea typeface="Times New Roman"/>
              </a:rPr>
              <a:t>But still, I need a good framework to do PP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09480" y="1619280"/>
            <a:ext cx="8210520" cy="0"/>
          </a:xfrm>
          <a:prstGeom prst="line">
            <a:avLst/>
          </a:prstGeom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3486240" y="4133880"/>
            <a:ext cx="15620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Franklin Gothic Demi"/>
              </a:rPr>
              <a:t>Financing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Franklin Gothic Demi"/>
              </a:rPr>
              <a:t>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543480" y="2762280"/>
            <a:ext cx="1238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Franklin Gothic Demi"/>
              </a:rPr>
              <a:t>Lo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095720" y="5010120"/>
            <a:ext cx="156204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Franklin Gothic Demi"/>
              </a:rPr>
              <a:t>Construc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Franklin Gothic Demi"/>
              </a:rPr>
              <a:t>O&amp;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940280" y="1276200"/>
            <a:ext cx="2108160" cy="762840"/>
          </a:xfrm>
          <a:prstGeom prst="rect">
            <a:avLst/>
          </a:prstGeom>
          <a:solidFill>
            <a:srgbClr val="f7d5ff"/>
          </a:solidFill>
          <a:ln w="255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90099"/>
                </a:solidFill>
                <a:latin typeface="Franklin Gothic Demi"/>
              </a:rPr>
              <a:t>Public sector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90099"/>
                </a:solidFill>
                <a:latin typeface="Franklin Gothic Demi"/>
              </a:rPr>
              <a:t>bod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631880" y="2514600"/>
            <a:ext cx="1746360" cy="702360"/>
          </a:xfrm>
          <a:prstGeom prst="rect">
            <a:avLst/>
          </a:prstGeom>
          <a:solidFill>
            <a:srgbClr val="dbffb8"/>
          </a:solidFill>
          <a:ln w="255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Franklin Gothic Demi"/>
              </a:rPr>
              <a:t>Senior lend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991040" y="3257640"/>
            <a:ext cx="2095560" cy="109800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20000"/>
                </a:solidFill>
                <a:latin typeface="Franklin Gothic Demi"/>
              </a:rPr>
              <a:t>Private concessionai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635120" y="3371760"/>
            <a:ext cx="1720800" cy="1007280"/>
          </a:xfrm>
          <a:prstGeom prst="rect">
            <a:avLst/>
          </a:prstGeom>
          <a:solidFill>
            <a:srgbClr val="dbffb8"/>
          </a:solidFill>
          <a:ln w="255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Franklin Gothic Demi"/>
              </a:rPr>
              <a:t>Subordin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Franklin Gothic Demi"/>
              </a:rPr>
              <a:t> </a:t>
            </a:r>
            <a:r>
              <a:rPr b="0" lang="en-US" sz="2000" spc="-1" strike="noStrike">
                <a:solidFill>
                  <a:srgbClr val="009900"/>
                </a:solidFill>
                <a:latin typeface="Franklin Gothic Demi"/>
              </a:rPr>
              <a:t>lend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57440" y="4248000"/>
            <a:ext cx="1714320" cy="1007280"/>
          </a:xfrm>
          <a:prstGeom prst="rect">
            <a:avLst/>
          </a:prstGeom>
          <a:solidFill>
            <a:srgbClr val="dbffb8"/>
          </a:solidFill>
          <a:ln w="255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Franklin Gothic Demi"/>
              </a:rPr>
              <a:t>Financial equ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Franklin Gothic Demi"/>
              </a:rPr>
              <a:t>inves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667560" y="6002280"/>
            <a:ext cx="1162080" cy="366840"/>
          </a:xfrm>
          <a:prstGeom prst="rect">
            <a:avLst/>
          </a:prstGeom>
          <a:solidFill>
            <a:srgbClr val="99ccff">
              <a:alpha val="50000"/>
            </a:srgbClr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Book Antiqua"/>
              </a:rPr>
              <a:t>Spons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572160" y="4819680"/>
            <a:ext cx="1238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Franklin Gothic Demi"/>
              </a:rPr>
              <a:t>Equ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43240" y="228600"/>
            <a:ext cx="6324480" cy="666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0099"/>
                </a:solidFill>
                <a:latin typeface="Times New Roman"/>
              </a:rPr>
              <a:t>Framework : The typical project financing</a:t>
            </a:r>
            <a:endParaRPr b="1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353200" y="6002280"/>
            <a:ext cx="1162080" cy="366840"/>
          </a:xfrm>
          <a:prstGeom prst="rect">
            <a:avLst/>
          </a:prstGeom>
          <a:solidFill>
            <a:srgbClr val="99ccff">
              <a:alpha val="50000"/>
            </a:srgbClr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Book Antiqua"/>
              </a:rPr>
              <a:t>Spons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057560" y="6002280"/>
            <a:ext cx="1162080" cy="366840"/>
          </a:xfrm>
          <a:prstGeom prst="rect">
            <a:avLst/>
          </a:prstGeom>
          <a:solidFill>
            <a:srgbClr val="99ccff">
              <a:alpha val="50000"/>
            </a:srgbClr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Book Antiqua"/>
              </a:rPr>
              <a:t>Spons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429160" y="4400640"/>
            <a:ext cx="685800" cy="1390680"/>
          </a:xfrm>
          <a:prstGeom prst="downArrow">
            <a:avLst>
              <a:gd name="adj1" fmla="val 50000"/>
              <a:gd name="adj2" fmla="val 50696"/>
            </a:avLst>
          </a:prstGeom>
          <a:noFill/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rot="10824600">
            <a:off x="6076080" y="4381200"/>
            <a:ext cx="685800" cy="1390680"/>
          </a:xfrm>
          <a:prstGeom prst="downArrow">
            <a:avLst>
              <a:gd name="adj1" fmla="val 50000"/>
              <a:gd name="adj2" fmla="val 50696"/>
            </a:avLst>
          </a:prstGeom>
          <a:noFill/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867120" y="5924520"/>
            <a:ext cx="4152960" cy="552600"/>
          </a:xfrm>
          <a:prstGeom prst="rect">
            <a:avLst/>
          </a:prstGeom>
          <a:noFill/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95880" y="2476440"/>
            <a:ext cx="1695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Franklin Gothic Demi"/>
              </a:rPr>
              <a:t>Conc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619600" y="2209680"/>
            <a:ext cx="762120" cy="952560"/>
          </a:xfrm>
          <a:prstGeom prst="upDownArrow">
            <a:avLst>
              <a:gd name="adj1" fmla="val 50000"/>
              <a:gd name="adj2" fmla="val 24882"/>
            </a:avLst>
          </a:prstGeom>
          <a:noFill/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714840" y="3009960"/>
            <a:ext cx="1028520" cy="590400"/>
          </a:xfrm>
          <a:prstGeom prst="rightArrow">
            <a:avLst>
              <a:gd name="adj1" fmla="val 50000"/>
              <a:gd name="adj2" fmla="val 43552"/>
            </a:avLst>
          </a:prstGeom>
          <a:noFill/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523880" y="2438280"/>
            <a:ext cx="1981440" cy="2952720"/>
          </a:xfrm>
          <a:prstGeom prst="rect">
            <a:avLst/>
          </a:prstGeom>
          <a:noFill/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695760" y="3676680"/>
            <a:ext cx="952560" cy="590400"/>
          </a:xfrm>
          <a:prstGeom prst="leftArrow">
            <a:avLst>
              <a:gd name="adj1" fmla="val 50000"/>
              <a:gd name="adj2" fmla="val 40335"/>
            </a:avLst>
          </a:prstGeom>
          <a:noFill/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5/11/98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3448080" y="2705040"/>
            <a:ext cx="1905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Franklin Gothic Demi"/>
              </a:rPr>
              <a:t>Debt serv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940280" y="1276200"/>
            <a:ext cx="2108160" cy="762840"/>
          </a:xfrm>
          <a:prstGeom prst="rect">
            <a:avLst/>
          </a:prstGeom>
          <a:solidFill>
            <a:srgbClr val="f7d5ff"/>
          </a:solidFill>
          <a:ln w="255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90099"/>
                </a:solidFill>
                <a:latin typeface="Franklin Gothic Demi"/>
              </a:rPr>
              <a:t>Public sector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90099"/>
                </a:solidFill>
                <a:latin typeface="Franklin Gothic Demi"/>
              </a:rPr>
              <a:t>bod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31880" y="2514600"/>
            <a:ext cx="1746360" cy="702360"/>
          </a:xfrm>
          <a:prstGeom prst="rect">
            <a:avLst/>
          </a:prstGeom>
          <a:solidFill>
            <a:srgbClr val="dbffb8"/>
          </a:solidFill>
          <a:ln w="255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Franklin Gothic Demi"/>
              </a:rPr>
              <a:t>Senior lend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991040" y="3257640"/>
            <a:ext cx="2095560" cy="109800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20000"/>
                </a:solidFill>
                <a:latin typeface="Franklin Gothic Demi"/>
              </a:rPr>
              <a:t>Private concessionai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35120" y="3371760"/>
            <a:ext cx="1720800" cy="1007280"/>
          </a:xfrm>
          <a:prstGeom prst="rect">
            <a:avLst/>
          </a:prstGeom>
          <a:solidFill>
            <a:srgbClr val="dbffb8"/>
          </a:solidFill>
          <a:ln w="255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Franklin Gothic Demi"/>
              </a:rPr>
              <a:t>Subordin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Franklin Gothic Demi"/>
              </a:rPr>
              <a:t> </a:t>
            </a:r>
            <a:r>
              <a:rPr b="0" lang="en-US" sz="2000" spc="-1" strike="noStrike">
                <a:solidFill>
                  <a:srgbClr val="009900"/>
                </a:solidFill>
                <a:latin typeface="Franklin Gothic Demi"/>
              </a:rPr>
              <a:t>lend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657440" y="4343400"/>
            <a:ext cx="1714320" cy="1007280"/>
          </a:xfrm>
          <a:prstGeom prst="rect">
            <a:avLst/>
          </a:prstGeom>
          <a:solidFill>
            <a:srgbClr val="dbffb8"/>
          </a:solidFill>
          <a:ln w="255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Franklin Gothic Demi"/>
              </a:rPr>
              <a:t>Financial equ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Franklin Gothic Demi"/>
              </a:rPr>
              <a:t>inves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67560" y="6002280"/>
            <a:ext cx="1162080" cy="366840"/>
          </a:xfrm>
          <a:prstGeom prst="rect">
            <a:avLst/>
          </a:prstGeom>
          <a:solidFill>
            <a:srgbClr val="99ccff">
              <a:alpha val="50000"/>
            </a:srgbClr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Book Antiqua"/>
              </a:rPr>
              <a:t>Spons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343240" y="228600"/>
            <a:ext cx="6324480" cy="666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0099"/>
                </a:solidFill>
                <a:latin typeface="Times New Roman"/>
              </a:rPr>
              <a:t>The typical project financing</a:t>
            </a:r>
            <a:endParaRPr b="1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353200" y="6002280"/>
            <a:ext cx="1162080" cy="366840"/>
          </a:xfrm>
          <a:prstGeom prst="rect">
            <a:avLst/>
          </a:prstGeom>
          <a:solidFill>
            <a:srgbClr val="99ccff">
              <a:alpha val="50000"/>
            </a:srgbClr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Book Antiqua"/>
              </a:rPr>
              <a:t>Spons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057560" y="6002280"/>
            <a:ext cx="1162080" cy="366840"/>
          </a:xfrm>
          <a:prstGeom prst="rect">
            <a:avLst/>
          </a:prstGeom>
          <a:solidFill>
            <a:srgbClr val="99ccff">
              <a:alpha val="50000"/>
            </a:srgbClr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Book Antiqua"/>
              </a:rPr>
              <a:t>Spons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04880" y="2781360"/>
            <a:ext cx="819000" cy="2266920"/>
          </a:xfrm>
          <a:prstGeom prst="downArrow">
            <a:avLst>
              <a:gd name="adj1" fmla="val 50000"/>
              <a:gd name="adj2" fmla="val 69198"/>
            </a:avLst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rot="16200000">
            <a:off x="268200" y="3427200"/>
            <a:ext cx="162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0000"/>
                </a:solidFill>
                <a:latin typeface="Franklin Gothic Demi"/>
              </a:rPr>
              <a:t>Risk appeti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rot="21561000">
            <a:off x="611640" y="508428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0000"/>
                </a:solidFill>
                <a:latin typeface="Franklin Gothic Demi"/>
              </a:rPr>
              <a:t>   </a:t>
            </a:r>
            <a:r>
              <a:rPr b="0" i="1" lang="en-GB" sz="1800" spc="-1" strike="noStrike">
                <a:solidFill>
                  <a:srgbClr val="ff0000"/>
                </a:solidFill>
                <a:latin typeface="Franklin Gothic Demi"/>
              </a:rPr>
              <a:t>pl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867120" y="5924520"/>
            <a:ext cx="4152960" cy="552600"/>
          </a:xfrm>
          <a:prstGeom prst="rect">
            <a:avLst/>
          </a:prstGeom>
          <a:noFill/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924520" y="2362320"/>
            <a:ext cx="1695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Franklin Gothic Demi"/>
              </a:rPr>
              <a:t>Reven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523880" y="2438280"/>
            <a:ext cx="1981440" cy="1733760"/>
          </a:xfrm>
          <a:prstGeom prst="rect">
            <a:avLst/>
          </a:prstGeom>
          <a:noFill/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rot="21561000">
            <a:off x="695520" y="2322000"/>
            <a:ext cx="80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0000"/>
                </a:solidFill>
                <a:latin typeface="Franklin Gothic Demi"/>
              </a:rPr>
              <a:t>min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581280" y="3105000"/>
            <a:ext cx="1276560" cy="723960"/>
          </a:xfrm>
          <a:prstGeom prst="leftArrow">
            <a:avLst>
              <a:gd name="adj1" fmla="val 50000"/>
              <a:gd name="adj2" fmla="val 44083"/>
            </a:avLst>
          </a:prstGeom>
          <a:solidFill>
            <a:srgbClr val="ff0000">
              <a:alpha val="50000"/>
            </a:srgbClr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657760" y="2209680"/>
            <a:ext cx="781200" cy="952560"/>
          </a:xfrm>
          <a:prstGeom prst="downArrow">
            <a:avLst>
              <a:gd name="adj1" fmla="val 50000"/>
              <a:gd name="adj2" fmla="val 30484"/>
            </a:avLst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rot="2557800">
            <a:off x="6848280" y="2387520"/>
            <a:ext cx="780840" cy="924120"/>
          </a:xfrm>
          <a:prstGeom prst="downArrow">
            <a:avLst>
              <a:gd name="adj1" fmla="val 50000"/>
              <a:gd name="adj2" fmla="val 29587"/>
            </a:avLst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391520" y="1409760"/>
            <a:ext cx="1504800" cy="1123920"/>
          </a:xfrm>
          <a:prstGeom prst="ellipse">
            <a:avLst/>
          </a:prstGeom>
          <a:noFill/>
          <a:ln w="1260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8431"/>
                </a:solidFill>
                <a:latin typeface="Franklin Gothic Demi"/>
              </a:rPr>
              <a:t>Paying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8431"/>
                </a:solidFill>
                <a:latin typeface="Franklin Gothic Demi"/>
              </a:rPr>
              <a:t>us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rot="20027400">
            <a:off x="3664080" y="4494240"/>
            <a:ext cx="1562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Franklin Gothic Demi"/>
              </a:rPr>
              <a:t>Dividen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rot="19920000">
            <a:off x="3517920" y="4028760"/>
            <a:ext cx="1239840" cy="590400"/>
          </a:xfrm>
          <a:prstGeom prst="leftArrow">
            <a:avLst>
              <a:gd name="adj1" fmla="val 50000"/>
              <a:gd name="adj2" fmla="val 52500"/>
            </a:avLst>
          </a:prstGeom>
          <a:noFill/>
          <a:ln w="12600">
            <a:solidFill>
              <a:srgbClr val="f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095880" y="4781520"/>
            <a:ext cx="15624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Franklin Gothic Demi"/>
              </a:rPr>
              <a:t>Dividen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657760" y="4362480"/>
            <a:ext cx="685800" cy="1390680"/>
          </a:xfrm>
          <a:prstGeom prst="downArrow">
            <a:avLst>
              <a:gd name="adj1" fmla="val 50000"/>
              <a:gd name="adj2" fmla="val 50696"/>
            </a:avLst>
          </a:prstGeom>
          <a:noFill/>
          <a:ln w="12600">
            <a:solidFill>
              <a:srgbClr val="f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5/11/98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0" y="4800600"/>
            <a:ext cx="9144000" cy="2057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5d5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857840" y="762120"/>
            <a:ext cx="428616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Times New Roman"/>
              </a:rPr>
              <a:t>A game of contracts</a:t>
            </a:r>
            <a:endParaRPr b="1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99960" y="1809720"/>
            <a:ext cx="8477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60160" indent="-560160">
              <a:lnSpc>
                <a:spcPct val="125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Franklin Gothic Demi"/>
                <a:ea typeface="Times New Roman"/>
              </a:rPr>
              <a:t>For </a:t>
            </a:r>
            <a:r>
              <a:rPr b="0" lang="en-US" sz="3200" spc="-1" strike="noStrike">
                <a:solidFill>
                  <a:srgbClr val="ff0000"/>
                </a:solidFill>
                <a:latin typeface="Franklin Gothic Demi"/>
                <a:ea typeface="Times New Roman"/>
              </a:rPr>
              <a:t>ring fenc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60160" indent="-560160">
              <a:lnSpc>
                <a:spcPct val="125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Franklin Gothic Demi"/>
                <a:ea typeface="Times New Roman"/>
              </a:rPr>
              <a:t>For </a:t>
            </a:r>
            <a:r>
              <a:rPr b="0" lang="en-US" sz="3200" spc="-1" strike="noStrike">
                <a:solidFill>
                  <a:srgbClr val="ff0000"/>
                </a:solidFill>
                <a:latin typeface="Franklin Gothic Demi"/>
                <a:ea typeface="Times New Roman"/>
              </a:rPr>
              <a:t>risk sha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60160" indent="-560160">
              <a:lnSpc>
                <a:spcPct val="125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Franklin Gothic Demi"/>
                <a:ea typeface="Times New Roman"/>
              </a:rPr>
              <a:t>For setting </a:t>
            </a:r>
            <a:r>
              <a:rPr b="0" lang="en-US" sz="3200" spc="-1" strike="noStrike">
                <a:solidFill>
                  <a:srgbClr val="ff0000"/>
                </a:solidFill>
                <a:latin typeface="Franklin Gothic Demi"/>
                <a:ea typeface="Times New Roman"/>
              </a:rPr>
              <a:t>clar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60160" indent="-560160">
              <a:lnSpc>
                <a:spcPct val="125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Franklin Gothic Demi"/>
                <a:ea typeface="Times New Roman"/>
              </a:rPr>
              <a:t>For setting </a:t>
            </a:r>
            <a:r>
              <a:rPr b="0" lang="en-US" sz="3200" spc="-1" strike="noStrike">
                <a:solidFill>
                  <a:srgbClr val="ff0000"/>
                </a:solidFill>
                <a:latin typeface="Franklin Gothic Demi"/>
                <a:ea typeface="Times New Roman"/>
              </a:rPr>
              <a:t>priorities on cash </a:t>
            </a:r>
            <a:r>
              <a:rPr b="0" lang="en-US" sz="3200" spc="-1" strike="noStrike">
                <a:solidFill>
                  <a:srgbClr val="808080"/>
                </a:solidFill>
                <a:latin typeface="Franklin Gothic Demi"/>
                <a:ea typeface="Times New Roman"/>
              </a:rPr>
              <a:t>(and securit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60160" indent="-560160">
              <a:lnSpc>
                <a:spcPct val="125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Franklin Gothic Demi"/>
                <a:ea typeface="Times New Roman"/>
              </a:rPr>
              <a:t>The subject of</a:t>
            </a:r>
            <a:r>
              <a:rPr b="0" lang="en-US" sz="3200" spc="-1" strike="noStrike">
                <a:solidFill>
                  <a:srgbClr val="969696"/>
                </a:solidFill>
                <a:latin typeface="Franklin Gothic Demi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Franklin Gothic Demi"/>
                <a:ea typeface="Times New Roman"/>
              </a:rPr>
              <a:t>intensive negoti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09480" y="1504800"/>
            <a:ext cx="8210520" cy="0"/>
          </a:xfrm>
          <a:prstGeom prst="line">
            <a:avLst/>
          </a:prstGeom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0" y="4800600"/>
            <a:ext cx="9144000" cy="2057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5d5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47280" y="590040"/>
            <a:ext cx="849636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Times New Roman"/>
              </a:rPr>
              <a:t>More details about the Lenders’ objectives</a:t>
            </a:r>
            <a:endParaRPr b="1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66720" y="1504800"/>
            <a:ext cx="8477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60160" indent="-560160">
              <a:lnSpc>
                <a:spcPct val="125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Franklin Gothic Demi"/>
                <a:ea typeface="Times New Roman"/>
              </a:rPr>
              <a:t>Project Co’s  </a:t>
            </a:r>
            <a:r>
              <a:rPr b="0" lang="en-US" sz="2800" spc="-1" strike="noStrike">
                <a:solidFill>
                  <a:srgbClr val="ff0000"/>
                </a:solidFill>
                <a:latin typeface="Franklin Gothic Demi"/>
                <a:ea typeface="Times New Roman"/>
              </a:rPr>
              <a:t>cash flows </a:t>
            </a:r>
            <a:r>
              <a:rPr b="0" lang="en-US" sz="2800" spc="-1" strike="noStrike">
                <a:solidFill>
                  <a:srgbClr val="808080"/>
                </a:solidFill>
                <a:latin typeface="Franklin Gothic Demi"/>
                <a:ea typeface="Times New Roman"/>
              </a:rPr>
              <a:t>as source of debt repay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0160" indent="-560160">
              <a:lnSpc>
                <a:spcPct val="125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Franklin Gothic Demi"/>
                <a:ea typeface="Times New Roman"/>
              </a:rPr>
              <a:t>Revenues less expenses </a:t>
            </a:r>
            <a:r>
              <a:rPr b="0" lang="en-US" sz="2800" spc="-1" strike="noStrike">
                <a:solidFill>
                  <a:srgbClr val="808080"/>
                </a:solidFill>
                <a:latin typeface="Franklin Gothic Demi"/>
                <a:ea typeface="Times New Roman"/>
              </a:rPr>
              <a:t>that have</a:t>
            </a:r>
            <a:r>
              <a:rPr b="0" lang="en-US" sz="2800" spc="-1" strike="noStrike">
                <a:solidFill>
                  <a:srgbClr val="ff0000"/>
                </a:solidFill>
                <a:latin typeface="Franklin Gothic Demi"/>
                <a:ea typeface="Times New Roman"/>
              </a:rPr>
              <a:t> priority</a:t>
            </a:r>
            <a:r>
              <a:rPr b="0" lang="en-US" sz="2800" spc="-1" strike="noStrike">
                <a:solidFill>
                  <a:srgbClr val="808080"/>
                </a:solidFill>
                <a:latin typeface="Franklin Gothic Demi"/>
                <a:ea typeface="Times New Roman"/>
              </a:rPr>
              <a:t> over debt repayment (operating costs, maintenance costs, capital expenditure, taxes, …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0160" indent="-560160">
              <a:lnSpc>
                <a:spcPct val="125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Franklin Gothic Demi"/>
                <a:ea typeface="Times New Roman"/>
              </a:rPr>
              <a:t>Look in great details at the </a:t>
            </a:r>
            <a:r>
              <a:rPr b="0" lang="en-US" sz="2800" spc="-1" strike="noStrike">
                <a:solidFill>
                  <a:srgbClr val="ff0000"/>
                </a:solidFill>
                <a:latin typeface="Franklin Gothic Demi"/>
                <a:ea typeface="Times New Roman"/>
              </a:rPr>
              <a:t>predictability and stability of cash fl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5800" y="1314360"/>
            <a:ext cx="8210520" cy="0"/>
          </a:xfrm>
          <a:prstGeom prst="line">
            <a:avLst/>
          </a:prstGeom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200240" y="588636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76360" y="1504800"/>
            <a:ext cx="8138880" cy="3811680"/>
          </a:xfrm>
          <a:prstGeom prst="rect">
            <a:avLst/>
          </a:prstGeom>
          <a:noFill/>
          <a:ln w="0">
            <a:noFill/>
          </a:ln>
          <a:effectLst>
            <a:outerShdw dist="64600" dir="4725161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96969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969696"/>
                </a:solidFill>
                <a:latin typeface="Times New Roman"/>
              </a:rPr>
              <a:t>The typical project financ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000099"/>
                </a:solidFill>
                <a:latin typeface="Times New Roman"/>
              </a:rPr>
              <a:t>What lenders don’t lik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96969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69696"/>
                </a:solidFill>
                <a:latin typeface="Times New Roman"/>
              </a:rPr>
              <a:t>The role of the public secto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96969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69696"/>
                </a:solidFill>
                <a:latin typeface="Times New Roman"/>
              </a:rPr>
              <a:t>Lessons learnt from experien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5429160"/>
            <a:ext cx="9144000" cy="1428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5d5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276200" y="2533680"/>
            <a:ext cx="13356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24000" y="2857680"/>
            <a:ext cx="8248680" cy="6858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971600" y="895320"/>
            <a:ext cx="417204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Times New Roman"/>
              </a:rPr>
              <a:t>Presentation index</a:t>
            </a:r>
            <a:endParaRPr b="1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09480" y="1562040"/>
            <a:ext cx="8210520" cy="0"/>
          </a:xfrm>
          <a:prstGeom prst="line">
            <a:avLst/>
          </a:prstGeom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0" y="4800600"/>
            <a:ext cx="9144000" cy="2057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5d5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800240" y="818640"/>
            <a:ext cx="434340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Times New Roman"/>
              </a:rPr>
              <a:t>Lenders’ enemies…</a:t>
            </a:r>
            <a:endParaRPr b="1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85840" y="1486080"/>
            <a:ext cx="8477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514440" indent="-514440">
              <a:lnSpc>
                <a:spcPct val="125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Franklin Gothic Demi"/>
                <a:ea typeface="Times New Roman"/>
              </a:rPr>
              <a:t>Revenue risks </a:t>
            </a:r>
            <a:r>
              <a:rPr b="0" lang="en-US" sz="2800" spc="-1" strike="noStrike">
                <a:solidFill>
                  <a:srgbClr val="808080"/>
                </a:solidFill>
                <a:latin typeface="Franklin Gothic Demi"/>
                <a:ea typeface="Times New Roman"/>
              </a:rPr>
              <a:t>: user paying traffic, market prices, volume risk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25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Franklin Gothic Demi"/>
                <a:ea typeface="Times New Roman"/>
              </a:rPr>
              <a:t>Regulatory uncertainties </a:t>
            </a:r>
            <a:r>
              <a:rPr b="0" lang="en-US" sz="2800" spc="-1" strike="noStrike">
                <a:solidFill>
                  <a:srgbClr val="808080"/>
                </a:solidFill>
                <a:latin typeface="Franklin Gothic Demi"/>
                <a:ea typeface="Times New Roman"/>
              </a:rPr>
              <a:t>: changes in safety regulation, in laws, in tax, introduction of competitive infrastructure, changes in transport polici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25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Franklin Gothic Demi"/>
                <a:ea typeface="Times New Roman"/>
              </a:rPr>
              <a:t>Uncertainties on Project Co costs </a:t>
            </a:r>
            <a:r>
              <a:rPr b="0" lang="en-US" sz="2800" spc="-1" strike="noStrike">
                <a:solidFill>
                  <a:srgbClr val="808080"/>
                </a:solidFill>
                <a:latin typeface="Franklin Gothic Demi"/>
                <a:ea typeface="Times New Roman"/>
              </a:rPr>
              <a:t>: large capex in distant future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71680" y="1486080"/>
            <a:ext cx="8210520" cy="0"/>
          </a:xfrm>
          <a:prstGeom prst="line">
            <a:avLst/>
          </a:prstGeom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0" y="4800600"/>
            <a:ext cx="9144000" cy="2057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5d5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114800" y="685800"/>
            <a:ext cx="50292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Times New Roman"/>
              </a:rPr>
              <a:t>… </a:t>
            </a:r>
            <a:r>
              <a:rPr b="1" i="1" lang="en-US" sz="3600" spc="-1" strike="noStrike">
                <a:solidFill>
                  <a:srgbClr val="000099"/>
                </a:solidFill>
                <a:latin typeface="Times New Roman"/>
              </a:rPr>
              <a:t>lenders’ enemies …</a:t>
            </a:r>
            <a:endParaRPr b="1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80880" y="1771560"/>
            <a:ext cx="8477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125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Franklin Gothic Demi"/>
                <a:ea typeface="Times New Roman"/>
              </a:rPr>
              <a:t>Political instability </a:t>
            </a:r>
            <a:r>
              <a:rPr b="0" lang="en-US" sz="2800" spc="-1" strike="noStrike">
                <a:solidFill>
                  <a:srgbClr val="808080"/>
                </a:solidFill>
                <a:latin typeface="Franklin Gothic Demi"/>
                <a:ea typeface="Times New Roman"/>
              </a:rPr>
              <a:t>: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125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Franklin Gothic Demi"/>
                <a:ea typeface="Times New Roman"/>
              </a:rPr>
              <a:t>Technology risks </a:t>
            </a:r>
            <a:r>
              <a:rPr b="0" lang="en-US" sz="2800" spc="-1" strike="noStrike">
                <a:solidFill>
                  <a:srgbClr val="808080"/>
                </a:solidFill>
                <a:latin typeface="Franklin Gothic Demi"/>
                <a:ea typeface="Times New Roman"/>
              </a:rPr>
              <a:t>: unproven technology, fast changing environment…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125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Franklin Gothic Demi"/>
                <a:ea typeface="Times New Roman"/>
              </a:rPr>
              <a:t>Complex constructions </a:t>
            </a:r>
            <a:r>
              <a:rPr b="0" lang="en-US" sz="2800" spc="-1" strike="noStrike">
                <a:solidFill>
                  <a:srgbClr val="808080"/>
                </a:solidFill>
                <a:latin typeface="Franklin Gothic Demi"/>
                <a:ea typeface="Times New Roman"/>
              </a:rPr>
              <a:t>: geology, hi-technological or IT content, interfaces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125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Franklin Gothic Demi"/>
                <a:ea typeface="Times New Roman"/>
              </a:rPr>
              <a:t>And also</a:t>
            </a:r>
            <a:r>
              <a:rPr b="0" lang="en-US" sz="2800" spc="-1" strike="noStrike">
                <a:solidFill>
                  <a:srgbClr val="808080"/>
                </a:solidFill>
                <a:latin typeface="Franklin Gothic Demi"/>
                <a:ea typeface="Times New Roman"/>
              </a:rPr>
              <a:t>: force majeure, non insurability, planning risks, latent defects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71680" y="1371600"/>
            <a:ext cx="8210520" cy="0"/>
          </a:xfrm>
          <a:prstGeom prst="line">
            <a:avLst/>
          </a:prstGeom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4800600"/>
            <a:ext cx="9144000" cy="2057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5d5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305080" y="781200"/>
            <a:ext cx="657216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Times New Roman"/>
              </a:rPr>
              <a:t>Risk transfer is the key...</a:t>
            </a:r>
            <a:endParaRPr b="1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14080" y="1657440"/>
            <a:ext cx="824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474480" indent="-4744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08080"/>
                </a:solidFill>
                <a:latin typeface="Franklin Gothic Demi"/>
              </a:rPr>
              <a:t>Without risk transfer projects cannot be value for mon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74480" indent="-4744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08080"/>
                </a:solidFill>
                <a:latin typeface="Franklin Gothic Demi"/>
              </a:rPr>
              <a:t>Risks should be allocated to party best able to manage th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74480" indent="-4744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08080"/>
                </a:solidFill>
                <a:latin typeface="Franklin Gothic Demi"/>
              </a:rPr>
              <a:t>‘</a:t>
            </a:r>
            <a:r>
              <a:rPr b="0" lang="en-GB" sz="3200" spc="-1" strike="noStrike">
                <a:solidFill>
                  <a:srgbClr val="808080"/>
                </a:solidFill>
                <a:latin typeface="Franklin Gothic Demi"/>
              </a:rPr>
              <a:t>Optimum’ not maximum risk transf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74480" indent="-4744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08080"/>
                </a:solidFill>
                <a:latin typeface="Franklin Gothic Demi"/>
              </a:rPr>
              <a:t>Risk transfer has a pr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74480" indent="-4744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08080"/>
                </a:solidFill>
                <a:latin typeface="Franklin Gothic Demi"/>
              </a:rPr>
              <a:t>Greater the risk transfer, the less appetite banks will have for a project (bankabilit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7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808080"/>
                </a:solidFill>
                <a:latin typeface="Franklin Gothic Demi"/>
              </a:rPr>
              <a:t>… </a:t>
            </a:r>
            <a:r>
              <a:rPr b="0" i="1" lang="en-GB" sz="3200" spc="-1" strike="noStrike">
                <a:solidFill>
                  <a:srgbClr val="808080"/>
                </a:solidFill>
                <a:latin typeface="Franklin Gothic Demi"/>
              </a:rPr>
              <a:t>but without sufficient debt, projects may not be affordable…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744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09480" y="1657440"/>
            <a:ext cx="8210520" cy="0"/>
          </a:xfrm>
          <a:prstGeom prst="line">
            <a:avLst/>
          </a:prstGeom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4800600"/>
            <a:ext cx="9144000" cy="2057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5d5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114800" y="685800"/>
            <a:ext cx="50292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Times New Roman"/>
              </a:rPr>
              <a:t>… </a:t>
            </a:r>
            <a:r>
              <a:rPr b="1" i="1" lang="en-US" sz="3600" spc="-1" strike="noStrike">
                <a:solidFill>
                  <a:srgbClr val="000099"/>
                </a:solidFill>
                <a:latin typeface="Times New Roman"/>
              </a:rPr>
              <a:t>lenders’ enemies …</a:t>
            </a:r>
            <a:endParaRPr b="1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771560"/>
            <a:ext cx="8477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125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Franklin Gothic Demi"/>
                <a:ea typeface="Times New Roman"/>
              </a:rPr>
              <a:t>Shortening in concession perio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125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Franklin Gothic Demi"/>
                <a:ea typeface="Times New Roman"/>
              </a:rPr>
              <a:t>Inadequate Risk/Revenue balance </a:t>
            </a:r>
            <a:r>
              <a:rPr b="0" lang="en-US" sz="3200" spc="-1" strike="noStrike">
                <a:solidFill>
                  <a:srgbClr val="808080"/>
                </a:solidFill>
                <a:latin typeface="Franklin Gothic Demi"/>
                <a:ea typeface="Times New Roman"/>
              </a:rPr>
              <a:t>: “P”rivate sector take risks, often uncapped downside, “P”ublic sector to allow for upside (not to be capped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71680" y="1371600"/>
            <a:ext cx="8210520" cy="0"/>
          </a:xfrm>
          <a:prstGeom prst="line">
            <a:avLst/>
          </a:prstGeom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0" y="4800600"/>
            <a:ext cx="9144000" cy="2057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5d5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599840" y="856800"/>
            <a:ext cx="754380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Times New Roman"/>
              </a:rPr>
              <a:t>… </a:t>
            </a:r>
            <a:r>
              <a:rPr b="1" i="1" lang="en-US" sz="3600" spc="-1" strike="noStrike">
                <a:solidFill>
                  <a:srgbClr val="000099"/>
                </a:solidFill>
                <a:latin typeface="Times New Roman"/>
              </a:rPr>
              <a:t>lenders’ enemies (</a:t>
            </a: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last but not least</a:t>
            </a:r>
            <a:r>
              <a:rPr b="1" i="1" lang="en-US" sz="3600" spc="-1" strike="noStrike">
                <a:solidFill>
                  <a:srgbClr val="000099"/>
                </a:solidFill>
                <a:latin typeface="Times New Roman"/>
              </a:rPr>
              <a:t>)</a:t>
            </a:r>
            <a:endParaRPr b="1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66720" y="1714680"/>
            <a:ext cx="8477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508680" indent="-508680">
              <a:lnSpc>
                <a:spcPct val="125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Franklin Gothic Demi"/>
                <a:ea typeface="Times New Roman"/>
              </a:rPr>
              <a:t>Loss of concession contract </a:t>
            </a:r>
            <a:r>
              <a:rPr b="0" lang="en-US" sz="3200" spc="-1" strike="noStrike">
                <a:solidFill>
                  <a:srgbClr val="808080"/>
                </a:solidFill>
                <a:latin typeface="Franklin Gothic Demi"/>
                <a:ea typeface="Times New Roman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101960" indent="-423720">
              <a:lnSpc>
                <a:spcPct val="125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Franklin Gothic Demi"/>
                <a:ea typeface="Times New Roman"/>
              </a:rPr>
              <a:t>Events of defau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01960" indent="-423720">
              <a:lnSpc>
                <a:spcPct val="125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Franklin Gothic Demi"/>
                <a:ea typeface="Times New Roman"/>
              </a:rPr>
              <a:t>Compensation provi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08680" indent="-508680">
              <a:lnSpc>
                <a:spcPct val="125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Franklin Gothic Demi"/>
                <a:ea typeface="Times New Roman"/>
              </a:rPr>
              <a:t>The covenant risk </a:t>
            </a:r>
            <a:r>
              <a:rPr b="0" lang="en-US" sz="3200" spc="-1" strike="noStrike">
                <a:solidFill>
                  <a:srgbClr val="808080"/>
                </a:solidFill>
                <a:latin typeface="Franklin Gothic Demi"/>
                <a:ea typeface="Times New Roman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101960" indent="-423720">
              <a:lnSpc>
                <a:spcPct val="125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Franklin Gothic Demi"/>
                <a:ea typeface="Times New Roman"/>
              </a:rPr>
              <a:t>Who is the concession granto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01960" indent="-423720">
              <a:lnSpc>
                <a:spcPct val="125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Franklin Gothic Demi"/>
                <a:ea typeface="Times New Roman"/>
              </a:rPr>
              <a:t>How certain are its sources of funds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01960" indent="-423720">
              <a:lnSpc>
                <a:spcPct val="125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Franklin Gothic Demi"/>
                <a:ea typeface="Times New Roman"/>
              </a:rPr>
              <a:t>How could it change over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01960" indent="-423720">
              <a:lnSpc>
                <a:spcPct val="125000"/>
              </a:lnSpc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Franklin Gothic Demi"/>
                <a:ea typeface="Times New Roman"/>
              </a:rPr>
              <a:t>As good as Government risk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90400" y="1581120"/>
            <a:ext cx="8210880" cy="0"/>
          </a:xfrm>
          <a:prstGeom prst="line">
            <a:avLst/>
          </a:prstGeom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0" y="4800600"/>
            <a:ext cx="9144000" cy="2057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5d5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800240" y="818640"/>
            <a:ext cx="434340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Times New Roman"/>
              </a:rPr>
              <a:t>Lenders’ friends…</a:t>
            </a:r>
            <a:endParaRPr b="1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85840" y="1486080"/>
            <a:ext cx="8477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4798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Franklin Gothic Demi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Franklin Gothic Demi"/>
                <a:ea typeface="Times New Roman"/>
              </a:rPr>
              <a:t>CONCESSION CONTRA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-479880">
              <a:lnSpc>
                <a:spcPct val="125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08080"/>
                </a:solidFill>
                <a:latin typeface="Franklin Gothic Demi"/>
                <a:ea typeface="Times New Roman"/>
              </a:rPr>
              <a:t>Payment Mechanism – low expected volat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-479880">
              <a:lnSpc>
                <a:spcPct val="125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08080"/>
                </a:solidFill>
                <a:latin typeface="Franklin Gothic Demi"/>
                <a:ea typeface="Times New Roman"/>
              </a:rPr>
              <a:t>Termination events / termination compens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-479880">
              <a:lnSpc>
                <a:spcPct val="125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08080"/>
                </a:solidFill>
                <a:latin typeface="Franklin Gothic Demi"/>
                <a:ea typeface="Times New Roman"/>
              </a:rPr>
              <a:t>Step-in righ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-479880">
              <a:lnSpc>
                <a:spcPct val="125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08080"/>
                </a:solidFill>
                <a:latin typeface="Franklin Gothic Demi"/>
                <a:ea typeface="Times New Roman"/>
              </a:rPr>
              <a:t>Change in law / force maje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-479880">
              <a:lnSpc>
                <a:spcPct val="125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08080"/>
                </a:solidFill>
                <a:latin typeface="Franklin Gothic Demi"/>
                <a:ea typeface="Times New Roman"/>
              </a:rPr>
              <a:t>Uninsurable risks / sharing of insurance cost increase ris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-479880">
              <a:lnSpc>
                <a:spcPct val="125000"/>
              </a:lnSpc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08080"/>
                </a:solidFill>
                <a:latin typeface="Franklin Gothic Demi"/>
                <a:ea typeface="Times New Roman"/>
              </a:rPr>
              <a:t>“</a:t>
            </a:r>
            <a:r>
              <a:rPr b="0" lang="en-GB" sz="2800" spc="-1" strike="noStrike">
                <a:solidFill>
                  <a:srgbClr val="808080"/>
                </a:solidFill>
                <a:latin typeface="Franklin Gothic Demi"/>
                <a:ea typeface="Times New Roman"/>
              </a:rPr>
              <a:t>Equilibrio econmico-financiero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71680" y="1486080"/>
            <a:ext cx="8210520" cy="0"/>
          </a:xfrm>
          <a:prstGeom prst="line">
            <a:avLst/>
          </a:prstGeom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0" y="4800600"/>
            <a:ext cx="9144000" cy="2057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5d5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800240" y="818640"/>
            <a:ext cx="434340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Times New Roman"/>
              </a:rPr>
              <a:t>…</a:t>
            </a:r>
            <a:r>
              <a:rPr b="1" i="1" lang="en-US" sz="3600" spc="-1" strike="noStrike">
                <a:solidFill>
                  <a:srgbClr val="000099"/>
                </a:solidFill>
                <a:latin typeface="Times New Roman"/>
              </a:rPr>
              <a:t>Lenders’ friends…</a:t>
            </a:r>
            <a:endParaRPr b="1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285840" y="1486080"/>
            <a:ext cx="8477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Franklin Gothic Demi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Franklin Gothic Demi"/>
                <a:ea typeface="Times New Roman"/>
              </a:rPr>
              <a:t>SECURITY PACK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125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08080"/>
                </a:solidFill>
                <a:latin typeface="Franklin Gothic Demi"/>
                <a:ea typeface="Times New Roman"/>
              </a:rPr>
              <a:t>First ranking security over all the project assets, contracts and reven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125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Franklin Gothic Demi"/>
                <a:ea typeface="Times New Roman"/>
              </a:rPr>
              <a:t>Direct Agre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125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08080"/>
                </a:solidFill>
                <a:latin typeface="Franklin Gothic Demi"/>
                <a:ea typeface="Times New Roman"/>
              </a:rPr>
              <a:t>Enforceability and effectiveness even in SPV insolv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71680" y="1486080"/>
            <a:ext cx="8210520" cy="0"/>
          </a:xfrm>
          <a:prstGeom prst="line">
            <a:avLst/>
          </a:prstGeom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0" y="4800600"/>
            <a:ext cx="9144000" cy="2057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5d5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800240" y="818640"/>
            <a:ext cx="434340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Times New Roman"/>
              </a:rPr>
              <a:t>…</a:t>
            </a:r>
            <a:r>
              <a:rPr b="1" i="1" lang="en-US" sz="3600" spc="-1" strike="noStrike">
                <a:solidFill>
                  <a:srgbClr val="000099"/>
                </a:solidFill>
                <a:latin typeface="Times New Roman"/>
              </a:rPr>
              <a:t>Lenders’ friends…</a:t>
            </a:r>
            <a:endParaRPr b="1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285840" y="1486080"/>
            <a:ext cx="8477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50292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Franklin Gothic Demi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Franklin Gothic Demi"/>
                <a:ea typeface="Times New Roman"/>
              </a:rPr>
              <a:t>INSUR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02920" indent="-502920">
              <a:lnSpc>
                <a:spcPct val="125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Franklin Gothic Demi"/>
                <a:ea typeface="Times New Roman"/>
              </a:rPr>
              <a:t>Also delay in start-up, business interru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02920" indent="-502920">
              <a:lnSpc>
                <a:spcPct val="125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Franklin Gothic Demi"/>
                <a:ea typeface="Times New Roman"/>
              </a:rPr>
              <a:t>Uninsurable risk coverage under concession contra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02920" indent="-502920">
              <a:lnSpc>
                <a:spcPct val="125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Franklin Gothic Demi"/>
                <a:ea typeface="Times New Roman"/>
              </a:rPr>
              <a:t>Lenders as co-insured and security over insurance procee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02920" indent="-502920">
              <a:lnSpc>
                <a:spcPct val="125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Franklin Gothic Demi"/>
                <a:ea typeface="Times New Roman"/>
              </a:rPr>
              <a:t>Lender endorsements: non-vitiation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02920" indent="-502920">
              <a:lnSpc>
                <a:spcPct val="125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Franklin Gothic Demi"/>
                <a:ea typeface="Times New Roman"/>
              </a:rPr>
              <a:t>… </a:t>
            </a:r>
            <a:r>
              <a:rPr b="0" lang="en-US" sz="2800" spc="-1" strike="noStrike">
                <a:solidFill>
                  <a:srgbClr val="808080"/>
                </a:solidFill>
                <a:latin typeface="Franklin Gothic Demi"/>
                <a:ea typeface="Times New Roman"/>
              </a:rPr>
              <a:t>a good insurance advisor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71680" y="1486080"/>
            <a:ext cx="8210520" cy="0"/>
          </a:xfrm>
          <a:prstGeom prst="line">
            <a:avLst/>
          </a:prstGeom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0" y="4800600"/>
            <a:ext cx="9144000" cy="2057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5d5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552400" y="856800"/>
            <a:ext cx="659124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Times New Roman"/>
              </a:rPr>
              <a:t>The importance of due diligence</a:t>
            </a:r>
            <a:endParaRPr b="1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66720" y="1981080"/>
            <a:ext cx="8477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125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Franklin Gothic Demi"/>
                <a:ea typeface="Times New Roman"/>
              </a:rPr>
              <a:t>Cash flow, technical, legal, insurance:</a:t>
            </a:r>
            <a:r>
              <a:rPr b="0" lang="en-US" sz="3200" spc="-1" strike="noStrike">
                <a:solidFill>
                  <a:srgbClr val="ff0000"/>
                </a:solidFill>
                <a:latin typeface="Franklin Gothic Demi"/>
                <a:ea typeface="Times New Roman"/>
              </a:rPr>
              <a:t> “leaving no stone unturned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125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Franklin Gothic Demi"/>
                <a:ea typeface="Times New Roman"/>
              </a:rPr>
              <a:t>Negotiations </a:t>
            </a:r>
            <a:r>
              <a:rPr b="0" lang="en-US" sz="3200" spc="-1" strike="noStrike">
                <a:solidFill>
                  <a:srgbClr val="969696"/>
                </a:solidFill>
                <a:latin typeface="Franklin Gothic Demi"/>
                <a:ea typeface="Times New Roman"/>
              </a:rPr>
              <a:t>:</a:t>
            </a:r>
            <a:r>
              <a:rPr b="0" lang="en-US" sz="3200" spc="-1" strike="noStrike">
                <a:solidFill>
                  <a:srgbClr val="ff0000"/>
                </a:solidFill>
                <a:latin typeface="Franklin Gothic Demi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969696"/>
                </a:solidFill>
                <a:latin typeface="Franklin Gothic Demi"/>
                <a:ea typeface="Times New Roman"/>
              </a:rPr>
              <a:t>to ensure that the commercial agreements and legal documents</a:t>
            </a:r>
            <a:r>
              <a:rPr b="0" lang="en-US" sz="3200" spc="-1" strike="noStrike">
                <a:solidFill>
                  <a:srgbClr val="ff0000"/>
                </a:solidFill>
                <a:latin typeface="Franklin Gothic Demi"/>
                <a:ea typeface="Times New Roman"/>
              </a:rPr>
              <a:t> provide for the required com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90400" y="1600200"/>
            <a:ext cx="8210880" cy="0"/>
          </a:xfrm>
          <a:prstGeom prst="line">
            <a:avLst/>
          </a:prstGeom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200240" y="588636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890640" y="1733400"/>
            <a:ext cx="8253360" cy="3202200"/>
          </a:xfrm>
          <a:prstGeom prst="rect">
            <a:avLst/>
          </a:prstGeom>
          <a:noFill/>
          <a:ln w="0">
            <a:noFill/>
          </a:ln>
          <a:effectLst>
            <a:outerShdw dist="64600" dir="4725161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96969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969696"/>
                </a:solidFill>
                <a:latin typeface="Times New Roman"/>
              </a:rPr>
              <a:t>The typical project financ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96969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969696"/>
                </a:solidFill>
                <a:latin typeface="Times New Roman"/>
              </a:rPr>
              <a:t>What lenders don’t lik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000099"/>
                </a:solidFill>
                <a:latin typeface="Times New Roman"/>
              </a:rPr>
              <a:t>The role of the public secto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96969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969696"/>
                </a:solidFill>
                <a:latin typeface="Times New Roman"/>
              </a:rPr>
              <a:t>Lessons learnt from experien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0" y="5429160"/>
            <a:ext cx="9144000" cy="1428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5d5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276200" y="2533680"/>
            <a:ext cx="13356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85800" y="3657600"/>
            <a:ext cx="8210520" cy="6858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971600" y="1028880"/>
            <a:ext cx="417204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Times New Roman"/>
              </a:rPr>
              <a:t>Presentation index</a:t>
            </a:r>
            <a:endParaRPr b="1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71680" y="1714680"/>
            <a:ext cx="8210520" cy="0"/>
          </a:xfrm>
          <a:prstGeom prst="line">
            <a:avLst/>
          </a:prstGeom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0" y="4800600"/>
            <a:ext cx="9144000" cy="2057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5d5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0" y="723960"/>
            <a:ext cx="885816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Times New Roman"/>
              </a:rPr>
              <a:t>Risk mitigation: </a:t>
            </a:r>
            <a:br>
              <a:rPr sz="3600"/>
            </a:br>
            <a:r>
              <a:rPr b="1" i="1" lang="en-US" sz="3600" spc="-1" strike="noStrike">
                <a:solidFill>
                  <a:srgbClr val="000099"/>
                </a:solidFill>
                <a:latin typeface="Times New Roman"/>
              </a:rPr>
              <a:t>key role for the public sector</a:t>
            </a:r>
            <a:endParaRPr b="1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399960" y="1809720"/>
            <a:ext cx="8477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531360" indent="-531360">
              <a:lnSpc>
                <a:spcPct val="125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Franklin Gothic Demi"/>
                <a:ea typeface="Times New Roman"/>
              </a:rPr>
              <a:t>“</a:t>
            </a:r>
            <a:r>
              <a:rPr b="0" lang="en-US" sz="2800" spc="-1" strike="noStrike">
                <a:solidFill>
                  <a:srgbClr val="ff0000"/>
                </a:solidFill>
                <a:latin typeface="Franklin Gothic Demi"/>
                <a:ea typeface="Times New Roman"/>
              </a:rPr>
              <a:t>Guaranteeing” revenues </a:t>
            </a:r>
            <a:r>
              <a:rPr b="0" lang="en-US" sz="2800" spc="-1" strike="noStrike">
                <a:solidFill>
                  <a:srgbClr val="808080"/>
                </a:solidFill>
                <a:latin typeface="Franklin Gothic Demi"/>
                <a:ea typeface="Times New Roman"/>
              </a:rPr>
              <a:t>: shadow tolls, minimum traffic guarantees, availability payment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1360" indent="-531360">
              <a:lnSpc>
                <a:spcPct val="125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Franklin Gothic Demi"/>
                <a:ea typeface="Times New Roman"/>
              </a:rPr>
              <a:t>“</a:t>
            </a:r>
            <a:r>
              <a:rPr b="0" lang="en-US" sz="2800" spc="-1" strike="noStrike">
                <a:solidFill>
                  <a:srgbClr val="ff0000"/>
                </a:solidFill>
                <a:latin typeface="Franklin Gothic Demi"/>
                <a:ea typeface="Times New Roman"/>
              </a:rPr>
              <a:t>Protecting” cash flows </a:t>
            </a:r>
            <a:r>
              <a:rPr b="0" lang="en-US" sz="2800" spc="-1" strike="noStrike">
                <a:solidFill>
                  <a:srgbClr val="808080"/>
                </a:solidFill>
                <a:latin typeface="Franklin Gothic Demi"/>
                <a:ea typeface="Times New Roman"/>
              </a:rPr>
              <a:t>: compensation events (money and time), construction cost subsidies for projects with weak economics, …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1360" indent="-531360">
              <a:lnSpc>
                <a:spcPct val="125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Franklin Gothic Demi"/>
                <a:ea typeface="Times New Roman"/>
              </a:rPr>
              <a:t>Certainties on regulatory framework </a:t>
            </a:r>
            <a:r>
              <a:rPr b="0" lang="en-US" sz="2800" spc="-1" strike="noStrike">
                <a:solidFill>
                  <a:srgbClr val="808080"/>
                </a:solidFill>
                <a:latin typeface="Franklin Gothic Demi"/>
                <a:ea typeface="Times New Roman"/>
              </a:rPr>
              <a:t>: compensation events, capped risk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71680" y="1714680"/>
            <a:ext cx="8210520" cy="0"/>
          </a:xfrm>
          <a:prstGeom prst="line">
            <a:avLst/>
          </a:prstGeom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0" y="4800600"/>
            <a:ext cx="9144000" cy="2057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5d5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0" y="723960"/>
            <a:ext cx="885816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Times New Roman"/>
              </a:rPr>
              <a:t>Risk mitigation: </a:t>
            </a:r>
            <a:br>
              <a:rPr sz="3600"/>
            </a:br>
            <a:r>
              <a:rPr b="1" i="1" lang="en-US" sz="3600" spc="-1" strike="noStrike">
                <a:solidFill>
                  <a:srgbClr val="000099"/>
                </a:solidFill>
                <a:latin typeface="Times New Roman"/>
              </a:rPr>
              <a:t>key role for the public sector</a:t>
            </a:r>
            <a:endParaRPr b="1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38120" y="1962000"/>
            <a:ext cx="8477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125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Franklin Gothic Demi"/>
                <a:ea typeface="Times New Roman"/>
              </a:rPr>
              <a:t>Clarity </a:t>
            </a:r>
            <a:r>
              <a:rPr b="0" lang="en-US" sz="2800" spc="-1" strike="noStrike">
                <a:solidFill>
                  <a:srgbClr val="808080"/>
                </a:solidFill>
                <a:latin typeface="Franklin Gothic Demi"/>
                <a:ea typeface="Times New Roman"/>
              </a:rPr>
              <a:t>on events leading to loss of contrac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125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Franklin Gothic Demi"/>
                <a:ea typeface="Times New Roman"/>
              </a:rPr>
              <a:t>Certainty</a:t>
            </a:r>
            <a:r>
              <a:rPr b="0" lang="en-US" sz="2800" spc="-1" strike="noStrike">
                <a:solidFill>
                  <a:srgbClr val="808080"/>
                </a:solidFill>
                <a:latin typeface="Franklin Gothic Demi"/>
                <a:ea typeface="Times New Roman"/>
              </a:rPr>
              <a:t> on how lenders and investors are compensated upon concession termin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125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Franklin Gothic Demi"/>
                <a:ea typeface="Times New Roman"/>
              </a:rPr>
              <a:t>Ensuring that the “covenant” is </a:t>
            </a:r>
            <a:r>
              <a:rPr b="0" lang="en-US" sz="2800" spc="-1" strike="noStrike">
                <a:solidFill>
                  <a:srgbClr val="ff0000"/>
                </a:solidFill>
                <a:latin typeface="Franklin Gothic Demi"/>
                <a:ea typeface="Times New Roman"/>
              </a:rPr>
              <a:t>creditworthy for the long te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71680" y="1714680"/>
            <a:ext cx="8210520" cy="0"/>
          </a:xfrm>
          <a:prstGeom prst="line">
            <a:avLst/>
          </a:prstGeom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0" y="4800600"/>
            <a:ext cx="9144000" cy="2057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5d5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0" y="723960"/>
            <a:ext cx="885816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000099"/>
                </a:solidFill>
                <a:latin typeface="Times New Roman"/>
              </a:rPr>
              <a:t>Successful PPPs : </a:t>
            </a:r>
            <a:br>
              <a:rPr sz="3600"/>
            </a:br>
            <a:r>
              <a:rPr b="1" i="1" lang="en-GB" sz="3600" spc="-1" strike="noStrike">
                <a:solidFill>
                  <a:srgbClr val="000099"/>
                </a:solidFill>
                <a:latin typeface="Times New Roman"/>
              </a:rPr>
              <a:t>key role for the public sector</a:t>
            </a:r>
            <a:endParaRPr b="1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399960" y="1619280"/>
            <a:ext cx="8477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468720" indent="-468720">
              <a:lnSpc>
                <a:spcPct val="125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Franklin Gothic Demi"/>
                <a:ea typeface="Times New Roman"/>
              </a:rPr>
              <a:t>Political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8720" indent="-468720">
              <a:lnSpc>
                <a:spcPct val="125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Franklin Gothic Demi"/>
                <a:ea typeface="Times New Roman"/>
              </a:rPr>
              <a:t>Enabling legis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8720" indent="-468720">
              <a:lnSpc>
                <a:spcPct val="125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Franklin Gothic Demi"/>
                <a:ea typeface="Times New Roman"/>
              </a:rPr>
              <a:t>Public sector expertis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8720" indent="-468720">
              <a:lnSpc>
                <a:spcPct val="125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Franklin Gothic Demi"/>
                <a:ea typeface="Times New Roman"/>
              </a:rPr>
              <a:t>Sector &amp; project prioritis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8720" indent="-468720">
              <a:lnSpc>
                <a:spcPct val="125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Franklin Gothic Demi"/>
                <a:ea typeface="Times New Roman"/>
              </a:rPr>
              <a:t>Deal flow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8720" indent="-468720">
              <a:lnSpc>
                <a:spcPct val="125000"/>
              </a:lnSpc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Franklin Gothic Demi"/>
                <a:ea typeface="Times New Roman"/>
              </a:rPr>
              <a:t>Increasing market confid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8720" indent="-468720">
              <a:lnSpc>
                <a:spcPct val="125000"/>
              </a:lnSpc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Franklin Gothic Demi"/>
                <a:ea typeface="Times New Roman"/>
              </a:rPr>
              <a:t>Standardisation (contracts, procedur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1680" y="1714680"/>
            <a:ext cx="8210520" cy="0"/>
          </a:xfrm>
          <a:prstGeom prst="line">
            <a:avLst/>
          </a:prstGeom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4800600"/>
            <a:ext cx="9144000" cy="2057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5d5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943600" y="933480"/>
            <a:ext cx="3200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Times New Roman"/>
              </a:rPr>
              <a:t>But…</a:t>
            </a:r>
            <a:endParaRPr b="1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28200" y="1790640"/>
            <a:ext cx="824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125000"/>
              </a:lnSpc>
              <a:spcBef>
                <a:spcPts val="901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08080"/>
                </a:solidFill>
                <a:latin typeface="Franklin Gothic Demi"/>
              </a:rPr>
              <a:t>Uncertainties are the lenders’ worst enemy, because uncertainty means</a:t>
            </a:r>
            <a:r>
              <a:rPr b="0" lang="en-GB" sz="3200" spc="-1" strike="noStrike">
                <a:solidFill>
                  <a:srgbClr val="000000"/>
                </a:solidFill>
                <a:latin typeface="Franklin Gothic Demi"/>
              </a:rPr>
              <a:t> </a:t>
            </a:r>
            <a:r>
              <a:rPr b="0" lang="en-GB" sz="3600" spc="-1" strike="noStrike">
                <a:solidFill>
                  <a:srgbClr val="ff0000"/>
                </a:solidFill>
                <a:latin typeface="Franklin Gothic Demi"/>
              </a:rPr>
              <a:t>ris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125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Franklin Gothic Demi"/>
                <a:ea typeface="Times New Roman"/>
              </a:rPr>
              <a:t>The </a:t>
            </a:r>
            <a:r>
              <a:rPr b="0" lang="en-US" sz="3200" spc="-1" strike="noStrike">
                <a:solidFill>
                  <a:srgbClr val="ff0000"/>
                </a:solidFill>
                <a:latin typeface="Franklin Gothic Demi"/>
                <a:ea typeface="Times New Roman"/>
              </a:rPr>
              <a:t>lenders’ quest </a:t>
            </a:r>
            <a:r>
              <a:rPr b="0" lang="en-US" sz="3200" spc="-1" strike="noStrike">
                <a:solidFill>
                  <a:srgbClr val="808080"/>
                </a:solidFill>
                <a:latin typeface="Franklin Gothic Demi"/>
                <a:ea typeface="Times New Roman"/>
              </a:rPr>
              <a:t>: where will the cash needed to repay the debt come from and how certain is i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09480" y="1657440"/>
            <a:ext cx="8210520" cy="0"/>
          </a:xfrm>
          <a:prstGeom prst="line">
            <a:avLst/>
          </a:prstGeom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0" y="4800600"/>
            <a:ext cx="9144000" cy="2057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5d5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0" y="723960"/>
            <a:ext cx="885816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000099"/>
                </a:solidFill>
                <a:latin typeface="Times New Roman"/>
              </a:rPr>
              <a:t>Successful PPPs : </a:t>
            </a:r>
            <a:br>
              <a:rPr sz="3600"/>
            </a:br>
            <a:r>
              <a:rPr b="1" i="1" lang="en-GB" sz="3600" spc="-1" strike="noStrike">
                <a:solidFill>
                  <a:srgbClr val="000099"/>
                </a:solidFill>
                <a:latin typeface="Times New Roman"/>
              </a:rPr>
              <a:t>key role for the public sector</a:t>
            </a:r>
            <a:endParaRPr b="1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0" y="230508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 sector’s capacity to man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etitiveness of bidding pro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ropriateness of risk sha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Economic fundament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2324160" indent="0">
              <a:lnSpc>
                <a:spcPct val="125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71680" y="1714680"/>
            <a:ext cx="8210520" cy="0"/>
          </a:xfrm>
          <a:prstGeom prst="line">
            <a:avLst/>
          </a:prstGeom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0" y="781200"/>
            <a:ext cx="5029200" cy="5619240"/>
            <a:chOff x="0" y="781200"/>
            <a:chExt cx="5029200" cy="5619240"/>
          </a:xfrm>
        </p:grpSpPr>
        <p:sp>
          <p:nvSpPr>
            <p:cNvPr id="295" name="Pyr2"/>
            <p:cNvSpPr/>
            <p:nvPr/>
          </p:nvSpPr>
          <p:spPr>
            <a:xfrm>
              <a:off x="1284480" y="2101680"/>
              <a:ext cx="2469960" cy="1434600"/>
            </a:xfrm>
            <a:prstGeom prst="pie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3399ff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1e5b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200" spc="-1" strike="noStrike">
                  <a:solidFill>
                    <a:srgbClr val="000000"/>
                  </a:solidFill>
                  <a:latin typeface="Arial"/>
                </a:rPr>
                <a:t>Competi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Pyr3"/>
            <p:cNvSpPr/>
            <p:nvPr/>
          </p:nvSpPr>
          <p:spPr>
            <a:xfrm>
              <a:off x="661680" y="3536640"/>
              <a:ext cx="3735360" cy="1434600"/>
            </a:xfrm>
            <a:prstGeom prst="pie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03c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200" spc="-1" strike="noStrike">
                  <a:solidFill>
                    <a:srgbClr val="000000"/>
                  </a:solidFill>
                  <a:latin typeface="Arial"/>
                </a:rPr>
                <a:t>Risk alloc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Pyr4"/>
            <p:cNvSpPr/>
            <p:nvPr/>
          </p:nvSpPr>
          <p:spPr>
            <a:xfrm>
              <a:off x="0" y="4963320"/>
              <a:ext cx="5029200" cy="1437120"/>
            </a:xfrm>
            <a:prstGeom prst="pi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0000ff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000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200" spc="-1" strike="noStrike">
                  <a:solidFill>
                    <a:srgbClr val="000000"/>
                  </a:solidFill>
                  <a:latin typeface="Arial"/>
                </a:rPr>
                <a:t>Economic Fundamental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Pyr1"/>
            <p:cNvSpPr/>
            <p:nvPr/>
          </p:nvSpPr>
          <p:spPr>
            <a:xfrm>
              <a:off x="1844640" y="781200"/>
              <a:ext cx="1333800" cy="1512720"/>
            </a:xfrm>
            <a:prstGeom prst="pie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66ccff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3c79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200" spc="-1" strike="noStrike">
                  <a:solidFill>
                    <a:srgbClr val="000000"/>
                  </a:solidFill>
                  <a:latin typeface="Arial"/>
                </a:rPr>
                <a:t>Delive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200240" y="588636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747720" y="2019240"/>
            <a:ext cx="8082000" cy="3141360"/>
          </a:xfrm>
          <a:prstGeom prst="rect">
            <a:avLst/>
          </a:prstGeom>
          <a:noFill/>
          <a:ln w="0">
            <a:noFill/>
          </a:ln>
          <a:effectLst>
            <a:outerShdw dist="64600" dir="4725161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96969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69696"/>
                </a:solidFill>
                <a:latin typeface="Times New Roman"/>
              </a:rPr>
              <a:t>The typical project financ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96969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69696"/>
                </a:solidFill>
                <a:latin typeface="Times New Roman"/>
              </a:rPr>
              <a:t>What lenders don’t lik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96969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69696"/>
                </a:solidFill>
                <a:latin typeface="Times New Roman"/>
              </a:rPr>
              <a:t>The role of the public secto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Lessons learnt from experien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0" y="5429160"/>
            <a:ext cx="9144000" cy="1428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5d5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276200" y="2533680"/>
            <a:ext cx="13356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90400" y="4514760"/>
            <a:ext cx="7963200" cy="6858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971600" y="971640"/>
            <a:ext cx="417204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Times New Roman"/>
              </a:rPr>
              <a:t>Presentation index</a:t>
            </a:r>
            <a:endParaRPr b="1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71680" y="1714680"/>
            <a:ext cx="8210520" cy="0"/>
          </a:xfrm>
          <a:prstGeom prst="line">
            <a:avLst/>
          </a:prstGeom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0" y="4800600"/>
            <a:ext cx="9144000" cy="2057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5d5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343560" y="685800"/>
            <a:ext cx="2533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Times New Roman"/>
              </a:rPr>
              <a:t>Be realistic</a:t>
            </a:r>
            <a:endParaRPr b="1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61800" y="1562040"/>
            <a:ext cx="8477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37120" indent="-537120">
              <a:lnSpc>
                <a:spcPct val="125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69696"/>
                </a:solidFill>
                <a:latin typeface="Franklin Gothic Demi"/>
                <a:ea typeface="Times New Roman"/>
              </a:rPr>
              <a:t>Degree of</a:t>
            </a:r>
            <a:r>
              <a:rPr b="0" lang="en-US" sz="2800" spc="-1" strike="noStrike">
                <a:solidFill>
                  <a:srgbClr val="ff0000"/>
                </a:solidFill>
                <a:latin typeface="Franklin Gothic Demi"/>
                <a:ea typeface="Times New Roman"/>
              </a:rPr>
              <a:t> private funding</a:t>
            </a:r>
            <a:r>
              <a:rPr b="0" lang="en-US" sz="2800" spc="-1" strike="noStrike">
                <a:solidFill>
                  <a:srgbClr val="808080"/>
                </a:solidFill>
                <a:latin typeface="Franklin Gothic Demi"/>
                <a:ea typeface="Times New Roman"/>
              </a:rPr>
              <a:t> that a project can car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7120" indent="-537120">
              <a:lnSpc>
                <a:spcPct val="125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69696"/>
                </a:solidFill>
                <a:latin typeface="Franklin Gothic Demi"/>
                <a:ea typeface="Times New Roman"/>
              </a:rPr>
              <a:t>Degree of</a:t>
            </a:r>
            <a:r>
              <a:rPr b="0" lang="en-US" sz="2800" spc="-1" strike="noStrike">
                <a:solidFill>
                  <a:srgbClr val="ff0000"/>
                </a:solidFill>
                <a:latin typeface="Franklin Gothic Demi"/>
                <a:ea typeface="Times New Roman"/>
              </a:rPr>
              <a:t> public support</a:t>
            </a:r>
            <a:r>
              <a:rPr b="0" lang="en-US" sz="2800" spc="-1" strike="noStrike">
                <a:solidFill>
                  <a:srgbClr val="808080"/>
                </a:solidFill>
                <a:latin typeface="Franklin Gothic Demi"/>
                <a:ea typeface="Times New Roman"/>
              </a:rPr>
              <a:t> that a project ne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7120" indent="-537120">
              <a:lnSpc>
                <a:spcPct val="125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Franklin Gothic Demi"/>
                <a:ea typeface="Times New Roman"/>
              </a:rPr>
              <a:t>“</a:t>
            </a:r>
            <a:r>
              <a:rPr b="0" lang="en-US" sz="2800" spc="-1" strike="noStrike">
                <a:solidFill>
                  <a:srgbClr val="ff0000"/>
                </a:solidFill>
                <a:latin typeface="Franklin Gothic Demi"/>
                <a:ea typeface="Times New Roman"/>
              </a:rPr>
              <a:t>Who controls takes the risk</a:t>
            </a:r>
            <a:r>
              <a:rPr b="0" lang="en-US" sz="2800" spc="-1" strike="noStrike">
                <a:solidFill>
                  <a:srgbClr val="808080"/>
                </a:solidFill>
                <a:latin typeface="Franklin Gothic Demi"/>
                <a:ea typeface="Times New Roman"/>
              </a:rPr>
              <a:t>” princi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7120" indent="-537120">
              <a:lnSpc>
                <a:spcPct val="125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Franklin Gothic Demi"/>
                <a:ea typeface="Times New Roman"/>
              </a:rPr>
              <a:t>Use the </a:t>
            </a:r>
            <a:r>
              <a:rPr b="0" lang="en-US" sz="2800" spc="-1" strike="noStrike">
                <a:solidFill>
                  <a:srgbClr val="ff0000"/>
                </a:solidFill>
                <a:latin typeface="Franklin Gothic Demi"/>
                <a:ea typeface="Times New Roman"/>
              </a:rPr>
              <a:t>private sector</a:t>
            </a:r>
            <a:r>
              <a:rPr b="0" lang="en-US" sz="2800" spc="-1" strike="noStrike">
                <a:solidFill>
                  <a:srgbClr val="808080"/>
                </a:solidFill>
                <a:latin typeface="Franklin Gothic Demi"/>
                <a:ea typeface="Times New Roman"/>
              </a:rPr>
              <a:t> where it is </a:t>
            </a:r>
            <a:r>
              <a:rPr b="0" lang="en-US" sz="2800" spc="-1" strike="noStrike">
                <a:solidFill>
                  <a:srgbClr val="969696"/>
                </a:solidFill>
                <a:latin typeface="Franklin Gothic Demi"/>
                <a:ea typeface="Times New Roman"/>
              </a:rPr>
              <a:t>b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7120" indent="-537120">
              <a:lnSpc>
                <a:spcPct val="125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Franklin Gothic Demi"/>
                <a:ea typeface="Times New Roman"/>
              </a:rPr>
              <a:t>Timetables</a:t>
            </a:r>
            <a:r>
              <a:rPr b="0" lang="en-US" sz="2800" spc="-1" strike="noStrike">
                <a:solidFill>
                  <a:srgbClr val="808080"/>
                </a:solidFill>
                <a:latin typeface="Franklin Gothic Demi"/>
                <a:ea typeface="Times New Roman"/>
              </a:rPr>
              <a:t> are always too optimist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7120" indent="-537120">
              <a:lnSpc>
                <a:spcPct val="125000"/>
              </a:lnSpc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08080"/>
                </a:solidFill>
                <a:latin typeface="Franklin Gothic Demi"/>
                <a:ea typeface="Times New Roman"/>
              </a:rPr>
              <a:t>Dedicated, resourced, skilled and empowered </a:t>
            </a:r>
            <a:r>
              <a:rPr b="0" lang="en-GB" sz="2800" spc="-1" strike="noStrike">
                <a:solidFill>
                  <a:srgbClr val="ff0000"/>
                </a:solidFill>
                <a:latin typeface="Franklin Gothic Demi"/>
                <a:ea typeface="Times New Roman"/>
              </a:rPr>
              <a:t>public sector te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90400" y="1371600"/>
            <a:ext cx="8210880" cy="0"/>
          </a:xfrm>
          <a:prstGeom prst="line">
            <a:avLst/>
          </a:prstGeom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0" y="4800600"/>
            <a:ext cx="9144000" cy="2057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5d5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343560" y="685800"/>
            <a:ext cx="2533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Times New Roman"/>
              </a:rPr>
              <a:t>Be realistic</a:t>
            </a:r>
            <a:endParaRPr b="1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342720" y="1352520"/>
            <a:ext cx="8476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514440" indent="-5144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69696"/>
                </a:solidFill>
                <a:latin typeface="Franklin Gothic Demi"/>
                <a:ea typeface="Times New Roman"/>
              </a:rPr>
              <a:t>PPP is procurement route for public infra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69696"/>
                </a:solidFill>
                <a:latin typeface="Franklin Gothic Demi"/>
                <a:ea typeface="Times New Roman"/>
              </a:rPr>
              <a:t>Take a programme rather than a project approach to build reputation with mark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69696"/>
                </a:solidFill>
                <a:latin typeface="Franklin Gothic Demi"/>
                <a:ea typeface="Times New Roman"/>
              </a:rPr>
              <a:t>Need to get economic fundamentals rig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69696"/>
                </a:solidFill>
                <a:latin typeface="Franklin Gothic Demi"/>
                <a:ea typeface="Times New Roman"/>
              </a:rPr>
              <a:t>Benefits of bundling in certain sec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69696"/>
                </a:solidFill>
                <a:latin typeface="Franklin Gothic Demi"/>
                <a:ea typeface="Times New Roman"/>
              </a:rPr>
              <a:t>Private financing is more expens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69696"/>
                </a:solidFill>
                <a:latin typeface="Franklin Gothic Demi"/>
                <a:ea typeface="Times New Roman"/>
              </a:rPr>
              <a:t>Need justification in terms of risk transf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69696"/>
                </a:solidFill>
                <a:latin typeface="Franklin Gothic Demi"/>
                <a:ea typeface="Times New Roman"/>
              </a:rPr>
              <a:t>Early deals in any sector are time-consu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69696"/>
                </a:solidFill>
                <a:latin typeface="Franklin Gothic Demi"/>
                <a:ea typeface="Times New Roman"/>
              </a:rPr>
              <a:t>Doing PPPs for purely fiscal reasons risks unpleasant surprises in futu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90400" y="1371600"/>
            <a:ext cx="8210880" cy="0"/>
          </a:xfrm>
          <a:prstGeom prst="line">
            <a:avLst/>
          </a:prstGeom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0" y="4800600"/>
            <a:ext cx="9144000" cy="2057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5d5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343560" y="685800"/>
            <a:ext cx="2533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Times New Roman"/>
              </a:rPr>
              <a:t>“</a:t>
            </a:r>
            <a:r>
              <a:rPr b="1" i="1" lang="en-US" sz="3600" spc="-1" strike="noStrike">
                <a:solidFill>
                  <a:srgbClr val="000099"/>
                </a:solidFill>
                <a:latin typeface="Times New Roman"/>
              </a:rPr>
              <a:t>Musts”</a:t>
            </a:r>
            <a:endParaRPr b="1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342720" y="1352520"/>
            <a:ext cx="8476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69696"/>
                </a:solidFill>
                <a:latin typeface="Franklin Gothic Demi"/>
                <a:ea typeface="Times New Roman"/>
              </a:rPr>
              <a:t>Public Sector Political Commit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69696"/>
                </a:solidFill>
                <a:latin typeface="Franklin Gothic Demi"/>
                <a:ea typeface="Times New Roman"/>
              </a:rPr>
              <a:t>Focused, dedicated and experienced public sector    team – PPP Task For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69696"/>
                </a:solidFill>
                <a:latin typeface="Franklin Gothic Demi"/>
                <a:ea typeface="Times New Roman"/>
              </a:rPr>
              <a:t>Clear legal and institutional frame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69696"/>
                </a:solidFill>
                <a:latin typeface="Franklin Gothic Demi"/>
                <a:ea typeface="Times New Roman"/>
              </a:rPr>
              <a:t>Transparent + competitive procur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69696"/>
                </a:solidFill>
                <a:latin typeface="Franklin Gothic Demi"/>
                <a:ea typeface="Times New Roman"/>
              </a:rPr>
              <a:t>Realistic risk sha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90400" y="1371600"/>
            <a:ext cx="8210880" cy="0"/>
          </a:xfrm>
          <a:prstGeom prst="line">
            <a:avLst/>
          </a:prstGeom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200240" y="588636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4520" y="1504800"/>
            <a:ext cx="8138880" cy="3811680"/>
          </a:xfrm>
          <a:prstGeom prst="rect">
            <a:avLst/>
          </a:prstGeom>
          <a:noFill/>
          <a:ln w="0">
            <a:noFill/>
          </a:ln>
          <a:effectLst>
            <a:outerShdw dist="64600" dir="4725161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000099"/>
                </a:solidFill>
                <a:latin typeface="Times New Roman"/>
              </a:rPr>
              <a:t>The typical project financ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96969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69696"/>
                </a:solidFill>
                <a:latin typeface="Times New Roman"/>
              </a:rPr>
              <a:t>What lenders don’t lik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96969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69696"/>
                </a:solidFill>
                <a:latin typeface="Times New Roman"/>
              </a:rPr>
              <a:t>The role of the public secto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96969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69696"/>
                </a:solidFill>
                <a:latin typeface="Times New Roman"/>
              </a:rPr>
              <a:t>Lessons learnt from experien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5429160"/>
            <a:ext cx="9144000" cy="1428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5d5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76200" y="2533680"/>
            <a:ext cx="13356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14440" y="2190600"/>
            <a:ext cx="8229600" cy="6858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971600" y="971640"/>
            <a:ext cx="417204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Times New Roman"/>
              </a:rPr>
              <a:t>Presentation index</a:t>
            </a:r>
            <a:endParaRPr b="1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71680" y="1714680"/>
            <a:ext cx="8210520" cy="0"/>
          </a:xfrm>
          <a:prstGeom prst="line">
            <a:avLst/>
          </a:prstGeom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0" y="4800600"/>
            <a:ext cx="9144000" cy="2057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5d5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619600" y="933480"/>
            <a:ext cx="3524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Times New Roman"/>
              </a:rPr>
              <a:t>Multi - parties</a:t>
            </a:r>
            <a:endParaRPr b="1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38120" y="1962000"/>
            <a:ext cx="8477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60160" indent="-560160">
              <a:lnSpc>
                <a:spcPct val="125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Franklin Gothic Demi"/>
                <a:ea typeface="Times New Roman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Franklin Gothic Demi"/>
                <a:ea typeface="Times New Roman"/>
              </a:rPr>
              <a:t>public sector body</a:t>
            </a:r>
            <a:r>
              <a:rPr b="0" lang="en-US" sz="2800" spc="-1" strike="noStrike">
                <a:solidFill>
                  <a:srgbClr val="808080"/>
                </a:solidFill>
                <a:latin typeface="Franklin Gothic Demi"/>
                <a:ea typeface="Times New Roman"/>
              </a:rPr>
              <a:t> : concession gran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0160" indent="-560160">
              <a:lnSpc>
                <a:spcPct val="125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Franklin Gothic Demi"/>
                <a:ea typeface="Times New Roman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Franklin Gothic Demi"/>
                <a:ea typeface="Times New Roman"/>
              </a:rPr>
              <a:t>project company</a:t>
            </a:r>
            <a:r>
              <a:rPr b="0" lang="en-US" sz="2800" spc="-1" strike="noStrike">
                <a:solidFill>
                  <a:srgbClr val="808080"/>
                </a:solidFill>
                <a:latin typeface="Franklin Gothic Demi"/>
                <a:ea typeface="Times New Roman"/>
              </a:rPr>
              <a:t> : “pass through” vehi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0160" indent="-560160">
              <a:lnSpc>
                <a:spcPct val="125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Franklin Gothic Demi"/>
                <a:ea typeface="Times New Roman"/>
              </a:rPr>
              <a:t>Some </a:t>
            </a:r>
            <a:r>
              <a:rPr b="0" lang="en-US" sz="2800" spc="-1" strike="noStrike">
                <a:solidFill>
                  <a:srgbClr val="ff0000"/>
                </a:solidFill>
                <a:latin typeface="Franklin Gothic Demi"/>
                <a:ea typeface="Times New Roman"/>
              </a:rPr>
              <a:t>sponsors</a:t>
            </a:r>
            <a:r>
              <a:rPr b="0" lang="en-US" sz="2800" spc="-1" strike="noStrike">
                <a:solidFill>
                  <a:srgbClr val="808080"/>
                </a:solidFill>
                <a:latin typeface="Franklin Gothic Demi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808080"/>
                </a:solidFill>
                <a:latin typeface="Franklin Gothic Demi"/>
                <a:ea typeface="Times New Roman"/>
              </a:rPr>
              <a:t>: equity and contrac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0160" indent="-560160">
              <a:lnSpc>
                <a:spcPct val="125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Franklin Gothic Demi"/>
                <a:ea typeface="Times New Roman"/>
              </a:rPr>
              <a:t>Some </a:t>
            </a:r>
            <a:r>
              <a:rPr b="0" lang="en-US" sz="2800" spc="-1" strike="noStrike">
                <a:solidFill>
                  <a:srgbClr val="ff0000"/>
                </a:solidFill>
                <a:latin typeface="Franklin Gothic Demi"/>
                <a:ea typeface="Times New Roman"/>
              </a:rPr>
              <a:t>lenders</a:t>
            </a:r>
            <a:r>
              <a:rPr b="0" lang="en-US" sz="2800" spc="-1" strike="noStrike">
                <a:solidFill>
                  <a:srgbClr val="808080"/>
                </a:solidFill>
                <a:latin typeface="Franklin Gothic Demi"/>
                <a:ea typeface="Times New Roman"/>
              </a:rPr>
              <a:t> : several classes of debt with varying risk appeti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0160" indent="-560160">
              <a:lnSpc>
                <a:spcPct val="125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Franklin Gothic Demi"/>
                <a:ea typeface="Times New Roman"/>
              </a:rPr>
              <a:t>Others</a:t>
            </a:r>
            <a:r>
              <a:rPr b="0" lang="en-US" sz="2800" spc="-1" strike="noStrike">
                <a:solidFill>
                  <a:srgbClr val="808080"/>
                </a:solidFill>
                <a:latin typeface="Franklin Gothic Demi"/>
                <a:ea typeface="Times New Roman"/>
              </a:rPr>
              <a:t> : Lawyers, Independent Experts, Arrangers, MLAs, Rating Agencies, etc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09480" y="1619280"/>
            <a:ext cx="8210520" cy="0"/>
          </a:xfrm>
          <a:prstGeom prst="line">
            <a:avLst/>
          </a:prstGeom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4800600"/>
            <a:ext cx="9144000" cy="2057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5d5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924000" y="933480"/>
            <a:ext cx="521964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Times New Roman"/>
              </a:rPr>
              <a:t>The Public sector wants :</a:t>
            </a:r>
            <a:endParaRPr b="1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61800" y="1542960"/>
            <a:ext cx="8477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445680" indent="-445680">
              <a:lnSpc>
                <a:spcPct val="125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Franklin Gothic Demi"/>
                <a:ea typeface="Times New Roman"/>
              </a:rPr>
              <a:t>Votes, through local development : the provision of an infrastructure / a serv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45680" indent="-445680">
              <a:lnSpc>
                <a:spcPct val="125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Franklin Gothic Demi"/>
                <a:ea typeface="Times New Roman"/>
              </a:rPr>
              <a:t>Budget constrai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45680" indent="-445680">
              <a:lnSpc>
                <a:spcPct val="125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Franklin Gothic Demi"/>
                <a:ea typeface="Times New Roman"/>
              </a:rPr>
              <a:t>Allocate risks to private sector (Sponsors, Lenders).  Turnkey construction contracts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45680" indent="-445680">
              <a:lnSpc>
                <a:spcPct val="125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Franklin Gothic Demi"/>
                <a:ea typeface="Times New Roman"/>
              </a:rPr>
              <a:t>Apply private sector practices – efficiency – speed compl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45680" indent="-445680">
              <a:lnSpc>
                <a:spcPct val="125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08080"/>
                </a:solidFill>
                <a:latin typeface="Franklin Gothic Demi"/>
                <a:ea typeface="Times New Roman"/>
              </a:rPr>
              <a:t>If things go wrong… step in &amp; reduced termination pay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09480" y="1619280"/>
            <a:ext cx="8210520" cy="0"/>
          </a:xfrm>
          <a:prstGeom prst="line">
            <a:avLst/>
          </a:prstGeom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4800600"/>
            <a:ext cx="9144000" cy="2057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5d5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924000" y="933480"/>
            <a:ext cx="521964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Times New Roman"/>
              </a:rPr>
              <a:t>The sponsors want :</a:t>
            </a:r>
            <a:endParaRPr b="1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38120" y="1962000"/>
            <a:ext cx="8477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60160" indent="-560160">
              <a:lnSpc>
                <a:spcPct val="125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Franklin Gothic Demi"/>
                <a:ea typeface="Times New Roman"/>
              </a:rPr>
              <a:t>Make money (construction, operation, dividend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60160" indent="-560160">
              <a:lnSpc>
                <a:spcPct val="125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Franklin Gothic Demi"/>
                <a:ea typeface="Times New Roman"/>
              </a:rPr>
              <a:t>Off-balance shee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60160" indent="-560160">
              <a:lnSpc>
                <a:spcPct val="125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Franklin Gothic Demi"/>
                <a:ea typeface="Times New Roman"/>
              </a:rPr>
              <a:t>High lever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60160" indent="-560160">
              <a:lnSpc>
                <a:spcPct val="125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Franklin Gothic Demi"/>
                <a:ea typeface="Times New Roman"/>
              </a:rPr>
              <a:t>No recour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60160" indent="-560160">
              <a:lnSpc>
                <a:spcPct val="125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Franklin Gothic Demi"/>
                <a:ea typeface="Times New Roman"/>
              </a:rPr>
              <a:t>Risks to other par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9480" y="1619280"/>
            <a:ext cx="8210520" cy="0"/>
          </a:xfrm>
          <a:prstGeom prst="line">
            <a:avLst/>
          </a:prstGeom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4800600"/>
            <a:ext cx="9144000" cy="2057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5d5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924000" y="933480"/>
            <a:ext cx="521964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Times New Roman"/>
              </a:rPr>
              <a:t>The lenders want :</a:t>
            </a:r>
            <a:endParaRPr b="1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38120" y="1962000"/>
            <a:ext cx="8477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125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Franklin Gothic Demi"/>
                <a:ea typeface="Times New Roman"/>
              </a:rPr>
              <a:t>Make money (margi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125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Franklin Gothic Demi"/>
                <a:ea typeface="Times New Roman"/>
              </a:rPr>
              <a:t>Low ris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125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Franklin Gothic Demi"/>
                <a:ea typeface="Times New Roman"/>
              </a:rPr>
              <a:t>Control, if project is in trou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125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Franklin Gothic Demi"/>
                <a:ea typeface="Times New Roman"/>
              </a:rPr>
              <a:t>Termination payment / step-in righ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125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Franklin Gothic Demi"/>
                <a:ea typeface="Times New Roman"/>
              </a:rPr>
              <a:t>Prestige /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125000"/>
              </a:lnSpc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Franklin Gothic Demi"/>
                <a:ea typeface="Times New Roman"/>
              </a:rPr>
              <a:t>Risks to other par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09480" y="1619280"/>
            <a:ext cx="8210520" cy="0"/>
          </a:xfrm>
          <a:prstGeom prst="line">
            <a:avLst/>
          </a:prstGeom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4800600"/>
            <a:ext cx="9144000" cy="2057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5d5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924000" y="933480"/>
            <a:ext cx="521964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000099"/>
                </a:solidFill>
                <a:latin typeface="Times New Roman"/>
              </a:rPr>
              <a:t>MLAs want :</a:t>
            </a:r>
            <a:endParaRPr b="1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38120" y="1962000"/>
            <a:ext cx="8477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125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Franklin Gothic Demi"/>
                <a:ea typeface="Times New Roman"/>
              </a:rPr>
              <a:t>Transfer financial benefits to local &amp; public author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125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Franklin Gothic Demi"/>
                <a:ea typeface="Times New Roman"/>
              </a:rPr>
              <a:t>Low margin, but only risks within lev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125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Franklin Gothic Demi"/>
                <a:ea typeface="Times New Roman"/>
              </a:rPr>
              <a:t>Termination payment / step-in rights – continuation of the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125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Franklin Gothic Demi"/>
                <a:ea typeface="Times New Roman"/>
              </a:rPr>
              <a:t>Multiplier eff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09480" y="1619280"/>
            <a:ext cx="8210520" cy="0"/>
          </a:xfrm>
          <a:prstGeom prst="line">
            <a:avLst/>
          </a:prstGeom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8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04T09:03:42Z</dcterms:created>
  <dc:creator>Trömel</dc:creator>
  <dc:description/>
  <dc:language>en-US</dc:language>
  <cp:lastModifiedBy>CHANGES</cp:lastModifiedBy>
  <cp:lastPrinted>1999-07-14T07:24:52Z</cp:lastPrinted>
  <dcterms:modified xsi:type="dcterms:W3CDTF">2005-11-29T23:11:50Z</dcterms:modified>
  <cp:revision>415</cp:revision>
  <dc:subject/>
  <dc:title>No Slide Title</dc:title>
</cp:coreProperties>
</file>