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928440" y="752040"/>
            <a:ext cx="4941720" cy="370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830160" y="4717800"/>
            <a:ext cx="506088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body"/>
          </p:nvPr>
        </p:nvSpPr>
        <p:spPr>
          <a:xfrm>
            <a:off x="830160" y="4717800"/>
            <a:ext cx="506088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830160" y="4717800"/>
            <a:ext cx="506088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5128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5128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9451800"/>
            <a:ext cx="29462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792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1720" cy="3706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8BC8-D4A6-4D1E-AF5F-F462DEF8FF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2600" y="1257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343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492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FDBFB-ECFE-4380-8C31-5D1ECB42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2600" y="1257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34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080" y="234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492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080" y="4492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A930D-4CA6-41A7-95B4-DBB6A9BA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52600" y="1257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343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8400" y="2343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46040" y="2343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492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8400" y="4492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46040" y="4492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3123C-0E5C-46E1-90E9-D38A3A170C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52600" y="1257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343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1B737-2175-49BD-9371-17444574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2600" y="1257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343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06D19-54E9-4DD2-9949-2F59B100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2600" y="1257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343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080" y="2343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34C43-3918-46A0-8259-91097FDC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2600" y="1257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0B1BE-FB50-4FB9-9783-AE00B1A0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52600" y="12574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7B83B-B614-4617-AD89-84E3EADD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2600" y="1257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34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080" y="2343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492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C225-37D2-4BA3-A8E2-A3B45432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2600" y="1257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3432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080" y="234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080" y="4492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41D45-E5C4-48A1-9E9B-771F0E08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2600" y="1257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34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080" y="2343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492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D5E00-2206-43C1-877B-0E6977FE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2600" y="1257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343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5800" indent="-4712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886040" indent="-4712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0076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715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715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715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14C5-3C57-4945-97FD-8287D81807F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125D-F8A0-4CEC-9113-F67FA2E18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73528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00240" y="5886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5400" y="2362320"/>
            <a:ext cx="6636240" cy="338436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i="1" lang="en-GB" sz="4400" spc="-1" strike="noStrike">
                <a:solidFill>
                  <a:srgbClr val="000099"/>
                </a:solidFill>
                <a:latin typeface="Times New Roman"/>
              </a:rPr>
              <a:t>Ingredients” in good PP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Jaime Barragan</a:t>
            </a:r>
            <a:br>
              <a:rPr sz="1600"/>
            </a:br>
            <a:r>
              <a:rPr b="1" i="1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EIB – European Investment Bank</a:t>
            </a:r>
            <a:br>
              <a:rPr sz="4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ADB, 8-9 Dec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781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Others (advisors, arrangers, etc.) want :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8120" y="19620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Fees, fees, and f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Prestige / Exposure / League table 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Establish relationship for succeeding role/man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Multipli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6192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781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But at the end…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8120" y="19620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This is a lifetime marri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In the long run, it’s a win-win solution or a no-go. E.g. : penalty points in Irish road PPP progra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6192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781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A secret :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38120" y="19620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08680" indent="-508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Give me a good project – to overcome a real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86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… </a:t>
            </a: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an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8680" indent="-508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Give me a good &amp; committed spon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86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… </a:t>
            </a: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the rest will c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8680" indent="-508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But still, I need a good framework to do P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6192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486240" y="4133880"/>
            <a:ext cx="156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Franklin Gothic Demi"/>
              </a:rPr>
              <a:t>Financ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Franklin Gothic Demi"/>
              </a:rPr>
              <a:t>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43480" y="2762280"/>
            <a:ext cx="123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Franklin Gothic Demi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95720" y="5010120"/>
            <a:ext cx="1562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Franklin Gothic Demi"/>
              </a:rPr>
              <a:t>Constru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Franklin Gothic Demi"/>
              </a:rPr>
              <a:t>O&amp;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40280" y="1276200"/>
            <a:ext cx="2108160" cy="762840"/>
          </a:xfrm>
          <a:prstGeom prst="rect">
            <a:avLst/>
          </a:prstGeom>
          <a:solidFill>
            <a:srgbClr val="f7d5ff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Franklin Gothic Demi"/>
              </a:rPr>
              <a:t>Public sec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Franklin Gothic Demi"/>
              </a:rPr>
              <a:t>bo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31880" y="2514600"/>
            <a:ext cx="1746360" cy="702360"/>
          </a:xfrm>
          <a:prstGeom prst="rect">
            <a:avLst/>
          </a:prstGeom>
          <a:solidFill>
            <a:srgbClr val="dbffb8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Senior le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91040" y="3257640"/>
            <a:ext cx="2095560" cy="109800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20000"/>
                </a:solidFill>
                <a:latin typeface="Franklin Gothic Demi"/>
              </a:rPr>
              <a:t>Private concession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35120" y="3371760"/>
            <a:ext cx="1720800" cy="1007280"/>
          </a:xfrm>
          <a:prstGeom prst="rect">
            <a:avLst/>
          </a:prstGeom>
          <a:solidFill>
            <a:srgbClr val="dbffb8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Subord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le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57440" y="4248000"/>
            <a:ext cx="1714320" cy="1007280"/>
          </a:xfrm>
          <a:prstGeom prst="rect">
            <a:avLst/>
          </a:prstGeom>
          <a:solidFill>
            <a:srgbClr val="dbffb8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Financial eq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inve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67560" y="6002280"/>
            <a:ext cx="1162080" cy="36684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ook Antiqua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72160" y="4819680"/>
            <a:ext cx="123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Franklin Gothic Demi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3240" y="228600"/>
            <a:ext cx="632448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Times New Roman"/>
              </a:rPr>
              <a:t>Framework : The typical project financing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53200" y="6002280"/>
            <a:ext cx="1162080" cy="36684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ook Antiqua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57560" y="6002280"/>
            <a:ext cx="1162080" cy="36684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ook Antiqua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29160" y="4400640"/>
            <a:ext cx="685800" cy="1390680"/>
          </a:xfrm>
          <a:prstGeom prst="downArrow">
            <a:avLst>
              <a:gd name="adj1" fmla="val 50000"/>
              <a:gd name="adj2" fmla="val 50696"/>
            </a:avLst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0824600">
            <a:off x="6076080" y="4381200"/>
            <a:ext cx="685800" cy="1390680"/>
          </a:xfrm>
          <a:prstGeom prst="downArrow">
            <a:avLst>
              <a:gd name="adj1" fmla="val 50000"/>
              <a:gd name="adj2" fmla="val 50696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67120" y="5924520"/>
            <a:ext cx="4152960" cy="55260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2476440"/>
            <a:ext cx="169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Franklin Gothic Demi"/>
              </a:rPr>
              <a:t>Conc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19600" y="2209680"/>
            <a:ext cx="762120" cy="952560"/>
          </a:xfrm>
          <a:prstGeom prst="upDownArrow">
            <a:avLst>
              <a:gd name="adj1" fmla="val 50000"/>
              <a:gd name="adj2" fmla="val 24882"/>
            </a:avLst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14840" y="3009960"/>
            <a:ext cx="1028520" cy="590400"/>
          </a:xfrm>
          <a:prstGeom prst="rightArrow">
            <a:avLst>
              <a:gd name="adj1" fmla="val 50000"/>
              <a:gd name="adj2" fmla="val 43552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2438280"/>
            <a:ext cx="1981440" cy="295272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95760" y="3676680"/>
            <a:ext cx="952560" cy="590400"/>
          </a:xfrm>
          <a:prstGeom prst="leftArrow">
            <a:avLst>
              <a:gd name="adj1" fmla="val 50000"/>
              <a:gd name="adj2" fmla="val 40335"/>
            </a:avLst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11/98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448080" y="270504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Franklin Gothic Demi"/>
              </a:rPr>
              <a:t>Deb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40280" y="1276200"/>
            <a:ext cx="2108160" cy="762840"/>
          </a:xfrm>
          <a:prstGeom prst="rect">
            <a:avLst/>
          </a:prstGeom>
          <a:solidFill>
            <a:srgbClr val="f7d5ff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Franklin Gothic Demi"/>
              </a:rPr>
              <a:t>Public sec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Franklin Gothic Demi"/>
              </a:rPr>
              <a:t>bo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31880" y="2514600"/>
            <a:ext cx="1746360" cy="702360"/>
          </a:xfrm>
          <a:prstGeom prst="rect">
            <a:avLst/>
          </a:prstGeom>
          <a:solidFill>
            <a:srgbClr val="dbffb8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Senior le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91040" y="3257640"/>
            <a:ext cx="2095560" cy="109800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20000"/>
                </a:solidFill>
                <a:latin typeface="Franklin Gothic Demi"/>
              </a:rPr>
              <a:t>Private concession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35120" y="3371760"/>
            <a:ext cx="1720800" cy="1007280"/>
          </a:xfrm>
          <a:prstGeom prst="rect">
            <a:avLst/>
          </a:prstGeom>
          <a:solidFill>
            <a:srgbClr val="dbffb8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Subord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le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57440" y="4343400"/>
            <a:ext cx="1714320" cy="1007280"/>
          </a:xfrm>
          <a:prstGeom prst="rect">
            <a:avLst/>
          </a:prstGeom>
          <a:solidFill>
            <a:srgbClr val="dbffb8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Financial eq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Franklin Gothic Demi"/>
              </a:rPr>
              <a:t>inve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67560" y="6002280"/>
            <a:ext cx="1162080" cy="36684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ook Antiqua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43240" y="228600"/>
            <a:ext cx="632448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99"/>
                </a:solidFill>
                <a:latin typeface="Times New Roman"/>
              </a:rPr>
              <a:t>The typical project financing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53200" y="6002280"/>
            <a:ext cx="1162080" cy="36684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ook Antiqua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57560" y="6002280"/>
            <a:ext cx="1162080" cy="36684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ook Antiqua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4880" y="2781360"/>
            <a:ext cx="819000" cy="2266920"/>
          </a:xfrm>
          <a:prstGeom prst="downArrow">
            <a:avLst>
              <a:gd name="adj1" fmla="val 50000"/>
              <a:gd name="adj2" fmla="val 69198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268200" y="342720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Franklin Gothic Demi"/>
              </a:rPr>
              <a:t>Risk appet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1561000">
            <a:off x="611640" y="508428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Franklin Gothic Demi"/>
              </a:rPr>
              <a:t>   </a:t>
            </a:r>
            <a:r>
              <a:rPr b="0" i="1" lang="en-GB" sz="1800" spc="-1" strike="noStrike">
                <a:solidFill>
                  <a:srgbClr val="ff0000"/>
                </a:solidFill>
                <a:latin typeface="Franklin Gothic Demi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67120" y="5924520"/>
            <a:ext cx="4152960" cy="55260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4520" y="2362320"/>
            <a:ext cx="169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Franklin Gothic Demi"/>
              </a:rPr>
              <a:t>Rev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2438280"/>
            <a:ext cx="1981440" cy="173376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1561000">
            <a:off x="695520" y="23220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Franklin Gothic Demi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3105000"/>
            <a:ext cx="1276560" cy="723960"/>
          </a:xfrm>
          <a:prstGeom prst="leftArrow">
            <a:avLst>
              <a:gd name="adj1" fmla="val 50000"/>
              <a:gd name="adj2" fmla="val 44083"/>
            </a:avLst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57760" y="2209680"/>
            <a:ext cx="781200" cy="952560"/>
          </a:xfrm>
          <a:prstGeom prst="downArrow">
            <a:avLst>
              <a:gd name="adj1" fmla="val 50000"/>
              <a:gd name="adj2" fmla="val 30484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557800">
            <a:off x="6848280" y="2387520"/>
            <a:ext cx="780840" cy="924120"/>
          </a:xfrm>
          <a:prstGeom prst="downArrow">
            <a:avLst>
              <a:gd name="adj1" fmla="val 50000"/>
              <a:gd name="adj2" fmla="val 2958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1409760"/>
            <a:ext cx="1504800" cy="1123920"/>
          </a:xfrm>
          <a:prstGeom prst="ellipse">
            <a:avLst/>
          </a:prstGeom>
          <a:noFill/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8431"/>
                </a:solidFill>
                <a:latin typeface="Franklin Gothic Demi"/>
              </a:rPr>
              <a:t>Pay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8431"/>
                </a:solidFill>
                <a:latin typeface="Franklin Gothic Demi"/>
              </a:rPr>
              <a:t>us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20027400">
            <a:off x="3664080" y="4494240"/>
            <a:ext cx="156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Demi"/>
              </a:rPr>
              <a:t>Divid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9920000">
            <a:off x="3517920" y="4028760"/>
            <a:ext cx="1239840" cy="590400"/>
          </a:xfrm>
          <a:prstGeom prst="leftArrow">
            <a:avLst>
              <a:gd name="adj1" fmla="val 50000"/>
              <a:gd name="adj2" fmla="val 52500"/>
            </a:avLst>
          </a:prstGeom>
          <a:noFill/>
          <a:ln w="1260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4781520"/>
            <a:ext cx="1562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Demi"/>
              </a:rPr>
              <a:t>Divid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57760" y="4362480"/>
            <a:ext cx="685800" cy="1390680"/>
          </a:xfrm>
          <a:prstGeom prst="downArrow">
            <a:avLst>
              <a:gd name="adj1" fmla="val 50000"/>
              <a:gd name="adj2" fmla="val 50696"/>
            </a:avLst>
          </a:prstGeom>
          <a:noFill/>
          <a:ln w="1260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11/98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857840" y="762120"/>
            <a:ext cx="4286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A game of contracts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9960" y="180972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For </a:t>
            </a: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ring fe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For </a:t>
            </a: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risk sh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For setting </a:t>
            </a: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c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For setting </a:t>
            </a: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priorities on cash </a:t>
            </a: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(and secur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The subject of</a:t>
            </a:r>
            <a:r>
              <a:rPr b="0" lang="en-US" sz="32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intensive negot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50480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7280" y="590040"/>
            <a:ext cx="8496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More details about the Lenders’ objectives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66720" y="15048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Project Co’s  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cash flows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as source of debt repa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Revenues less expenses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that have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 priority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 over debt repayment (operating costs, maintenance costs, capital expenditure, taxes, …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Look in great details at the 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predictability and stability of cash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31436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00240" y="5886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6360" y="1504800"/>
            <a:ext cx="8138880" cy="38116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969696"/>
                </a:solidFill>
                <a:latin typeface="Times New Roman"/>
              </a:rPr>
              <a:t>The typical project finan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99"/>
                </a:solidFill>
                <a:latin typeface="Times New Roman"/>
              </a:rPr>
              <a:t>What lenders don’t l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69696"/>
                </a:solidFill>
                <a:latin typeface="Times New Roman"/>
              </a:rPr>
              <a:t>The role of the public s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69696"/>
                </a:solidFill>
                <a:latin typeface="Times New Roman"/>
              </a:rPr>
              <a:t>Lessons learnt from exper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429160"/>
            <a:ext cx="9144000" cy="142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76200" y="2533680"/>
            <a:ext cx="13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2857680"/>
            <a:ext cx="8248680" cy="685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71600" y="895320"/>
            <a:ext cx="4172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Presentation index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56204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800240" y="818640"/>
            <a:ext cx="4343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Lenders’ enemies…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5840" y="148608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14440" indent="-51444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Revenue risks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user paying traffic, market prices, volume risk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Regulatory uncertainties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changes in safety regulation, in laws, in tax, introduction of competitive infrastructure, changes in transport polici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Uncertainties on Project Co costs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large capex in distant future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680" y="14860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14800" y="6858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…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lenders’ enemies …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177156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Political instability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Technology risks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unproven technology, fast changing environment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Complex constructions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geology, hi-technological or IT content, interfac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And also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force majeure, non insurability, planning risks, latent defect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1680" y="137160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05080" y="781200"/>
            <a:ext cx="6572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Risk transfer is the key...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080" y="165744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74480" indent="-474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Franklin Gothic Demi"/>
              </a:rPr>
              <a:t>Without risk transfer projects cannot be value for m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Franklin Gothic Demi"/>
              </a:rPr>
              <a:t>Risks should be allocated to party best able to manag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Franklin Gothic Demi"/>
              </a:rPr>
              <a:t>‘</a:t>
            </a:r>
            <a:r>
              <a:rPr b="0" lang="en-GB" sz="3200" spc="-1" strike="noStrike">
                <a:solidFill>
                  <a:srgbClr val="808080"/>
                </a:solidFill>
                <a:latin typeface="Franklin Gothic Demi"/>
              </a:rPr>
              <a:t>Optimum’ not maximum risk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Franklin Gothic Demi"/>
              </a:rPr>
              <a:t>Risk transfer has a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Franklin Gothic Demi"/>
              </a:rPr>
              <a:t>Greater the risk transfer, the less appetite banks will have for a project (bankabil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808080"/>
                </a:solidFill>
                <a:latin typeface="Franklin Gothic Demi"/>
              </a:rPr>
              <a:t>… </a:t>
            </a:r>
            <a:r>
              <a:rPr b="0" i="1" lang="en-GB" sz="3200" spc="-1" strike="noStrike">
                <a:solidFill>
                  <a:srgbClr val="808080"/>
                </a:solidFill>
                <a:latin typeface="Franklin Gothic Demi"/>
              </a:rPr>
              <a:t>but without sufficient debt, projects may not be affordabl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65744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14800" y="6858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…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lenders’ enemies …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77156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Shortening in concession peri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Inadequate Risk/Revenue balance </a:t>
            </a: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“P”rivate sector take risks, often uncapped downside, “P”ublic sector to allow for upside (not to be capp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680" y="137160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99840" y="85680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…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lenders’ enemies (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last but not least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66720" y="171468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08680" indent="-508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Loss of concession contract </a:t>
            </a: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1960" indent="-423720">
              <a:lnSpc>
                <a:spcPct val="12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Events of 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1960" indent="-423720">
              <a:lnSpc>
                <a:spcPct val="125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Compensation pro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8680" indent="-508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The covenant risk </a:t>
            </a: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1960" indent="-423720">
              <a:lnSpc>
                <a:spcPct val="125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Who is the concession gran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1960" indent="-423720">
              <a:lnSpc>
                <a:spcPct val="125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How certain are its sources of fund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1960" indent="-423720">
              <a:lnSpc>
                <a:spcPct val="125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How could it change over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1960" indent="-423720">
              <a:lnSpc>
                <a:spcPct val="125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As good as Government risk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0400" y="1581120"/>
            <a:ext cx="821088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800240" y="818640"/>
            <a:ext cx="4343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Lenders’ friends…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85840" y="148608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798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CONCESSION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Payment Mechanism – low expected vola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Termination events / termination comp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Step-in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Change in law / force maje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Uninsurable risks / sharing of insurance cost increase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“</a:t>
            </a:r>
            <a:r>
              <a:rPr b="0" lang="en-GB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Equilibrio econmico-financier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680" y="14860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800240" y="818640"/>
            <a:ext cx="4343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…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Lenders’ friends…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85840" y="148608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SECURITY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First ranking security over all the project assets, contracts and reven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Direct Agre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Enforceability and effectiveness even in SPV insolv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1680" y="14860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00240" y="818640"/>
            <a:ext cx="4343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…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Lenders’ friends…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840" y="148608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292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2920" indent="-50292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Also delay in start-up, business inter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2920" indent="-50292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Uninsurable risk coverage under concession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2920" indent="-50292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Lenders as co-insured and security over insurance proc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2920" indent="-50292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Lender endorsements: non-vitiation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2920" indent="-50292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…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a good insurance advis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680" y="14860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52400" y="856800"/>
            <a:ext cx="65912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The importance of due diligence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Cash flow, technical, legal, insurance:</a:t>
            </a: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 “leaving no stone unturne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Negotiations </a:t>
            </a:r>
            <a:r>
              <a:rPr b="0" lang="en-US" sz="32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to ensure that the commercial agreements and legal documents</a:t>
            </a: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 provide for the required com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0400" y="1600200"/>
            <a:ext cx="821088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00240" y="5886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0640" y="1733400"/>
            <a:ext cx="8253360" cy="320220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969696"/>
                </a:solidFill>
                <a:latin typeface="Times New Roman"/>
              </a:rPr>
              <a:t>The typical project finan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969696"/>
                </a:solidFill>
                <a:latin typeface="Times New Roman"/>
              </a:rPr>
              <a:t>What lenders don’t l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99"/>
                </a:solidFill>
                <a:latin typeface="Times New Roman"/>
              </a:rPr>
              <a:t>The role of the public s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969696"/>
                </a:solidFill>
                <a:latin typeface="Times New Roman"/>
              </a:rPr>
              <a:t>Lessons learnt from exper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5429160"/>
            <a:ext cx="9144000" cy="142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76200" y="2533680"/>
            <a:ext cx="13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3657600"/>
            <a:ext cx="8210520" cy="685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71600" y="1028880"/>
            <a:ext cx="4172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Presentation index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680" y="17146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723960"/>
            <a:ext cx="8858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Risk mitigation: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key role for the public sector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9960" y="180972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31360" indent="-53136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Guaranteeing” revenues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shadow tolls, minimum traffic guarantees, availability payment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1360" indent="-53136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Protecting” cash flows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compensation events (money and time), construction cost subsidies for projects with weak economics, 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1360" indent="-53136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Certainties on regulatory framework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compensation events, capped risk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680" y="17146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723960"/>
            <a:ext cx="8858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Risk mitigation: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key role for the public sector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38120" y="19620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Clarity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on events leading to loss of contra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Certainty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 on how lenders and investors are compensated upon concession 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Ensuring that the “covenant” is 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creditworthy for the long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1680" y="17146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723960"/>
            <a:ext cx="8858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99"/>
                </a:solidFill>
                <a:latin typeface="Times New Roman"/>
              </a:rPr>
              <a:t>Successful PPPs : </a:t>
            </a:r>
            <a:br>
              <a:rPr sz="3600"/>
            </a:br>
            <a:r>
              <a:rPr b="1" i="1" lang="en-GB" sz="3600" spc="-1" strike="noStrike">
                <a:solidFill>
                  <a:srgbClr val="000099"/>
                </a:solidFill>
                <a:latin typeface="Times New Roman"/>
              </a:rPr>
              <a:t>key role for the public sector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99960" y="161928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68720" indent="-46872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Political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720" indent="-46872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Enabling legi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720" indent="-46872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Public sector experti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720" indent="-46872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Sector &amp; project prioritis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720" indent="-46872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Deal flo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720" indent="-46872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Increasing market conf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720" indent="-46872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Standardisation (contracts, procedu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1680" y="17146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43600" y="93348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But…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79064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5000"/>
              </a:lnSpc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Franklin Gothic Demi"/>
              </a:rPr>
              <a:t>Uncertainties are the lenders’ worst enemy, because uncertainty means</a:t>
            </a:r>
            <a:r>
              <a:rPr b="0" lang="en-GB" sz="3200" spc="-1" strike="noStrike">
                <a:solidFill>
                  <a:srgbClr val="000000"/>
                </a:solidFill>
                <a:latin typeface="Franklin Gothic Demi"/>
              </a:rPr>
              <a:t> </a:t>
            </a:r>
            <a:r>
              <a:rPr b="0" lang="en-GB" sz="3600" spc="-1" strike="noStrike">
                <a:solidFill>
                  <a:srgbClr val="ff0000"/>
                </a:solidFill>
                <a:latin typeface="Franklin Gothic Demi"/>
              </a:rPr>
              <a:t>ri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lenders’ quest </a:t>
            </a: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where will the cash needed to repay the debt come from and how certain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5744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723960"/>
            <a:ext cx="8858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99"/>
                </a:solidFill>
                <a:latin typeface="Times New Roman"/>
              </a:rPr>
              <a:t>Successful PPPs : </a:t>
            </a:r>
            <a:br>
              <a:rPr sz="3600"/>
            </a:br>
            <a:r>
              <a:rPr b="1" i="1" lang="en-GB" sz="3600" spc="-1" strike="noStrike">
                <a:solidFill>
                  <a:srgbClr val="000099"/>
                </a:solidFill>
                <a:latin typeface="Times New Roman"/>
              </a:rPr>
              <a:t>key role for the public sector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0" y="2305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ector’s capacity to ma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titiveness of bidd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priateness of risk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conomic fundamen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232416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1680" y="17146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0" y="781200"/>
            <a:ext cx="5029200" cy="5619240"/>
            <a:chOff x="0" y="781200"/>
            <a:chExt cx="5029200" cy="5619240"/>
          </a:xfrm>
        </p:grpSpPr>
        <p:sp>
          <p:nvSpPr>
            <p:cNvPr id="295" name="Pyr2"/>
            <p:cNvSpPr/>
            <p:nvPr/>
          </p:nvSpPr>
          <p:spPr>
            <a:xfrm>
              <a:off x="1284480" y="2101680"/>
              <a:ext cx="2469960" cy="143460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e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Compet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Pyr3"/>
            <p:cNvSpPr/>
            <p:nvPr/>
          </p:nvSpPr>
          <p:spPr>
            <a:xfrm>
              <a:off x="661680" y="3536640"/>
              <a:ext cx="3735360" cy="143460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Risk allo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Pyr4"/>
            <p:cNvSpPr/>
            <p:nvPr/>
          </p:nvSpPr>
          <p:spPr>
            <a:xfrm>
              <a:off x="0" y="4963320"/>
              <a:ext cx="5029200" cy="14371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Economic Fundament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Pyr1"/>
            <p:cNvSpPr/>
            <p:nvPr/>
          </p:nvSpPr>
          <p:spPr>
            <a:xfrm>
              <a:off x="1844640" y="781200"/>
              <a:ext cx="1333800" cy="15127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3c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00240" y="5886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7720" y="2019240"/>
            <a:ext cx="8082000" cy="314136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69696"/>
                </a:solidFill>
                <a:latin typeface="Times New Roman"/>
              </a:rPr>
              <a:t>The typical project finan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69696"/>
                </a:solidFill>
                <a:latin typeface="Times New Roman"/>
              </a:rPr>
              <a:t>What lenders don’t l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69696"/>
                </a:solidFill>
                <a:latin typeface="Times New Roman"/>
              </a:rPr>
              <a:t>The role of the public s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Lessons learnt from exper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5429160"/>
            <a:ext cx="9144000" cy="142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76200" y="2533680"/>
            <a:ext cx="13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0400" y="4514760"/>
            <a:ext cx="7963200" cy="685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71600" y="971640"/>
            <a:ext cx="4172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Presentation index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1680" y="17146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343560" y="685800"/>
            <a:ext cx="2533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Be realistic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61800" y="156204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37120" indent="-53712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Degree of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 private funding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 that a project can ca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7120" indent="-53712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Degree of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 public support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 that a project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7120" indent="-53712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Who controls takes the risk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”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7120" indent="-53712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Use the 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private sector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 where it is </a:t>
            </a:r>
            <a:r>
              <a:rPr b="0" lang="en-US" sz="28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7120" indent="-53712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Timetables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 are always too optim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7120" indent="-53712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Dedicated, resourced, skilled and empowered </a:t>
            </a:r>
            <a:r>
              <a:rPr b="0" lang="en-GB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public sector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0400" y="1371600"/>
            <a:ext cx="821088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343560" y="685800"/>
            <a:ext cx="2533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Be realistic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2720" y="1352520"/>
            <a:ext cx="84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PPP is procurement route for public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Take a programme rather than a project approach to build reputation with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Need to get economic fundamentals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Benefits of bundling in certain s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Private financing is more 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Need justification in terms of risk trans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Early deals in any sector are time-consu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Doing PPPs for purely fiscal reasons risks unpleasant surprises in fu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400" y="1371600"/>
            <a:ext cx="821088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343560" y="685800"/>
            <a:ext cx="2533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Musts”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42720" y="1352520"/>
            <a:ext cx="84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Public Sector Political Commi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Focused, dedicated and experienced public sector    team – PPP Task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Clear legal and institutional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Transparent + competitive proc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69696"/>
                </a:solidFill>
                <a:latin typeface="Franklin Gothic Demi"/>
                <a:ea typeface="Times New Roman"/>
              </a:rPr>
              <a:t>Realistic risk sh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0400" y="1371600"/>
            <a:ext cx="821088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00240" y="5886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4520" y="1504800"/>
            <a:ext cx="8138880" cy="38116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99"/>
                </a:solidFill>
                <a:latin typeface="Times New Roman"/>
              </a:rPr>
              <a:t>The typical project finan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69696"/>
                </a:solidFill>
                <a:latin typeface="Times New Roman"/>
              </a:rPr>
              <a:t>What lenders don’t l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69696"/>
                </a:solidFill>
                <a:latin typeface="Times New Roman"/>
              </a:rPr>
              <a:t>The role of the public s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69696"/>
                </a:solidFill>
                <a:latin typeface="Times New Roman"/>
              </a:rPr>
              <a:t>Lessons learnt from exper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429160"/>
            <a:ext cx="9144000" cy="142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76200" y="2533680"/>
            <a:ext cx="13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4440" y="2190600"/>
            <a:ext cx="8229600" cy="685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71600" y="971640"/>
            <a:ext cx="4172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Presentation index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680" y="17146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19600" y="933480"/>
            <a:ext cx="3524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Multi - parties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8120" y="19620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public sector body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 : concession gran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project company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 : “pass through” veh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Some 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sponsors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: equity and contr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Some </a:t>
            </a: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lenders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 : several classes of debt with varying risk appet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Demi"/>
                <a:ea typeface="Times New Roman"/>
              </a:rPr>
              <a:t>Others</a:t>
            </a: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 : Lawyers, Independent Experts, Arrangers, MLAs, Rating Agencies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6192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24000" y="933480"/>
            <a:ext cx="5219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The Public sector wants :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1800" y="154296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445680" indent="-445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Votes, through local development : the provision of an infrastructure / a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5680" indent="-445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Budget constr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5680" indent="-445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Allocate risks to private sector (Sponsors, Lenders).  Turnkey construction contract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5680" indent="-445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Apply private sector practices – efficiency – speed compl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5680" indent="-445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If things go wrong… step in &amp; reduced termination pay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6192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24000" y="933480"/>
            <a:ext cx="5219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The sponsors want :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8120" y="19620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Make money (construction, operation, dividen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Off-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High le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No re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160" indent="-5601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Risks to other pa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6192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24000" y="933480"/>
            <a:ext cx="5219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The lenders want :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8120" y="19620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Make money (marg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Low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Control, if project is in tr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Termination payment / step-in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Prestige /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Risks to other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6192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24000" y="933480"/>
            <a:ext cx="5219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99"/>
                </a:solidFill>
                <a:latin typeface="Times New Roman"/>
              </a:rPr>
              <a:t>MLAs want :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8120" y="19620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Transfer financial benefits to local &amp; public auth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Low margin, but only risks withi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Termination payment / step-in rights – continuation of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Demi"/>
                <a:ea typeface="Times New Roman"/>
              </a:rPr>
              <a:t>Multipli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619280"/>
            <a:ext cx="82105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09:03:42Z</dcterms:created>
  <dc:creator>Trömel</dc:creator>
  <dc:description/>
  <dc:language>en-US</dc:language>
  <cp:lastModifiedBy>CHANGES</cp:lastModifiedBy>
  <cp:lastPrinted>1999-07-14T07:24:52Z</cp:lastPrinted>
  <dcterms:modified xsi:type="dcterms:W3CDTF">2005-11-29T23:11:50Z</dcterms:modified>
  <cp:revision>415</cp:revision>
  <dc:subject/>
  <dc:title>No Slide Title</dc:title>
</cp:coreProperties>
</file>