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169B-1FCA-4EEC-A1D3-DDEE7CEE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FBD6-812C-4912-8174-3A9FA193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86DA-096E-410C-A8CD-239C0E527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B0F5-60F6-401C-9DA2-6D7C7EEA3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6945-9129-4D42-BBE7-7D140F85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F3A0-47AB-4330-A163-4DAC4F28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5331-7B62-4363-83AC-8CFF1088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0A11-8AC1-46E6-BF2C-D1BEFBBF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AC75-0CEF-4536-9D1D-3629B882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CD53-9B26-4E19-8521-07DBD65C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510E-BF64-4846-8D6F-67BCF055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7415-DC2F-4A59-A8FD-BDDBEF43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20120" y="6488280"/>
            <a:ext cx="3747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300" spc="-1" strike="noStrike">
                <a:solidFill>
                  <a:srgbClr val="003f71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1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8000" y="4821120"/>
            <a:ext cx="89820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EIB’s Role &amp; Experience in Europ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Public Private Partner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Jaime Barragan</a:t>
            </a:r>
            <a:br>
              <a:rPr sz="1600"/>
            </a:b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EIB – European Investment Bank</a:t>
            </a:r>
            <a:br>
              <a:rPr sz="4000"/>
            </a:br>
            <a:br>
              <a:rPr sz="1800"/>
            </a:br>
            <a:br>
              <a:rPr sz="1800"/>
            </a:b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IADB, 8-9 December 2005</a:t>
            </a: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61960" y="1523880"/>
            <a:ext cx="78786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cipally commence in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transport s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ment into other sectors as VFM benefits shown and public sector expertise gr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PP structures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vary across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ility to adapt to national, regional and local policy requirements and socio-economic priorities is a key str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ed standardisation of contracts and procedures a key “critical mass” feature of successful program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31400" cy="1336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11280" y="47952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PP develop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458200" y="6480000"/>
            <a:ext cx="5968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1.7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520120" y="6488280"/>
            <a:ext cx="3747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300" spc="-1" strike="noStrike">
                <a:solidFill>
                  <a:srgbClr val="003f71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15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08000" y="4821120"/>
            <a:ext cx="89820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610480" y="6595920"/>
            <a:ext cx="5335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300" spc="-1" strike="noStrike">
                <a:solidFill>
                  <a:srgbClr val="003f71"/>
                </a:solidFill>
                <a:latin typeface="Arial"/>
              </a:rPr>
              <a:t>2.0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914400"/>
            <a:ext cx="8382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IB’s policy and approach to PP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1371600"/>
            <a:ext cx="7772400" cy="36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mpetitive tend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on-exclusivity - support of all bidders through bidding st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vestment Grade Risks are acceptable without direct public sector guarantees on public servi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tension of EIB financing to sub-investment grade risks increasingly possible in strategic public servi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IB’s objective complementarity with and leveraging of banks &amp; capital marke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IB benefits passed to end-users/taxpay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tility Risk and Utility Reward for Equity and Deb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31400" cy="13366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IB Financing Princi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458200" y="6480000"/>
            <a:ext cx="5968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2.1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22280" y="1828800"/>
            <a:ext cx="8134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 driven approach to PPPs based on the evaluation of the benefits achiev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PPs are an additional policy option. No bias in favour of any particular procurement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and expertise and financial resources available for “infrastructure” inves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cilitating greater private sector inves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cus on strategic public services with clear Value Ad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13366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35000" y="304920"/>
            <a:ext cx="8475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IB’s approach to PPP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610480" y="6480000"/>
            <a:ext cx="444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2.2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Ns and modernising transport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vironmental improvements – water, sewerage, wa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mary and acute healthcare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ledge-based economy: primary, secondary, tertiary and life long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2000" y="1554120"/>
            <a:ext cx="78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ing PPPs in areas of critical poli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gnifica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1336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09480" y="228600"/>
            <a:ext cx="792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Key PPP sectors for EI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610480" y="6480000"/>
            <a:ext cx="444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2.3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88960" y="326880"/>
            <a:ext cx="62704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610480" y="6488280"/>
            <a:ext cx="498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300" spc="-1" strike="noStrike">
                <a:solidFill>
                  <a:srgbClr val="003f71"/>
                </a:solidFill>
                <a:latin typeface="Arial"/>
              </a:rPr>
              <a:t>2.4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33520" y="1992240"/>
          <a:ext cx="8001000" cy="486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92240"/>
                    <a:ext cx="8001000" cy="48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9131400" cy="1336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09480" y="0"/>
            <a:ext cx="79250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IB Financing for PPPs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y volu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762120" y="1442880"/>
          <a:ext cx="7467480" cy="494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42880"/>
                    <a:ext cx="7467480" cy="494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0" y="1440"/>
            <a:ext cx="9131400" cy="13366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09480" y="461880"/>
            <a:ext cx="62690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IB financing for PPPs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y sec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534520" y="6480000"/>
            <a:ext cx="5205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2.5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304920" y="1744560"/>
          <a:ext cx="8229600" cy="42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44560"/>
                    <a:ext cx="8229600" cy="42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0" y="1440"/>
            <a:ext cx="9131400" cy="1336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461880"/>
            <a:ext cx="62690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IB financing for PPPs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y loan mat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534520" y="6480000"/>
            <a:ext cx="5205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2.6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47280" y="1771200"/>
            <a:ext cx="8248680" cy="46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BFO roads and river crossings in the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nel Tunnel Rail Link and London Tub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alian power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anish &amp; Portuguese transport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ata airport and Athens ring r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K education and health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tch high speed train link and water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1336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09480" y="228600"/>
            <a:ext cx="777240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lagship deals to 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610480" y="6480000"/>
            <a:ext cx="444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2.7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520120" y="6488280"/>
            <a:ext cx="3747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300" spc="-1" strike="noStrike">
                <a:solidFill>
                  <a:srgbClr val="003f71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15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08000" y="4821120"/>
            <a:ext cx="89820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534520" y="6480000"/>
            <a:ext cx="5205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300" spc="-1" strike="noStrike">
                <a:solidFill>
                  <a:srgbClr val="003f71"/>
                </a:solidFill>
                <a:latin typeface="Arial"/>
              </a:rPr>
              <a:t>3.0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457200"/>
            <a:ext cx="8382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s for PPP Policy and Project Implement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1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057400" y="0"/>
            <a:ext cx="478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Introduction to E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981080"/>
            <a:ext cx="8763120" cy="30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Section 1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: Strategic characteristics and issues in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 European PP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Section 2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: EIB’s policy and approach to PP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Section 3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: Policy and project implementation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 less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Section 4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: EU PPP policy framework develop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commitment, “critical mass”/scale and expertise in public sector organisation of PPP program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ce of competitive, efficient and transparent procurement proc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oral focus in PPP program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arent information on ex-ante and ex-post evidence of project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payment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ive developments at European Union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31400" cy="13366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ey lessons from the Bank’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PP exper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534520" y="6480000"/>
            <a:ext cx="5205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3.1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able size of PPP programme critical to private sector confidence and willingness to particip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lusive participation in PPP procurement is a key strategic as well as financial investment for the private sec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itive pressure in procurement a “must” to achieve VFM for the public sector from PP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dering process can be complex and, sometimes, cos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and private sector need appropriate skills organisations and procedures to design, respond to and manage proc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compliance with EU legislation is a key requirement for EIB fu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13366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ortance of procur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610480" y="6480000"/>
            <a:ext cx="444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3.2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sector comparator and competitive procurement are important ex-ante  benchma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audit authorities commit significant resources to assessing PPP VF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t Reports are an important source of ex-post information on performance, learning and benchmarking for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UK National Audit Off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and time performance in major infrastructure generally goo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in IT sector generally w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31400" cy="13366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idence on PPP prospect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 perform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534520" y="6480000"/>
            <a:ext cx="5205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3.3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533520" y="1905120"/>
          <a:ext cx="8076960" cy="4419000"/>
        </p:xfrm>
        <a:graphic>
          <a:graphicData uri="http://schemas.openxmlformats.org/drawingml/2006/table">
            <a:tbl>
              <a:tblPr/>
              <a:tblGrid>
                <a:gridCol w="2692080"/>
                <a:gridCol w="2692440"/>
                <a:gridCol w="2692440"/>
              </a:tblGrid>
              <a:tr h="1472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ntional procur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P procur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3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overruns for the public se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3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ay in project deliv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31400" cy="13366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PP performance:</a:t>
            </a:r>
            <a:br>
              <a:rPr sz="36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idence on construction projects from the UK’s National Audit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534520" y="6480000"/>
            <a:ext cx="5205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3.4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untries prioritise one sector initially to develop critical mass, credibility and expertise in its public s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ce PPP programmes in transport, with later migration to other s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 of ‘migration’ to other sectors (health, education, energy, water, waste treatment) reflects i) national priorities, ii) legal frameworks and iii) availability and organisation of skilled public sector sta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roles of regional/devolved Government Authorities  as well as central and local government / municipali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31400" cy="13366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ctoral foc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534520" y="6480000"/>
            <a:ext cx="5205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3.5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ovative use of payment mechanisms to meet public sector objectives – must be “custom built/fit for purpos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from the road sect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tolls – to pass costs to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ility payments – to reduce con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ident rate premia – to improve 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ency to use toll as well as availability based payments in road projects; new mechanisms in freight/eurovigne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31400" cy="13366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76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fective payment mechani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6480000"/>
            <a:ext cx="5205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3.6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and private sector may need to acquire new skills to commence a PPP program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ficient ‘deal flow’ is critical to justify the costs and promote effective com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urement programmes need to be managed to minimise costs (eg standardised documentation) and maximise competition (eg timing of contract notic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PPP Task Forces can play key role in securing VFM in program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31400" cy="13366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ale and expertise in PPP program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610480" y="6480000"/>
            <a:ext cx="444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3.7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31400" cy="13366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52640" y="152280"/>
            <a:ext cx="544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ritical success facto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or PP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143000"/>
            <a:ext cx="79246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marL="1270080" indent="-666720" algn="ctr">
              <a:lnSpc>
                <a:spcPct val="100000"/>
              </a:lnSpc>
              <a:tabLst>
                <a:tab algn="l" pos="0"/>
                <a:tab algn="l" pos="107460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270080" indent="-666720" algn="ctr">
              <a:lnSpc>
                <a:spcPct val="100000"/>
              </a:lnSpc>
              <a:tabLst>
                <a:tab algn="l" pos="0"/>
                <a:tab algn="l" pos="107460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270080" indent="-666720" algn="ctr">
              <a:lnSpc>
                <a:spcPct val="100000"/>
              </a:lnSpc>
              <a:tabLst>
                <a:tab algn="l" pos="0"/>
                <a:tab algn="l" pos="107460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270080" indent="-666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07460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blic Sector Political Commit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270080" indent="-66672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7460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cused, dedicated and experienced public sector team – PPP Task For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270080" indent="-66672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7460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ear legal and institutional frame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270080" indent="-66672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7460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parent + competitive procur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270080" indent="-66672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7460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listic risk sharing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270080" indent="-66672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7460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vernment Partner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534520" y="6480000"/>
            <a:ext cx="5205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3.8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400800" y="1828800"/>
            <a:ext cx="2743200" cy="266688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98720" y="2057400"/>
            <a:ext cx="3164040" cy="205740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4120" y="0"/>
            <a:ext cx="2601720" cy="205740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24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Arial"/>
              </a:rPr>
              <a:t>Learning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2280" y="1905120"/>
            <a:ext cx="7149960" cy="3201840"/>
          </a:xfrm>
          <a:custGeom>
            <a:avLst/>
            <a:gdLst/>
            <a:ahLst/>
            <a:rect l="l" t="t" r="r" b="b"/>
            <a:pathLst>
              <a:path w="5349" h="2242">
                <a:moveTo>
                  <a:pt x="0" y="2242"/>
                </a:moveTo>
                <a:cubicBezTo>
                  <a:pt x="300" y="2154"/>
                  <a:pt x="1322" y="1999"/>
                  <a:pt x="1811" y="1711"/>
                </a:cubicBezTo>
                <a:cubicBezTo>
                  <a:pt x="2300" y="1423"/>
                  <a:pt x="2620" y="785"/>
                  <a:pt x="2935" y="514"/>
                </a:cubicBezTo>
                <a:cubicBezTo>
                  <a:pt x="3250" y="243"/>
                  <a:pt x="3301" y="168"/>
                  <a:pt x="3703" y="84"/>
                </a:cubicBezTo>
                <a:cubicBezTo>
                  <a:pt x="4105" y="0"/>
                  <a:pt x="5006" y="26"/>
                  <a:pt x="5349" y="11"/>
                </a:cubicBezTo>
              </a:path>
            </a:pathLst>
          </a:custGeom>
          <a:noFill/>
          <a:ln w="127080">
            <a:solidFill>
              <a:srgbClr val="cccc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7720" y="1866960"/>
            <a:ext cx="7051680" cy="3200400"/>
          </a:xfrm>
          <a:custGeom>
            <a:avLst/>
            <a:gdLst/>
            <a:ahLst/>
            <a:rect l="l" t="t" r="r" b="b"/>
            <a:pathLst>
              <a:path w="5275" h="2240">
                <a:moveTo>
                  <a:pt x="5275" y="2158"/>
                </a:moveTo>
                <a:cubicBezTo>
                  <a:pt x="4964" y="2126"/>
                  <a:pt x="3924" y="2240"/>
                  <a:pt x="3401" y="1966"/>
                </a:cubicBezTo>
                <a:cubicBezTo>
                  <a:pt x="2878" y="1692"/>
                  <a:pt x="2706" y="840"/>
                  <a:pt x="2139" y="512"/>
                </a:cubicBezTo>
                <a:cubicBezTo>
                  <a:pt x="1572" y="184"/>
                  <a:pt x="446" y="107"/>
                  <a:pt x="0" y="0"/>
                </a:cubicBezTo>
              </a:path>
            </a:pathLst>
          </a:custGeom>
          <a:noFill/>
          <a:ln w="127080">
            <a:solidFill>
              <a:srgbClr val="cccc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77720" y="6008400"/>
            <a:ext cx="6929640" cy="12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28760" y="1932120"/>
            <a:ext cx="0" cy="377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77720" y="5654160"/>
            <a:ext cx="7016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5480" rIns="105480" tIns="-50760" bIns="-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56240" y="5029200"/>
            <a:ext cx="1895400" cy="431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Extra co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1752480"/>
            <a:ext cx="1893960" cy="82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Value ad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9800000">
            <a:off x="2421000" y="4167360"/>
            <a:ext cx="658800" cy="431640"/>
          </a:xfrm>
          <a:prstGeom prst="rightArrow">
            <a:avLst>
              <a:gd name="adj1" fmla="val 50000"/>
              <a:gd name="adj2" fmla="val 3815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5480" rIns="105480" tIns="52560" bIns="52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1800000">
            <a:off x="2763360" y="2273400"/>
            <a:ext cx="657360" cy="431640"/>
          </a:xfrm>
          <a:prstGeom prst="rightArrow">
            <a:avLst>
              <a:gd name="adj1" fmla="val 50000"/>
              <a:gd name="adj2" fmla="val 3807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5480" rIns="105480" tIns="52560" bIns="52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14800" y="2819520"/>
            <a:ext cx="221148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enchmar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762120"/>
            <a:ext cx="18954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Risk-sha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05720" y="2819520"/>
            <a:ext cx="243828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Procur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2120" y="2286000"/>
            <a:ext cx="1895400" cy="431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Extra co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1960" y="5105520"/>
            <a:ext cx="1895400" cy="82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Value ad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800000">
            <a:off x="4853160" y="4495680"/>
            <a:ext cx="658800" cy="432000"/>
          </a:xfrm>
          <a:prstGeom prst="rightArrow">
            <a:avLst>
              <a:gd name="adj1" fmla="val 50000"/>
              <a:gd name="adj2" fmla="val 3812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5480" rIns="105480" tIns="52560" bIns="52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9800000">
            <a:off x="4572000" y="1905120"/>
            <a:ext cx="658800" cy="431640"/>
          </a:xfrm>
          <a:prstGeom prst="rightArrow">
            <a:avLst>
              <a:gd name="adj1" fmla="val 50000"/>
              <a:gd name="adj2" fmla="val 3815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5480" rIns="105480" tIns="52560" bIns="52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534520" y="6567480"/>
            <a:ext cx="701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3.9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38080" y="93024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Motorway Develop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2397240"/>
            <a:ext cx="5029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lvl="1" marL="668520" indent="-2570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Private Toll Concessions Companie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tand-alone BOT-PPP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(bridges, tunnels or motorways in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UK, ESP, P, GR, F, I …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318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Public Toll Concession Companie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oll Motorway Networks  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in  F, I, ESP (partial), P (former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318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Public Toll Companies/Authorities: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mplex stand-alone projects 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(e.g. DK-SW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oll roads in A, G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207324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Private Concession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680" indent="-2239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BFO shadow tolls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(UK, FIN, P, ESP...)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Other “off-budget” method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680" indent="-2239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German method: DB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680" indent="-2239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utch method (D&amp;B and F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680" indent="-2239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gian ”Intercommunales”</a:t>
            </a:r>
            <a:br>
              <a:rPr sz="1700"/>
            </a:b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Public ”Traditional ” Financing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680" indent="-2239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ad Fund: NL, B, L.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680" indent="-2239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d/or ”Vignette ”: (CH),  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680" indent="-2239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ure ”traditional ” method: D, UK, ESP autovias, I sud, DK, SWE..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680" indent="-2239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1616040"/>
            <a:ext cx="272412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ith Tolls (user-p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43440" y="1673280"/>
            <a:ext cx="158436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10040" y="6172200"/>
            <a:ext cx="1428840" cy="365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1692360"/>
            <a:ext cx="268596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ll Free (tax-pay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713120" y="2057400"/>
            <a:ext cx="0" cy="4057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534520" y="6567480"/>
            <a:ext cx="609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3.10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520120" y="6488280"/>
            <a:ext cx="3747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300" spc="-1" strike="noStrike">
                <a:solidFill>
                  <a:srgbClr val="003f71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1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8000" y="4821120"/>
            <a:ext cx="89820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58200" y="6480000"/>
            <a:ext cx="5968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1.0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838080"/>
            <a:ext cx="87631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ategic Characteristics and Issues in European PP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ory - Forms of private particip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523880"/>
            <a:ext cx="2211480" cy="133992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1339920"/>
              <a:gd name="textAreaBottom" fmla="*/ 1340280 h 133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32" y="0"/>
                </a:lnTo>
                <a:lnTo>
                  <a:pt x="21600" y="10800"/>
                </a:lnTo>
                <a:lnTo>
                  <a:pt x="1913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1b1ff"/>
          </a:solidFill>
          <a:ln w="12600">
            <a:solidFill>
              <a:srgbClr val="6f87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2"/>
                </a:solidFill>
                <a:latin typeface="Arial"/>
              </a:rPr>
              <a:t>commerci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2"/>
                </a:solidFill>
                <a:latin typeface="Arial"/>
              </a:rPr>
              <a:t>public enterp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4705200"/>
            <a:ext cx="7772400" cy="20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5716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ous spectrum of public-private partnerships, with varying degrees of private risk-t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Hybrid or intermediate form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 in duration, financing &amp; risk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17240" y="4040280"/>
            <a:ext cx="37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ivate O&amp;M + financi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87080" y="403848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ivate O&amp;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4421880" y="4164840"/>
            <a:ext cx="228600" cy="210960"/>
          </a:xfrm>
          <a:prstGeom prst="triangle">
            <a:avLst>
              <a:gd name="adj" fmla="val 50000"/>
            </a:avLst>
          </a:prstGeom>
          <a:solidFill>
            <a:srgbClr val="6f87ff"/>
          </a:solidFill>
          <a:ln w="12600">
            <a:solidFill>
              <a:srgbClr val="6f8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rot="16200000">
            <a:off x="4773240" y="4164840"/>
            <a:ext cx="228600" cy="211320"/>
          </a:xfrm>
          <a:prstGeom prst="triangle">
            <a:avLst>
              <a:gd name="adj" fmla="val 50000"/>
            </a:avLst>
          </a:prstGeom>
          <a:solidFill>
            <a:srgbClr val="6f87ff"/>
          </a:solidFill>
          <a:ln w="12600">
            <a:solidFill>
              <a:srgbClr val="6f8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535040" y="2617920"/>
            <a:ext cx="6372000" cy="1341360"/>
            <a:chOff x="1535040" y="2617920"/>
            <a:chExt cx="6372000" cy="1341360"/>
          </a:xfrm>
        </p:grpSpPr>
        <p:sp>
          <p:nvSpPr>
            <p:cNvPr id="215" name=""/>
            <p:cNvSpPr/>
            <p:nvPr/>
          </p:nvSpPr>
          <p:spPr>
            <a:xfrm>
              <a:off x="5944680" y="2624040"/>
              <a:ext cx="1962360" cy="1328760"/>
            </a:xfrm>
            <a:custGeom>
              <a:avLst/>
              <a:gdLst>
                <a:gd name="textAreaLeft" fmla="*/ 0 w 1962360"/>
                <a:gd name="textAreaRight" fmla="*/ 1962720 w 196236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716" y="0"/>
                  </a:lnTo>
                  <a:lnTo>
                    <a:pt x="21600" y="10800"/>
                  </a:lnTo>
                  <a:lnTo>
                    <a:pt x="1771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b2"/>
                  </a:solidFill>
                  <a:latin typeface="Arial"/>
                </a:rPr>
                <a:t>         </a:t>
              </a:r>
              <a:r>
                <a:rPr b="1" lang="en-US" sz="2000" spc="-1" strike="noStrike">
                  <a:solidFill>
                    <a:srgbClr val="0000b2"/>
                  </a:solidFill>
                  <a:latin typeface="Arial"/>
                </a:rPr>
                <a:t>BO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b2"/>
                  </a:solidFill>
                  <a:latin typeface="Arial"/>
                </a:rPr>
                <a:t>        </a:t>
              </a:r>
              <a:r>
                <a:rPr b="1" lang="en-US" sz="2000" spc="-1" strike="noStrike">
                  <a:solidFill>
                    <a:srgbClr val="0000b2"/>
                  </a:solidFill>
                  <a:latin typeface="Arial"/>
                </a:rPr>
                <a:t>divesti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935240" y="2619360"/>
              <a:ext cx="1667520" cy="1333440"/>
            </a:xfrm>
            <a:custGeom>
              <a:avLst/>
              <a:gdLst>
                <a:gd name="textAreaLeft" fmla="*/ 0 w 1667520"/>
                <a:gd name="textAreaRight" fmla="*/ 1667880 w 166752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716" y="0"/>
                  </a:lnTo>
                  <a:lnTo>
                    <a:pt x="21600" y="10800"/>
                  </a:lnTo>
                  <a:lnTo>
                    <a:pt x="1771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b2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b2"/>
                  </a:solidFill>
                  <a:latin typeface="Arial"/>
                </a:rPr>
                <a:t>conce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b2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b2"/>
                  </a:solidFill>
                  <a:latin typeface="Arial"/>
                </a:rPr>
                <a:t>BOT/DB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87560" y="2617920"/>
              <a:ext cx="1449000" cy="1339920"/>
            </a:xfrm>
            <a:custGeom>
              <a:avLst/>
              <a:gdLst>
                <a:gd name="textAreaLeft" fmla="*/ 0 w 1449000"/>
                <a:gd name="textAreaRight" fmla="*/ 1449360 w 1449000"/>
                <a:gd name="textAreaTop" fmla="*/ 0 h 1339920"/>
                <a:gd name="textAreaBottom" fmla="*/ 1340280 h 133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558" y="0"/>
                  </a:lnTo>
                  <a:lnTo>
                    <a:pt x="21600" y="10800"/>
                  </a:lnTo>
                  <a:lnTo>
                    <a:pt x="1755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b2"/>
                  </a:solidFill>
                  <a:latin typeface="Arial"/>
                </a:rPr>
                <a:t>lease </a:t>
              </a:r>
              <a:r>
                <a:rPr b="0" lang="en-US" sz="2400" spc="-1" strike="noStrike">
                  <a:solidFill>
                    <a:srgbClr val="0000b2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37360" y="2619360"/>
              <a:ext cx="1454760" cy="1339920"/>
            </a:xfrm>
            <a:custGeom>
              <a:avLst/>
              <a:gdLst>
                <a:gd name="textAreaLeft" fmla="*/ 0 w 1454760"/>
                <a:gd name="textAreaRight" fmla="*/ 1454760 w 1454760"/>
                <a:gd name="textAreaTop" fmla="*/ 0 h 1339920"/>
                <a:gd name="textAreaBottom" fmla="*/ 1340280 h 133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175" y="0"/>
                  </a:lnTo>
                  <a:lnTo>
                    <a:pt x="21600" y="10800"/>
                  </a:lnTo>
                  <a:lnTo>
                    <a:pt x="1817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b2"/>
                  </a:solidFill>
                  <a:latin typeface="Arial"/>
                </a:rPr>
                <a:t>manag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b2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35040" y="2617920"/>
              <a:ext cx="1371600" cy="133992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1339920"/>
                <a:gd name="textAreaBottom" fmla="*/ 1340280 h 133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27" y="0"/>
                  </a:lnTo>
                  <a:lnTo>
                    <a:pt x="21600" y="10800"/>
                  </a:lnTo>
                  <a:lnTo>
                    <a:pt x="1782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b2"/>
                  </a:solidFill>
                  <a:latin typeface="Arial"/>
                </a:rPr>
                <a:t>servic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b2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4713120" y="2136600"/>
            <a:ext cx="0" cy="2438640"/>
          </a:xfrm>
          <a:prstGeom prst="line">
            <a:avLst/>
          </a:prstGeom>
          <a:ln cap="rnd" w="76320">
            <a:solidFill>
              <a:srgbClr val="6f87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594280" y="6567480"/>
            <a:ext cx="54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3.12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PP Cho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1295280" y="1808280"/>
            <a:ext cx="0" cy="3962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5770440"/>
            <a:ext cx="7010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42280" y="55864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62240" y="5923080"/>
            <a:ext cx="2152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-5 YEARS LIMI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LEG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065480" y="5923080"/>
            <a:ext cx="2332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-30 YEARS PART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LEG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69880" y="5923080"/>
            <a:ext cx="1508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ERPETU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LEG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5200" y="551016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75680" y="170028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-897120" y="3450600"/>
            <a:ext cx="3131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WNER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SET PLANNING &amp; FI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47920" y="493236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ONTR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666880" y="417024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ONTR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9880" y="333216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GRE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57004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ONC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BOT/DBFO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943600" y="180828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FULL/PAR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IVESTI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594280" y="6567480"/>
            <a:ext cx="54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3.13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8520120" y="6488280"/>
            <a:ext cx="3747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300" spc="-1" strike="noStrike">
                <a:solidFill>
                  <a:srgbClr val="003f71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15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08000" y="4821120"/>
            <a:ext cx="89820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534520" y="6480000"/>
            <a:ext cx="5205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300" spc="-1" strike="noStrike">
                <a:solidFill>
                  <a:srgbClr val="003f71"/>
                </a:solidFill>
                <a:latin typeface="Arial"/>
              </a:rPr>
              <a:t>4.0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4572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 PPP Policy Fra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Communities expect PPPs to play a major role in Trans-European Networks in economic and social infrastructure and in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upport these developments, Commission has taken steps to clarif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urement legislation as it applies to PP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ing and statistical rules for PP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EU budget co-financ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B/national PPP development sharing of institutional capacity in EU-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additional risk sharing financial instruments (Infrastructure Funds, Mezzanine Guarantees, Securitisation Trus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31400" cy="13366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U Institutional Develop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458200" y="6480000"/>
            <a:ext cx="5968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4.1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law neutral on political choice for or against PP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nt Green Paper has launched review to ensure clearer legal framework for PPP procu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impact of 2004 ‘competitive dialogue’ procedure for complex contracts such as PP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31400" cy="133668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urement legis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534520" y="6480000"/>
            <a:ext cx="5205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4.2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Eurostat publishes new guidelines on ‘balance sheet’ treatment of PP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s that PPP assets can be deemed non governmental (‘off balance sheet’ for the public sector) i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sector takes construction risk;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sector take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it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vailability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mand 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31400" cy="13366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ounting an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istical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534520" y="6480000"/>
            <a:ext cx="5205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4.3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247680" y="1599840"/>
            <a:ext cx="889632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ategic policy advice to Public Authorities, Member &amp; Acceding States and EU Instit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aring experience from other PPP environ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sectoral know-how and geographical sp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pplying best practice of successful P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13366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685800" y="380880"/>
            <a:ext cx="47433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IB’s wider r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534520" y="6480000"/>
            <a:ext cx="5205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4.4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1981080"/>
            <a:ext cx="8305560" cy="35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e the efficiency and quality of public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-565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lerate investment in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-565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pturing private sector effici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-565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sk sharing mechanism / Value for Money (VFM) for Public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-565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scal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-565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orm of Public Proc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-565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orm of Supply Indus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-565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 Single Market &amp; E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-565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131400" cy="1336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320" y="228600"/>
            <a:ext cx="7391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rivers for PPP developments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E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610480" y="6397560"/>
            <a:ext cx="5335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1.1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35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50800" y="5803920"/>
            <a:ext cx="6937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noAutofit/>
          </a:bodyPr>
          <a:p>
            <a:pPr lvl="4" marL="53640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8140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8480" y="2019240"/>
            <a:ext cx="73440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074000" y="260280"/>
            <a:ext cx="1708200" cy="7034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000000"/>
                </a:solidFill>
                <a:latin typeface="Times New Roman"/>
              </a:rPr>
              <a:t>Financiacion de PPPs : Una prioridad para el BEI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8080" y="2517840"/>
            <a:ext cx="3648600" cy="1589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Times"/>
              <a:buChar char="-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BE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3399"/>
                </a:solidFill>
                <a:latin typeface="Times New Roman"/>
              </a:rPr>
              <a:t>Grandes 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3399"/>
                </a:solidFill>
                <a:latin typeface="Times New Roman"/>
              </a:rPr>
              <a:t>de financiación (e.g. TE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imes New Roman"/>
              </a:rPr>
              <a:t>- Factor critico de integ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3399"/>
                </a:solidFill>
                <a:latin typeface="Times New Roman"/>
              </a:rPr>
              <a:t>regional y desarrollo de Euro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95120" y="2517840"/>
            <a:ext cx="3729240" cy="1771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"/>
              <a:buChar char="-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BE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Restricciones presupuesta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(Condiciones Maastrich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"/>
              <a:buChar char="-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Moderación Fis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"/>
              <a:buChar char="-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"/>
              <a:buChar char="-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Necesidad de mejorar el ni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eficiencia en la inversión publ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73000" y="1285920"/>
            <a:ext cx="785160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BE" sz="4200" spc="-1" strike="noStrike" u="sng">
                <a:solidFill>
                  <a:srgbClr val="000000"/>
                </a:solidFill>
                <a:uFillTx/>
                <a:latin typeface="Times New Roman"/>
              </a:rPr>
              <a:t>Contexto : Mercado Unico - EMU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376440" y="1928880"/>
            <a:ext cx="695520" cy="58896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05320" y="1928880"/>
            <a:ext cx="749520" cy="58896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7160" y="4392720"/>
            <a:ext cx="728820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Marco legal adecuado, Competición, Transparenc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48160" y="4821120"/>
            <a:ext cx="0" cy="80352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179960" y="3321000"/>
            <a:ext cx="53496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48160" y="3321000"/>
            <a:ext cx="0" cy="10717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83000" y="5624640"/>
            <a:ext cx="1874880" cy="641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BE" sz="4200" spc="-1" strike="noStrike">
                <a:solidFill>
                  <a:srgbClr val="000000"/>
                </a:solidFill>
                <a:latin typeface="Times New Roman"/>
              </a:rPr>
              <a:t>PPP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357880" y="4981680"/>
            <a:ext cx="3591000" cy="90936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72080" y="5248440"/>
            <a:ext cx="2519280" cy="482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BE" sz="1700" spc="-1" strike="noStrike">
                <a:solidFill>
                  <a:srgbClr val="000000"/>
                </a:solidFill>
                <a:latin typeface="Times New Roman"/>
              </a:rPr>
              <a:t>- Value for Mone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8948880" y="2142720"/>
            <a:ext cx="0" cy="283860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8200" y="4981680"/>
            <a:ext cx="3214800" cy="90936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68200" y="2303280"/>
            <a:ext cx="0" cy="267804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0960" y="5033880"/>
            <a:ext cx="2517840" cy="965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BE" sz="1700" spc="-1" strike="noStrike">
                <a:solidFill>
                  <a:srgbClr val="000000"/>
                </a:solidFill>
                <a:latin typeface="Times New Roman"/>
              </a:rPr>
              <a:t>- Financiacion Privad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BE" sz="1700" spc="-1" strike="noStrike">
                <a:solidFill>
                  <a:srgbClr val="000000"/>
                </a:solidFill>
                <a:latin typeface="Times New Roman"/>
              </a:rPr>
              <a:t>- Eficiencia, Know-how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68200" y="1714680"/>
            <a:ext cx="588960" cy="58896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8734320" y="1606680"/>
            <a:ext cx="214560" cy="53640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6840" y="2362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295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nership risk sharing and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295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le life approach to design, build and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295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ly, contracts for services, not procuremen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295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put, not input,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295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yments related to service deli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295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ity in payment 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2280" y="1893960"/>
            <a:ext cx="79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tilising private sector skills for strategic public sector services v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31400" cy="1336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ain Characteristics of PPPs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E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458200" y="6480000"/>
            <a:ext cx="5968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1.3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600" y="1371600"/>
            <a:ext cx="891540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439920" indent="-439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n princip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PPPs can improve VFM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9920" indent="-43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cilitating and incentivising on time and on budget project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3280" indent="-366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service / no payment…Reduced service/reduced pa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3280" indent="-366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entives to cos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9920" indent="-43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timisation of capital &amp; maintenance spends over project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9920" indent="-43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novation in design and financing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9920" indent="-43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roving management of operational r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9920" indent="-43992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9920" indent="-4399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Optimal risk allocation </a:t>
            </a:r>
            <a:r>
              <a:rPr b="0" i="1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reduced cost of 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9920" indent="-4399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Reduced cost of risk </a:t>
            </a:r>
            <a:r>
              <a:rPr b="0" i="1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better Value for Mo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9920" indent="-439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31400" cy="1336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09480" y="152280"/>
            <a:ext cx="632484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PPs and Value for M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610480" y="6397560"/>
            <a:ext cx="5335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1.4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523880"/>
            <a:ext cx="891540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etitive, public procurement procedures are the n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n practi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the private sector’s price for taking project risks represent good value for money for the public secto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the private sector’s return on capital appropriate to the level of risk being tak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be tested case by case through an agreed methodology (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ublic Sector Compara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 presumption that PPPs will always prove better Value for Money than conventional proc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36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04920" y="228600"/>
            <a:ext cx="632448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esting Value for Money (VF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534520" y="6595920"/>
            <a:ext cx="609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1.5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1447920"/>
            <a:ext cx="7878600" cy="49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ectoral concentr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cipally in transpor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ly in health &amp;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Geographic concentr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marily UK, Portugal, Greece, Spain, Netherlands, Denmark &amp; Sweden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ly significant in Ireland, Italy, Belgium, France &amp; 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tives being revisited in Central and Eastern Eur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31400" cy="1336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55520" y="479520"/>
            <a:ext cx="62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PP development in Euro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534520" y="6595920"/>
            <a:ext cx="609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1300" spc="-1" strike="noStrike">
                <a:solidFill>
                  <a:srgbClr val="003f71"/>
                </a:solidFill>
                <a:latin typeface="Arial"/>
              </a:rPr>
              <a:t>1.6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08:35:25Z</dcterms:created>
  <dc:creator>JENNETT</dc:creator>
  <dc:description/>
  <dc:language>en-US</dc:language>
  <cp:lastModifiedBy>CHANGES</cp:lastModifiedBy>
  <dcterms:modified xsi:type="dcterms:W3CDTF">2005-11-29T22:44:42Z</dcterms:modified>
  <cp:revision>95</cp:revision>
  <dc:subject/>
  <dc:title>Main Characteristics of PPPs</dc:title>
</cp:coreProperties>
</file>