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4D0-2A37-482E-8D40-B50687FA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26A-0753-4F3A-8063-D7297EB6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075-BD67-438D-963D-0BE4A80B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241-A8A9-48FF-9764-6D1B304E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C57-1371-4E91-92D4-FA29AB16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E1C-9039-4D11-82EA-C6708436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A42-1A69-49D1-BA97-A50724B6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A4F-6C02-4ACD-99F2-59216DE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88D-3927-4590-966C-6F7BE3A3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E84-0B7A-4958-BC63-2810FB0F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E87-0B37-4AA0-A100-E0F1629E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76A-D99E-44D2-8787-D78E372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IB’s Role &amp; Experience in Europ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Public Private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Jaime Barragan</a:t>
            </a:r>
            <a:br>
              <a:rPr sz="1600"/>
            </a:b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EIB – European Investment Bank</a:t>
            </a:r>
            <a:br>
              <a:rPr sz="4000"/>
            </a:b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ADB, 8-9 December 2005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61960" y="1523880"/>
            <a:ext cx="78786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ly commence i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ransport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ment into other sectors as VFM benefits shown and public sector expertise g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PP structure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ary across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ility to adapt to national, regional and local policy requirements and socio-economic priorities is a key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standardisation of contracts and procedures a key “critical mass” feature of successful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4795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PP develop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7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10480" y="6595920"/>
            <a:ext cx="5335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2.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91440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B’s policy and approach to PP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petitive tend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n-exclusivity - support of all bidders through bidding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vestment Grade Risks are acceptable without direct public sector guarantees on public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tension of EIB financing to sub-investment grade risks increasingly possible in strategic public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IB’s objective complementarity with and leveraging of banks &amp; capital mark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IB benefits passed to end-users/taxpay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tility Risk and Utility Reward for Equity and Deb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Financing Princi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1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2280" y="1828800"/>
            <a:ext cx="8134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riven approach to PPPs based on the evaluation of the benefits achie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PPs are an additional policy option. No bias in favour of any particular procureme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d expertise and financial resources available for “infrastructure”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ilitating greater private sector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on strategic public services with clear Value A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5000" y="304920"/>
            <a:ext cx="8475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’s approach to PPP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s and modernising transport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vironmental improvements – water, sewerage,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ry and acute healthcar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-based economy: primary, secondary, tertiary and life lo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2000" y="155412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ing PPPs in areas of critical poli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gnific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PPP sectors for E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8960" y="326880"/>
            <a:ext cx="62704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6488280"/>
            <a:ext cx="498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2.4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3520" y="1992240"/>
          <a:ext cx="8001000" cy="48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92240"/>
                    <a:ext cx="800100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9480" y="0"/>
            <a:ext cx="7925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Financing for PPPs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y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2120" y="1442880"/>
          <a:ext cx="7467480" cy="494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2880"/>
                    <a:ext cx="7467480" cy="49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461880"/>
            <a:ext cx="626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financing for PPPs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y s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04920" y="1744560"/>
          <a:ext cx="8229600" cy="42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44560"/>
                    <a:ext cx="8229600" cy="42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461880"/>
            <a:ext cx="626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financing for PPPs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y loan mat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6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47280" y="1771200"/>
            <a:ext cx="824868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BFO roads and river crossings in the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nel Tunnel Rail Link and London Tu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alian power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nish &amp; Portuguese transport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ta airport and Athens ring 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K education and health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tch high speed train link and water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228600"/>
            <a:ext cx="77724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lagship deals to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7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3.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57200"/>
            <a:ext cx="838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s for PPP Policy and Project Implemen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0"/>
            <a:ext cx="47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Introduction to E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981080"/>
            <a:ext cx="876312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ection 1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: Strategic characteristics and issues in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European P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ection 2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: EIB’s policy and approach to P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ection 3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: Policy and project implementation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less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ection 4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: EU PPP policy framework develop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mmitment, “critical mass”/scale and expertise in public sector organisation of PPP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competitive, efficient and transparent procurement proc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al focus in PPP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information on ex-ante and ex-post evidence of projec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ayme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ve developments at European Union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lessons from the Bank’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P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1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size of PPP programme critical to private sector confidence and willingness to particip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 participation in PPP procurement is a key strategic as well as financial investment for the private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ve pressure in procurement a “must” to achieve VFM for the public sector from P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ring process can be complex and, sometimes,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nd private sector need appropriate skills organisations and procedures to design, respond to and manage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ompliance with EU legislation is a key requirement for EIB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proc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ector comparator and competitive procurement are important ex-ante  bench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audit authorities commit significant resources to assessing PPP VF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Reports are an important source of ex-post information on performance, learning and benchmarking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UK National Audit Off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and time performance in major infrastructure generally goo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n IT sector generally 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idence on PPP prospect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33520" y="1905120"/>
          <a:ext cx="8076960" cy="4419000"/>
        </p:xfrm>
        <a:graphic>
          <a:graphicData uri="http://schemas.openxmlformats.org/drawingml/2006/table">
            <a:tbl>
              <a:tblPr/>
              <a:tblGrid>
                <a:gridCol w="2692080"/>
                <a:gridCol w="2692440"/>
                <a:gridCol w="2692440"/>
              </a:tblGrid>
              <a:tr h="147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tional proc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 proc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verruns for the public se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in project deli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PP performance: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 on construction projects from the UK’s National Audi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4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untries prioritise one sector initially to develop critical mass, credibility and expertise in its public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ce PPP programmes in transport, with later migration to other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‘migration’ to other sectors (health, education, energy, water, waste treatment) reflects i) national priorities, ii) legal frameworks and iii) availability and organisation of skilled public sector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 of regional/devolved Government Authorities  as well as central and local government / municipa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toral foc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use of payment mechanisms to meet public sector objectives – must be “custom built/fit for purpo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from the road se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tolls – to pass costs to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payments – to reduce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 rate premia – to improve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ency to use toll as well as availability based payments in road projects; new mechanisms in freight/eurovign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76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 payment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6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nd private sector may need to acquire new skills to commence a PPP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‘deal flow’ is critical to justify the costs and promote effective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urement programmes need to be managed to minimise costs (eg standardised documentation) and maximise competition (eg timing of contract not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PPP Task Forces can play key role in securing VFM in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e and expertise in PPP 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7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2640" y="152280"/>
            <a:ext cx="544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ritical success 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 PP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143000"/>
            <a:ext cx="7924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1270080" indent="-666720" algn="ctr">
              <a:lnSpc>
                <a:spcPct val="100000"/>
              </a:lnSpc>
              <a:tabLst>
                <a:tab algn="l" pos="0"/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 algn="ctr">
              <a:lnSpc>
                <a:spcPct val="100000"/>
              </a:lnSpc>
              <a:tabLst>
                <a:tab algn="l" pos="0"/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 algn="ctr">
              <a:lnSpc>
                <a:spcPct val="100000"/>
              </a:lnSpc>
              <a:tabLst>
                <a:tab algn="l" pos="0"/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Sector Political Commi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ed, dedicated and experienced public sector team – PPP Task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ar legal and institutional fra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t + competitive procu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istic risk shar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vernment Partner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8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400800" y="1828800"/>
            <a:ext cx="2743200" cy="2666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8720" y="2057400"/>
            <a:ext cx="3164040" cy="2057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0"/>
            <a:ext cx="2601720" cy="2057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2280" y="1905120"/>
            <a:ext cx="7149960" cy="3201840"/>
          </a:xfrm>
          <a:custGeom>
            <a:avLst/>
            <a:gdLst/>
            <a:ahLst/>
            <a:rect l="l" t="t" r="r" b="b"/>
            <a:pathLst>
              <a:path w="5349" h="2242">
                <a:moveTo>
                  <a:pt x="0" y="2242"/>
                </a:moveTo>
                <a:cubicBezTo>
                  <a:pt x="300" y="2154"/>
                  <a:pt x="1322" y="1999"/>
                  <a:pt x="1811" y="1711"/>
                </a:cubicBezTo>
                <a:cubicBezTo>
                  <a:pt x="2300" y="1423"/>
                  <a:pt x="2620" y="785"/>
                  <a:pt x="2935" y="514"/>
                </a:cubicBezTo>
                <a:cubicBezTo>
                  <a:pt x="3250" y="243"/>
                  <a:pt x="3301" y="168"/>
                  <a:pt x="3703" y="84"/>
                </a:cubicBezTo>
                <a:cubicBezTo>
                  <a:pt x="4105" y="0"/>
                  <a:pt x="5006" y="26"/>
                  <a:pt x="5349" y="11"/>
                </a:cubicBezTo>
              </a:path>
            </a:pathLst>
          </a:custGeom>
          <a:noFill/>
          <a:ln w="127080">
            <a:solidFill>
              <a:srgbClr val="cccc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7720" y="1866960"/>
            <a:ext cx="7051680" cy="3200400"/>
          </a:xfrm>
          <a:custGeom>
            <a:avLst/>
            <a:gdLst/>
            <a:ahLst/>
            <a:rect l="l" t="t" r="r" b="b"/>
            <a:pathLst>
              <a:path w="5275" h="2240">
                <a:moveTo>
                  <a:pt x="5275" y="2158"/>
                </a:moveTo>
                <a:cubicBezTo>
                  <a:pt x="4964" y="2126"/>
                  <a:pt x="3924" y="2240"/>
                  <a:pt x="3401" y="1966"/>
                </a:cubicBezTo>
                <a:cubicBezTo>
                  <a:pt x="2878" y="1692"/>
                  <a:pt x="2706" y="840"/>
                  <a:pt x="2139" y="512"/>
                </a:cubicBezTo>
                <a:cubicBezTo>
                  <a:pt x="1572" y="184"/>
                  <a:pt x="446" y="107"/>
                  <a:pt x="0" y="0"/>
                </a:cubicBezTo>
              </a:path>
            </a:pathLst>
          </a:custGeom>
          <a:noFill/>
          <a:ln w="127080">
            <a:solidFill>
              <a:srgbClr val="cccc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7720" y="6008400"/>
            <a:ext cx="692964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28760" y="1932120"/>
            <a:ext cx="0" cy="377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7720" y="5654160"/>
            <a:ext cx="701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5480" rIns="1054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56240" y="5029200"/>
            <a:ext cx="1895400" cy="43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xtra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893960" cy="82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Valu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9800000">
            <a:off x="2421000" y="4167360"/>
            <a:ext cx="658800" cy="431640"/>
          </a:xfrm>
          <a:prstGeom prst="rightArrow">
            <a:avLst>
              <a:gd name="adj1" fmla="val 50000"/>
              <a:gd name="adj2" fmla="val 381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800000">
            <a:off x="2763360" y="2273400"/>
            <a:ext cx="657360" cy="431640"/>
          </a:xfrm>
          <a:prstGeom prst="rightArrow">
            <a:avLst>
              <a:gd name="adj1" fmla="val 50000"/>
              <a:gd name="adj2" fmla="val 380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819520"/>
            <a:ext cx="22114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762120"/>
            <a:ext cx="1895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Risk-sh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2819520"/>
            <a:ext cx="24382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c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2120" y="2286000"/>
            <a:ext cx="1895400" cy="43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xtra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960" y="5105520"/>
            <a:ext cx="1895400" cy="82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Valu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800000">
            <a:off x="4853160" y="4495680"/>
            <a:ext cx="658800" cy="432000"/>
          </a:xfrm>
          <a:prstGeom prst="rightArrow">
            <a:avLst>
              <a:gd name="adj1" fmla="val 50000"/>
              <a:gd name="adj2" fmla="val 381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9800000">
            <a:off x="4572000" y="1905120"/>
            <a:ext cx="658800" cy="431640"/>
          </a:xfrm>
          <a:prstGeom prst="rightArrow">
            <a:avLst>
              <a:gd name="adj1" fmla="val 50000"/>
              <a:gd name="adj2" fmla="val 381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4520" y="6567480"/>
            <a:ext cx="70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9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9302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Motorway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39724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ivate Toll Concessions Compani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and-alone BOT-PPP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bridges, tunnels or motorways in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UK, ESP, P, GR, F, I …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18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Toll Concession Compani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oll Motorway Networks 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in  F, I, ESP (partial), P (former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18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Toll Companies/Authorities: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plex stand-alone projects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e.g. DK-SW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oll roads in A, G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07324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ivate Concessio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BFO shadow tolls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(UK, FIN, P, ESP..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ther “off-budget” method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erman method: DB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utch method (D&amp;B and 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gian ”Intercommunales”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”Traditional ” Financing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ad Fund: NL, B, L.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d/or ”Vignette ”: (CH), 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e ”traditional ” method: D, UK, ESP autovias, I sud, DK, SWE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1616040"/>
            <a:ext cx="27241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th Tolls (user-p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43440" y="1673280"/>
            <a:ext cx="158436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10040" y="6172200"/>
            <a:ext cx="14288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1692360"/>
            <a:ext cx="26859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ll Free (tax-p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3120" y="2057400"/>
            <a:ext cx="0" cy="405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656748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1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838080"/>
            <a:ext cx="8763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c Characteristics and Issues in European PP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ory - Forms of private particip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523880"/>
            <a:ext cx="2211480" cy="133992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2" y="0"/>
                </a:lnTo>
                <a:lnTo>
                  <a:pt x="21600" y="10800"/>
                </a:lnTo>
                <a:lnTo>
                  <a:pt x="191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1b1ff"/>
          </a:solidFill>
          <a:ln w="12600">
            <a:solidFill>
              <a:srgbClr val="6f87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2"/>
                </a:solidFill>
                <a:latin typeface="Arial"/>
              </a:rPr>
              <a:t>commer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2"/>
                </a:solidFill>
                <a:latin typeface="Arial"/>
              </a:rPr>
              <a:t>public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705200"/>
            <a:ext cx="77724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spectrum of public-private partnerships, with varying degrees of private risk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Hybrid or intermediate form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 in duration, financing &amp; risk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17240" y="404028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ivate O&amp;M + financ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7080" y="40384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ivate O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4421880" y="4164840"/>
            <a:ext cx="228600" cy="210960"/>
          </a:xfrm>
          <a:prstGeom prst="triangle">
            <a:avLst>
              <a:gd name="adj" fmla="val 50000"/>
            </a:avLst>
          </a:prstGeom>
          <a:solidFill>
            <a:srgbClr val="6f87ff"/>
          </a:solidFill>
          <a:ln w="12600">
            <a:solidFill>
              <a:srgbClr val="6f8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rot="16200000">
            <a:off x="4773240" y="4164840"/>
            <a:ext cx="228600" cy="211320"/>
          </a:xfrm>
          <a:prstGeom prst="triangle">
            <a:avLst>
              <a:gd name="adj" fmla="val 50000"/>
            </a:avLst>
          </a:prstGeom>
          <a:solidFill>
            <a:srgbClr val="6f87ff"/>
          </a:solidFill>
          <a:ln w="12600">
            <a:solidFill>
              <a:srgbClr val="6f8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35040" y="2617920"/>
            <a:ext cx="6372000" cy="1341360"/>
            <a:chOff x="1535040" y="2617920"/>
            <a:chExt cx="6372000" cy="1341360"/>
          </a:xfrm>
        </p:grpSpPr>
        <p:sp>
          <p:nvSpPr>
            <p:cNvPr id="215" name=""/>
            <p:cNvSpPr/>
            <p:nvPr/>
          </p:nvSpPr>
          <p:spPr>
            <a:xfrm>
              <a:off x="5944680" y="2624040"/>
              <a:ext cx="1962360" cy="1328760"/>
            </a:xfrm>
            <a:custGeom>
              <a:avLst/>
              <a:gdLst>
                <a:gd name="textAreaLeft" fmla="*/ 0 w 1962360"/>
                <a:gd name="textAreaRight" fmla="*/ 1962720 w 19623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716" y="0"/>
                  </a:lnTo>
                  <a:lnTo>
                    <a:pt x="21600" y="10800"/>
                  </a:lnTo>
                  <a:lnTo>
                    <a:pt x="177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b2"/>
                  </a:solidFill>
                  <a:latin typeface="Arial"/>
                </a:rPr>
                <a:t>         </a:t>
              </a: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BO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        </a:t>
              </a: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divesti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35240" y="2619360"/>
              <a:ext cx="1667520" cy="133344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716" y="0"/>
                  </a:lnTo>
                  <a:lnTo>
                    <a:pt x="21600" y="10800"/>
                  </a:lnTo>
                  <a:lnTo>
                    <a:pt x="177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b2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conc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BOT/DB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87560" y="2617920"/>
              <a:ext cx="1449000" cy="1339920"/>
            </a:xfrm>
            <a:custGeom>
              <a:avLst/>
              <a:gdLst>
                <a:gd name="textAreaLeft" fmla="*/ 0 w 1449000"/>
                <a:gd name="textAreaRight" fmla="*/ 1449360 w 144900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58" y="0"/>
                  </a:lnTo>
                  <a:lnTo>
                    <a:pt x="21600" y="10800"/>
                  </a:lnTo>
                  <a:lnTo>
                    <a:pt x="1755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lease </a:t>
              </a:r>
              <a:r>
                <a:rPr b="0" lang="en-US" sz="2400" spc="-1" strike="noStrike">
                  <a:solidFill>
                    <a:srgbClr val="0000b2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37360" y="2619360"/>
              <a:ext cx="1454760" cy="1339920"/>
            </a:xfrm>
            <a:custGeom>
              <a:avLst/>
              <a:gdLst>
                <a:gd name="textAreaLeft" fmla="*/ 0 w 1454760"/>
                <a:gd name="textAreaRight" fmla="*/ 1454760 w 14547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75" y="0"/>
                  </a:lnTo>
                  <a:lnTo>
                    <a:pt x="21600" y="10800"/>
                  </a:lnTo>
                  <a:lnTo>
                    <a:pt x="1817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manag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35040" y="2617920"/>
              <a:ext cx="1371600" cy="13399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27" y="0"/>
                  </a:lnTo>
                  <a:lnTo>
                    <a:pt x="21600" y="10800"/>
                  </a:lnTo>
                  <a:lnTo>
                    <a:pt x="1782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servi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713120" y="2136600"/>
            <a:ext cx="0" cy="2438640"/>
          </a:xfrm>
          <a:prstGeom prst="line">
            <a:avLst/>
          </a:prstGeom>
          <a:ln cap="rnd" w="76320">
            <a:solidFill>
              <a:srgbClr val="6f87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94280" y="656748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1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PP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295280" y="180828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77044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42280" y="55864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62240" y="5923080"/>
            <a:ext cx="2152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-5 YEARS LIMI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65480" y="5923080"/>
            <a:ext cx="2332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-30 YEARS PAR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9880" y="5923080"/>
            <a:ext cx="1508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PE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5200" y="55101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680" y="17002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-897120" y="3450600"/>
            <a:ext cx="3131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T PLANNING &amp; 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493236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41702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333216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5700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NC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OT/DBFO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18082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ULL/PAR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VEST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94280" y="656748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1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4.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57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PPP Policy Fra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Communities expect PPPs to play a major role in Trans-European Networks in economic and social infrastructure and i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these developments, Commission has taken steps to clari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urement legislation as it applies to P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and statistical rules for P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EU budget co-finan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B/national PPP development sharing of institutional capacity in EU-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dditional risk sharing financial instruments (Infrastructure Funds, Mezzanine Guarantees, Securitisation Tru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U Institutional Develop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4.1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law neutral on political choice for or against P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Green Paper has launched review to ensure clearer legal framework for PPP proc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impact of 2004 ‘competitive dialogue’ procedure for complex contracts such as P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urement legi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4.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Eurostat publishes new guidelines on ‘balance sheet’ treatment of P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s that PPP assets can be deemed non governmental (‘off balance sheet’ for the public sector)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ector takes construction risk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ector tak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ailabilit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mand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ing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stical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4.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47680" y="1599840"/>
            <a:ext cx="889632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olicy advice to Public Authorities, Member &amp; Acceding States and EU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ring experience from other PPP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sectoral know-how and geographical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ying best practice of successful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85800" y="380880"/>
            <a:ext cx="47433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’s wider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4.4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81080"/>
            <a:ext cx="830556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the efficiency and quality of public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e investment in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turing private sector effici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sharing mechanism / Value for Money (VFM) for Public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of Public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of Supply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Single Market &amp;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22860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rivers for PPP development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10480" y="6397560"/>
            <a:ext cx="5335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1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0800" y="5803920"/>
            <a:ext cx="693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lvl="4" marL="5364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814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8480" y="2019240"/>
            <a:ext cx="734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74000" y="260280"/>
            <a:ext cx="1708200" cy="703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000000"/>
                </a:solidFill>
                <a:latin typeface="Times New Roman"/>
              </a:rPr>
              <a:t>Financiacion de PPPs : Una prioridad para el BE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080" y="2517840"/>
            <a:ext cx="3648600" cy="1589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Grandes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de financiación (e.g. TE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- Factor critico de 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regional y desarrollo de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95120" y="2517840"/>
            <a:ext cx="3729240" cy="1771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stricciones presupues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(Condiciones Maastric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Moderación Fi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Necesidad de mejorar el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ficiencia en la inversión pu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3000" y="1285920"/>
            <a:ext cx="78516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4200" spc="-1" strike="noStrike" u="sng">
                <a:solidFill>
                  <a:srgbClr val="000000"/>
                </a:solidFill>
                <a:uFillTx/>
                <a:latin typeface="Times New Roman"/>
              </a:rPr>
              <a:t>Contexto : Mercado Unico - EMU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376440" y="1928880"/>
            <a:ext cx="695520" cy="5889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05320" y="1928880"/>
            <a:ext cx="749520" cy="5889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7160" y="4392720"/>
            <a:ext cx="72882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arco legal adecuado, Competición, Transpar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48160" y="4821120"/>
            <a:ext cx="0" cy="80352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79960" y="3321000"/>
            <a:ext cx="534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48160" y="3321000"/>
            <a:ext cx="0" cy="1071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83000" y="5624640"/>
            <a:ext cx="1874880" cy="641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4200" spc="-1" strike="noStrike">
                <a:solidFill>
                  <a:srgbClr val="000000"/>
                </a:solidFill>
                <a:latin typeface="Times New Roman"/>
              </a:rPr>
              <a:t>PPP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57880" y="4981680"/>
            <a:ext cx="3591000" cy="909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72080" y="5248440"/>
            <a:ext cx="2519280" cy="48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1700" spc="-1" strike="noStrike">
                <a:solidFill>
                  <a:srgbClr val="000000"/>
                </a:solidFill>
                <a:latin typeface="Times New Roman"/>
              </a:rPr>
              <a:t>- Value for Mon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948880" y="2142720"/>
            <a:ext cx="0" cy="28386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8200" y="4981680"/>
            <a:ext cx="3214800" cy="909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68200" y="2303280"/>
            <a:ext cx="0" cy="26780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0960" y="5033880"/>
            <a:ext cx="2517840" cy="965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1700" spc="-1" strike="noStrike">
                <a:solidFill>
                  <a:srgbClr val="000000"/>
                </a:solidFill>
                <a:latin typeface="Times New Roman"/>
              </a:rPr>
              <a:t>- Financiacion Priva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1700" spc="-1" strike="noStrike">
                <a:solidFill>
                  <a:srgbClr val="000000"/>
                </a:solidFill>
                <a:latin typeface="Times New Roman"/>
              </a:rPr>
              <a:t>- Eficiencia, Know-h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8200" y="1714680"/>
            <a:ext cx="588960" cy="5889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8734320" y="1606680"/>
            <a:ext cx="214560" cy="536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ship risk sharing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 life approach to design, build and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ly, contracts for services, not procurem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, not input,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yments related to servic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in payment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2280" y="1893960"/>
            <a:ext cx="79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sing private sector skills for strategic public sector services v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ain Characteristics of PPPs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371600"/>
            <a:ext cx="89154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439920" indent="-43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princi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PPPs can improve VFM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ilitating and incentivising on time and on budget proje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328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service / no payment…Reduced service/reduced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328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entives to co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misation of capital &amp; maintenance spends over project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on in design and financing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management of operational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ptimal risk allocation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reduced cost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duced cost of risk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better Value for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152280"/>
            <a:ext cx="63248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PPs and Value for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10480" y="6397560"/>
            <a:ext cx="5335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4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3880"/>
            <a:ext cx="8915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etitive, public procurement procedures are the n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practi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the private sector’s price for taking project risks represent good value for money for the public se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 private sector’s return on capital appropriate to the level of risk being tak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be tested case by case through an agreed methodology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ublic Sector Compara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 presumption that PPPs will always prove better Value for Money than conventional 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228600"/>
            <a:ext cx="63244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sting Value for Money (VF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34520" y="6595920"/>
            <a:ext cx="609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447920"/>
            <a:ext cx="7878600" cy="49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ectoral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ly in transpor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ly in health &amp;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eographic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ily UK, Portugal, Greece, Spain, Netherlands, Denmark &amp; Swede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ly significant in Ireland, Italy, Belgium, France &amp;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tives being revisited in Central and Easter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5520" y="479520"/>
            <a:ext cx="62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PP development in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34520" y="6595920"/>
            <a:ext cx="609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6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35:25Z</dcterms:created>
  <dc:creator>JENNETT</dc:creator>
  <dc:description/>
  <dc:language>en-US</dc:language>
  <cp:lastModifiedBy>CHANGES</cp:lastModifiedBy>
  <dcterms:modified xsi:type="dcterms:W3CDTF">2005-11-29T22:44:42Z</dcterms:modified>
  <cp:revision>95</cp:revision>
  <dc:subject/>
  <dc:title>Main Characteristics of PPPs</dc:title>
</cp:coreProperties>
</file>