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EF5-8832-4F52-B906-FFD00504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D635-3164-45A0-8D95-C6B69B6C9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259-FC32-4D60-B232-960603AE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20C-0484-48E2-8DCE-CF20A9DC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3145-E362-42B7-8FF9-E554896C2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2444-00E5-45BA-B7E6-CD35A506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490-B52D-4F1A-994C-55B95E2D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632-667E-47ED-B5E6-A39F2B07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28C-BD4C-41A1-8674-0F5B5E6C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A801-0B0C-47C3-8770-9ABFB844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DE7-2CB8-414C-B170-337566AC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C9C-54E0-4B33-87ED-B29443BAD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844B-3AC8-4054-AE07-9BD0DE2B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128-D92C-45FE-A3D0-D592AA3F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3046-ED5C-499C-863B-8D790DAE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4687-552A-4799-B2D2-1D522A92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20A8-2FD3-4CBE-BD31-FECC4217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641-CA64-4213-B913-0FE3D45E0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905120" y="304920"/>
            <a:ext cx="2844720" cy="2133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0" y="26665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model that you will see on the screen applies to normative development but also can be expanded to account for face processing deficits in autism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cial Motiv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face provides a range of nonverbal information important for communication and survival (Darwin) and a visual preference for faces is seen even in newborn infant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ral researchers have proposed (Klin, Dawson, Grelotti &amp; Others) that young children with autism display an early deficit in social motiva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ttention to fa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is evident in failure to attend to other peoples fac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velopment of Experti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faulty motivational mechanism leads to a lack of attention to faces and may result in a failure to develop perceptual expertise for fac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ain Develo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lack of an “experience expectant” face environment results in a failure to development the brain systems to process faces in a typical patter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FURTHER PROPOSE THAT this results in a specific failure of normal cortical specializ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results in a failure of hemispheric specializ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act neural speed, resulting in decreased cortical efficienc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ich has further downstream consequences for integration of the face with other modalities and syste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will demonstrate both of these deficits in brain development in our ERP dat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ne way of addressing brain development is to look at ERP and EEG recordings of brain activity to particular types of stimu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 The ERP and EEG activity result from the synchronous firing of neurons in the brain. This activity propagates to the scalp and can then be record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3A0-6427-47F1-8258-0E37DB13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A6E-B771-4B66-9983-5431EF83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154-E59A-48AC-9CE4-957188943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A649-9E3B-4404-AB46-A5547AA6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136-9A22-4A72-A31D-D915E6B1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419-D18C-4480-977D-0789AD2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A83-68FE-45A0-9249-748F65EC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E64-5BFF-4EDE-8B4D-24368D03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843-3ABB-4B6C-8079-AB98418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908-0008-4C37-914A-385AFD2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D23-EB44-4CA9-866F-DCEAFC6A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0DA-AAFB-45DF-9BA9-5810800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D8F-2198-4C0C-BE79-2DF175B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530-C567-4334-AE93-00E16B11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715-3E93-4EC8-8754-1216FEC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78E-9C4E-41A6-8F8A-7A07EE4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BDC-2EB6-4F0D-9257-A597885D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Documents and Settings\Cecilia\My Documents\My Pictures\ICDL\ICDL_process.jpg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0" y="228600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On Health, Human Development Potential and the Quality of Lif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Towards Biological-based Indexes of Human Development Potential for Assessing the Quality of Life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66"/>
                </a:solidFill>
                <a:latin typeface="Times New Roman"/>
              </a:rPr>
              <a:t>IDB-PAHO, May 25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. Greenspan, M.D. &amp; C. Breinbauer, M.D., M.P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nterdisciplinary Council on Developmental and Learning Disorders (ICD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www.paho.org/Images/DD/PIN/whd05_photo01.jpg"/>
          <p:cNvPicPr/>
          <p:nvPr/>
        </p:nvPicPr>
        <p:blipFill>
          <a:blip r:embed="rId1"/>
          <a:stretch/>
        </p:blipFill>
        <p:spPr>
          <a:xfrm>
            <a:off x="2362320" y="2362320"/>
            <a:ext cx="213336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aho.org/Images/DD/PIN/whd05_photo08.jpg"/>
          <p:cNvPicPr/>
          <p:nvPr/>
        </p:nvPicPr>
        <p:blipFill>
          <a:blip r:embed="rId2"/>
          <a:stretch/>
        </p:blipFill>
        <p:spPr>
          <a:xfrm>
            <a:off x="6934320" y="23623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paho.org/Images/DD/PIN/whd05_photo15.jpg"/>
          <p:cNvPicPr/>
          <p:nvPr/>
        </p:nvPicPr>
        <p:blipFill>
          <a:blip r:embed="rId3"/>
          <a:srcRect l="11694" t="6134" r="34325" b="19"/>
          <a:stretch/>
        </p:blipFill>
        <p:spPr>
          <a:xfrm>
            <a:off x="4648320" y="23623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hoto_2825_025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0" y="23623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17524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arly Social-Emotional and Cognitive Basis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r Human Development Potential, 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d Improved Qualit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ful Emotional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ositive back and forth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Problem 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Negative interaction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al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sitive stage 5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SEGC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295280" y="228600"/>
            <a:ext cx="7696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 Social-Emotional Growth Char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sychCo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6"/>
          <p:cNvSpPr/>
          <p:nvPr/>
        </p:nvSpPr>
        <p:spPr>
          <a:xfrm flipV="1">
            <a:off x="3200400" y="2437920"/>
            <a:ext cx="4876920" cy="35816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8"/>
          <p:cNvSpPr/>
          <p:nvPr/>
        </p:nvSpPr>
        <p:spPr>
          <a:xfrm flipV="1">
            <a:off x="3124080" y="1295280"/>
            <a:ext cx="4648320" cy="4648320"/>
          </a:xfrm>
          <a:prstGeom prst="line">
            <a:avLst/>
          </a:prstGeom>
          <a:ln w="19080">
            <a:solidFill>
              <a:srgbClr val="00cc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0"/>
          <p:cNvSpPr/>
          <p:nvPr/>
        </p:nvSpPr>
        <p:spPr>
          <a:xfrm flipV="1">
            <a:off x="3276720" y="3352320"/>
            <a:ext cx="4800600" cy="2667240"/>
          </a:xfrm>
          <a:prstGeom prst="line">
            <a:avLst/>
          </a:prstGeom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6107400" y="4800600"/>
            <a:ext cx="21726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e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3820680" y="2209680"/>
            <a:ext cx="2291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e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Social-Emotional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4-1995 National Health Interview Survey on Disability (NHIS-D), N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son, Colpe &amp; Greenspan (2003). Measuring functional developmental delay in infants and young children: prevalence rates from the NHIS-D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ediatric and Perinatal Epidemiology, 17, 68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cial-Emotional Sca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Bayley Scales of Infant and Toddler Development, thir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cy Bayley (2006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sychCo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easuring Child Development Outcome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through Household Surveys</a:t>
            </a:r>
            <a:br>
              <a:rPr sz="28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pilot effort to explore feasibility and methodological challenges</a:t>
            </a:r>
            <a:br>
              <a:rPr sz="28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er-American Development Bank, 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2133720"/>
          <a:ext cx="8382240" cy="4443120"/>
        </p:xfrm>
        <a:graphic>
          <a:graphicData uri="http://schemas.openxmlformats.org/drawingml/2006/table">
            <a:tbl>
              <a:tblPr/>
              <a:tblGrid>
                <a:gridCol w="1447920"/>
                <a:gridCol w="2362320"/>
                <a:gridCol w="2286000"/>
                <a:gridCol w="22860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urv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y of Life and Health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Health Survey (D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Health Survey (D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-April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ust 2006 -June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 2005-April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ing Child Development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% of children not developing to their fulles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p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ther evidence to inform policy makers of the need for specific country ECD policies &amp; programs, “Evidence for A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 ECD data to infant mortality and nutr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 data, no problem, no act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 (A. Solari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arable Domains &amp; Survey Item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ge Band: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36-4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752480"/>
          <a:ext cx="9144000" cy="4876920"/>
        </p:xfrm>
        <a:graphic>
          <a:graphicData uri="http://schemas.openxmlformats.org/drawingml/2006/table">
            <a:tbl>
              <a:tblPr/>
              <a:tblGrid>
                <a:gridCol w="1981080"/>
                <a:gridCol w="3548160"/>
                <a:gridCol w="361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36-4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. Languag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urpo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s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tenc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or more word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request someth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/she wants to 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E.g.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an we go to the swing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efly describ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 event 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t mo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E.g. 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I went to the park with my mom and played with the b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”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Recep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anguag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roblem solving (pla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y instructions that involve </a:t>
                      </a:r>
                      <a:r>
                        <a:rPr b="1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ea typeface="Arial"/>
                        </a:rPr>
                        <a:t>2 or more ac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(For example, if you ask him/her to take the milk out of the shelf and place it on the table, does he /she do it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s instructions that contain </a:t>
                      </a:r>
                      <a:r>
                        <a:rPr b="1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ea typeface="Arial"/>
                        </a:rPr>
                        <a:t>two or more ac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E.g.: “Take the plate and the cup to the table and bring me the spoon”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ognitive De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Symb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lay "make believe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t home, taking on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ifferent ro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like pretending to be a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ther, fath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brother, uncle, grandmother, etc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lay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ith others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presentin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ifferent charac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ther, fath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doctor, driver, teacher,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Results from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of children under 5 years with emerging delays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9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of children under 6 years with moderate delays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s increase with age, and are more prevalent among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5.5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boys between 4-5 years old have emerging delays (21.3% of girls between 4-5 years old have emerging del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stic Regression Analy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rty and Children with Emerging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493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Level (“Quintile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(lowest inc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1 – 0,7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2 – 0,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7 – 0,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highest inc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8 – 0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1139760" y="5486400"/>
            <a:ext cx="72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emerging delays increases in children liv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eholds with lower incomes, 53% differe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st  (V) and lowest (I) quint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iped Right Arrow 6"/>
          <p:cNvSpPr/>
          <p:nvPr/>
        </p:nvSpPr>
        <p:spPr>
          <a:xfrm>
            <a:off x="380880" y="5562720"/>
            <a:ext cx="533520" cy="685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 Development Index?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Social-Emotional &amp; Cognitive Develop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810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idence is clear: good nutrition and social, emotional, language and cognitive development are critical for human development and quality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know how to measure early childhood stun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xt challenge is to develop “internation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arable and feasible measur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hild development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rantham-McGreggor et al., 200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nutrition and social-emotional development are the basic building blocks for higher level thinking abilities, human development and qualit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feasible to measu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ar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ild development outcomes through household surveys by interviewing their main caretaker, usually the m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ork is needed to develop feasible valid, reliable, and internationally comparable measures of early child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efining each child’s potentia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no86"/>
          <p:cNvPicPr/>
          <p:nvPr/>
        </p:nvPicPr>
        <p:blipFill>
          <a:blip r:embed="rId1">
            <a:lum bright="12000"/>
          </a:blip>
          <a:srcRect l="14439" t="11752" r="7123" b="44877"/>
          <a:stretch/>
        </p:blipFill>
        <p:spPr>
          <a:xfrm>
            <a:off x="609480" y="2666880"/>
            <a:ext cx="2438640" cy="221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http://www.paho.org/Images/DD/PIN/whd05_photo16.jpg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04920" y="6019920"/>
            <a:ext cx="8610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. Greenspan, M.D. &amp; C. Breinbauer, M.D., M.P.H, Infant Mental Health Init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nterdisciplinary Council on Developmental and Learning Disorders, IC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http://www.paho.org/Images/DD/PIN/whd05_photo06.jpg"/>
          <p:cNvPicPr/>
          <p:nvPr/>
        </p:nvPicPr>
        <p:blipFill>
          <a:blip r:embed="rId3"/>
          <a:stretch/>
        </p:blipFill>
        <p:spPr>
          <a:xfrm>
            <a:off x="6095880" y="27432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Domai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gnitive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-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e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04920" y="4952880"/>
            <a:ext cx="86104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ations for internationally comparable &amp; feasible meas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and/or long instruments for each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application,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in Develop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-Emotional Domain starts 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borns show visual preference for faces and rapid fac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Brain_exterior_interior02"/>
          <p:cNvPicPr/>
          <p:nvPr/>
        </p:nvPicPr>
        <p:blipFill>
          <a:blip r:embed="rId1"/>
          <a:stretch/>
        </p:blipFill>
        <p:spPr>
          <a:xfrm>
            <a:off x="1447920" y="3276720"/>
            <a:ext cx="6124320" cy="2962080"/>
          </a:xfrm>
          <a:prstGeom prst="rect">
            <a:avLst/>
          </a:prstGeom>
          <a:ln w="0">
            <a:noFill/>
          </a:ln>
        </p:spPr>
      </p:pic>
      <p:sp>
        <p:nvSpPr>
          <p:cNvPr id="66" name="Right Arrow Callout 4"/>
          <p:cNvSpPr/>
          <p:nvPr/>
        </p:nvSpPr>
        <p:spPr>
          <a:xfrm>
            <a:off x="152280" y="4038480"/>
            <a:ext cx="1752840" cy="106704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ight Arrow Callout 5"/>
          <p:cNvSpPr/>
          <p:nvPr/>
        </p:nvSpPr>
        <p:spPr>
          <a:xfrm rot="18647400">
            <a:off x="1166760" y="5049720"/>
            <a:ext cx="1752480" cy="106668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ight Arrow Callout 6"/>
          <p:cNvSpPr/>
          <p:nvPr/>
        </p:nvSpPr>
        <p:spPr>
          <a:xfrm rot="18647400">
            <a:off x="4016160" y="4997160"/>
            <a:ext cx="2016360" cy="106668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eft Arrow Callout 8"/>
          <p:cNvSpPr/>
          <p:nvPr/>
        </p:nvSpPr>
        <p:spPr>
          <a:xfrm rot="2148000">
            <a:off x="6441840" y="5013000"/>
            <a:ext cx="1828800" cy="990720"/>
          </a:xfrm>
          <a:prstGeom prst="leftArrowCallout">
            <a:avLst>
              <a:gd name="adj1" fmla="val 25002"/>
              <a:gd name="adj2" fmla="val 25000"/>
              <a:gd name="adj3" fmla="val 24997"/>
              <a:gd name="adj4" fmla="val 64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5877360" y="63244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apted from G. Dawson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of Social Motiv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Bra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057400"/>
            <a:ext cx="662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85800" y="2057400"/>
            <a:ext cx="8001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167520" y="1828800"/>
            <a:ext cx="2671560" cy="441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ra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914400" y="1981080"/>
            <a:ext cx="1981080" cy="914400"/>
          </a:xfrm>
          <a:prstGeom prst="rect">
            <a:avLst/>
          </a:prstGeom>
          <a:solidFill>
            <a:srgbClr val="aae2ca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914400" y="3733920"/>
            <a:ext cx="201312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to Soci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352680" y="3733920"/>
            <a:ext cx="222264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316560" y="4572000"/>
            <a:ext cx="2293920" cy="1066680"/>
          </a:xfrm>
          <a:prstGeom prst="rect">
            <a:avLst/>
          </a:prstGeom>
          <a:solidFill>
            <a:srgbClr val="ff99ff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cy (neural sp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316560" y="2971800"/>
            <a:ext cx="2293920" cy="990720"/>
          </a:xfrm>
          <a:prstGeom prst="rect">
            <a:avLst/>
          </a:prstGeom>
          <a:solidFill>
            <a:srgbClr val="ff99ff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ation and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12"/>
          <p:cNvCxnSpPr/>
          <p:nvPr/>
        </p:nvCxnSpPr>
        <p:spPr>
          <a:xfrm>
            <a:off x="5574960" y="4397400"/>
            <a:ext cx="741960" cy="784800"/>
          </a:xfrm>
          <a:prstGeom prst="straightConnector1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82" name="AutoShape 13"/>
          <p:cNvCxnSpPr/>
          <p:nvPr/>
        </p:nvCxnSpPr>
        <p:spPr>
          <a:xfrm flipV="1">
            <a:off x="5574960" y="3477960"/>
            <a:ext cx="741960" cy="713520"/>
          </a:xfrm>
          <a:prstGeom prst="straightConnector1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83" name="AutoShape 14"/>
          <p:cNvCxnSpPr/>
          <p:nvPr/>
        </p:nvCxnSpPr>
        <p:spPr>
          <a:xfrm>
            <a:off x="2895120" y="4266720"/>
            <a:ext cx="443880" cy="10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84" name="Line 15"/>
          <p:cNvSpPr/>
          <p:nvPr/>
        </p:nvSpPr>
        <p:spPr>
          <a:xfrm>
            <a:off x="1905120" y="2895480"/>
            <a:ext cx="0" cy="83844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6"/>
          <p:cNvSpPr/>
          <p:nvPr/>
        </p:nvSpPr>
        <p:spPr>
          <a:xfrm>
            <a:off x="216000" y="2362320"/>
            <a:ext cx="622080" cy="1981080"/>
          </a:xfrm>
          <a:prstGeom prst="pie">
            <a:avLst/>
          </a:prstGeom>
          <a:noFill/>
          <a:ln cap="rnd" w="57240">
            <a:solidFill>
              <a:srgbClr val="92d05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7467480" y="3962520"/>
            <a:ext cx="0" cy="6094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149560" y="6296040"/>
            <a:ext cx="63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wson et al., 2005, Developmental Neuropsyc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Emotions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language and cognition were thought to be autonomous faculties that develop independent of e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span &amp; Shanker have demonstrated that language and cognition emerge from, and are inextricably tied to, increasing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lex affect gesturing between a child and his or her careg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nker &amp; Greenspan (2007). The Developmental Pathways to pattern Recognition, Joint Attention, Language and Cognition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New Ideas in Psychology, 25: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3353040" cy="32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o-emo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876920" cy="502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tion &amp;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posefu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ic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cal, Critical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Causal, Comparative, and Triangular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y-Area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ve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152280" y="1066680"/>
            <a:ext cx="335304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c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0"/>
          <p:cNvSpPr/>
          <p:nvPr/>
        </p:nvSpPr>
        <p:spPr>
          <a:xfrm>
            <a:off x="4114800" y="152280"/>
            <a:ext cx="4876920" cy="137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al ,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-Emotional , Language &amp; Cognitive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033"/>
          <p:cNvSpPr/>
          <p:nvPr/>
        </p:nvSpPr>
        <p:spPr>
          <a:xfrm>
            <a:off x="3124080" y="1905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34"/>
          <p:cNvSpPr/>
          <p:nvPr/>
        </p:nvSpPr>
        <p:spPr>
          <a:xfrm>
            <a:off x="3581280" y="2362320"/>
            <a:ext cx="381240" cy="5331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Attention and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ositive regulation.wmv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786240" y="609588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ical link between nutrition and social-emot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iped Right Arrow 6"/>
          <p:cNvSpPr/>
          <p:nvPr/>
        </p:nvSpPr>
        <p:spPr>
          <a:xfrm>
            <a:off x="152280" y="6019920"/>
            <a:ext cx="533520" cy="6094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ifficult_regulation.wmv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agement and Rel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sitive engagement.wmv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No engagement.wmv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9:42:14Z</dcterms:created>
  <dc:creator> </dc:creator>
  <dc:description/>
  <dc:language>en-US</dc:language>
  <cp:lastModifiedBy>Cecilia Breinbauer</cp:lastModifiedBy>
  <dcterms:modified xsi:type="dcterms:W3CDTF">2007-05-25T04:14:10Z</dcterms:modified>
  <cp:revision>122</cp:revision>
  <dc:subject/>
  <dc:title>PowerPoint Presentation</dc:title>
</cp:coreProperties>
</file>