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09D8-F8B2-4EF7-A80C-060A20BCA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41CB-55E8-4BE2-B8BC-0C1F5095F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3BB-250D-43F4-9118-437E01577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E17C-7429-45BA-8B2E-DB664D80A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884-04C8-4258-A464-BAD4A7E8A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4D76-07D7-4C45-9EF9-6F8636A3A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AFB0-CA9C-476A-8014-5CB74257D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294-CD41-4368-B9A8-7564DEABB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3F7D-49F0-4FA9-ACBA-7C571FA7E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D28E-B141-4F09-8853-CC3C00DF4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C7FD-AD41-4503-A504-6E9BFE234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19C8-4A69-4243-BABE-E3497911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2B20-A13B-49B8-97A6-11B34AFF3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4090-62CF-47AC-B4D0-2457EEE79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942-37FF-4B50-94AD-852AC98B3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320B-E0FE-4031-AF77-5EB0A1F91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CCA1-644E-41BD-98A3-57356FC85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AC3F-72EC-4095-A7EA-9318B09E0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905120" y="304920"/>
            <a:ext cx="2844720" cy="2133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0" y="2666520"/>
            <a:ext cx="6858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model that you will see on the screen applies to normative development but also can be expanded to account for face processing deficits in autism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cial Motiv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face provides a range of nonverbal information important for communication and survival (Darwin) and a visual preference for faces is seen even in newborn infant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veral researchers have proposed (Klin, Dawson, Grelotti &amp; Others) that young children with autism display an early deficit in social motivatio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ttention to fa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s is evident in failure to attend to other peoples fac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velopment of Experti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s faulty motivational mechanism leads to a lack of attention to faces and may result in a failure to develop perceptual expertise for fac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ain Develop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lack of an “experience expectant” face environment results in a failure to development the brain systems to process faces in a typical patter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 FURTHER PROPOSE THAT this results in a specific failure of normal cortical specializatio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s results in a failure of hemispheric specializatio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act neural speed, resulting in decreased cortical efficienc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ich has further downstream consequences for integration of the face with other modalities and syste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 will demonstrate both of these deficits in brain development in our ERP dat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ne way of addressing brain development is to look at ERP and EEG recordings of brain activity to particular types of stimu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. The ERP and EEG activity result from the synchronous firing of neurons in the brain. This activity propagates to the scalp and can then be record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5953-AFB1-4167-A267-1D446B576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45A1-3784-4D99-BF34-839BE79CB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7A4F-BE2E-4D8C-8F96-F0F207897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E0DD-4CA5-4C99-A808-DAE4773F1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FFE-6DAE-417F-8F68-3741D768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359-55E5-4662-8930-6508709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F6F-A8ED-4ADA-B8BF-7A4ECBFB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977-2CCE-4391-97BC-FFE677EC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3AF-A294-4A4F-93CD-EBE7FF45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9DE-637F-4EAC-83BC-0E796A2A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4FF-F5DC-468C-89C2-94CAC5A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F38-B74D-4C14-BEA0-0097FC75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8FD-79F2-4936-BD46-F696221C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250-CFAC-466F-AB53-B49CE08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97F-3EFA-4D7C-8E24-3174AA8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F8B-FD4E-47AA-A842-31307A5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2BDE-ABE6-4623-8BF6-99631622A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Documents and Settings\Cecilia\My Documents\My Pictures\ICDL\ICDL_process.jpg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9"/>
          <p:cNvSpPr/>
          <p:nvPr/>
        </p:nvSpPr>
        <p:spPr>
          <a:xfrm>
            <a:off x="0" y="228600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On Health, Human Development Potential and the Quality of Lif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Towards Biological-based Indexes of Human Development Potential for Assessing the Quality of Life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c66"/>
                </a:solidFill>
                <a:latin typeface="Times New Roman"/>
              </a:rPr>
              <a:t>IDB-PAHO, May 25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S. Greenspan, M.D. &amp; C. Breinbauer, M.D., M.P.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Interdisciplinary Council on Developmental and Learning Disorders (ICD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http://www.paho.org/Images/DD/PIN/whd05_photo01.jpg"/>
          <p:cNvPicPr/>
          <p:nvPr/>
        </p:nvPicPr>
        <p:blipFill>
          <a:blip r:embed="rId1"/>
          <a:stretch/>
        </p:blipFill>
        <p:spPr>
          <a:xfrm>
            <a:off x="2362320" y="2362320"/>
            <a:ext cx="213336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paho.org/Images/DD/PIN/whd05_photo08.jpg"/>
          <p:cNvPicPr/>
          <p:nvPr/>
        </p:nvPicPr>
        <p:blipFill>
          <a:blip r:embed="rId2"/>
          <a:stretch/>
        </p:blipFill>
        <p:spPr>
          <a:xfrm>
            <a:off x="6934320" y="236232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www.paho.org/Images/DD/PIN/whd05_photo15.jpg"/>
          <p:cNvPicPr/>
          <p:nvPr/>
        </p:nvPicPr>
        <p:blipFill>
          <a:blip r:embed="rId3"/>
          <a:srcRect l="11694" t="6134" r="34325" b="19"/>
          <a:stretch/>
        </p:blipFill>
        <p:spPr>
          <a:xfrm>
            <a:off x="4648320" y="23623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hoto_2825_025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0" y="236232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175248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arly Social-Emotional and Cognitive Basis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or Human Development Potential, 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nd Improved Qualit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ful Emotional Inte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ositive back and forth.wmv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ed Problem Sol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Negative interaction.wmv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otional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ositive stage 5.wmv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3" descr="SEGC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295280" y="228600"/>
            <a:ext cx="7696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span Social-Emotional Growth Char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sychCo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traight Connector 6"/>
          <p:cNvSpPr/>
          <p:nvPr/>
        </p:nvSpPr>
        <p:spPr>
          <a:xfrm flipV="1">
            <a:off x="3200400" y="2437920"/>
            <a:ext cx="4876920" cy="358164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8"/>
          <p:cNvSpPr/>
          <p:nvPr/>
        </p:nvSpPr>
        <p:spPr>
          <a:xfrm flipV="1">
            <a:off x="3124080" y="1295280"/>
            <a:ext cx="4648320" cy="4648320"/>
          </a:xfrm>
          <a:prstGeom prst="line">
            <a:avLst/>
          </a:prstGeom>
          <a:ln w="19080">
            <a:solidFill>
              <a:srgbClr val="00cc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0"/>
          <p:cNvSpPr/>
          <p:nvPr/>
        </p:nvSpPr>
        <p:spPr>
          <a:xfrm flipV="1">
            <a:off x="3276720" y="3352320"/>
            <a:ext cx="4800600" cy="2667240"/>
          </a:xfrm>
          <a:prstGeom prst="line">
            <a:avLst/>
          </a:prstGeom>
          <a:ln w="1908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6107400" y="4800600"/>
            <a:ext cx="217260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er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3820680" y="2209680"/>
            <a:ext cx="22914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cker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Social-Emotional Dom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4-1995 National Health Interview Survey on Disability (NHIS-D), N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son, Colpe &amp; Greenspan (2003). Measuring functional developmental delay in infants and young children: prevalence rates from the NHIS-D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aediatric and Perinatal Epidemiology, 17, 68-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cial-Emotional Sca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Bayley Scales of Infant and Toddler Development, third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cy Bayley (2006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sychCo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easuring Child Development Outcome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through Household Surveys</a:t>
            </a:r>
            <a:br>
              <a:rPr sz="28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 pilot effort to explore feasibility and methodological challenges</a:t>
            </a:r>
            <a:br>
              <a:rPr sz="28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er-American Development Bank, 2005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2133720"/>
          <a:ext cx="8382240" cy="4443120"/>
        </p:xfrm>
        <a:graphic>
          <a:graphicData uri="http://schemas.openxmlformats.org/drawingml/2006/table">
            <a:tbl>
              <a:tblPr/>
              <a:tblGrid>
                <a:gridCol w="1447920"/>
                <a:gridCol w="2362320"/>
                <a:gridCol w="2286000"/>
                <a:gridCol w="22860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carag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d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Surv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ty of Life and Health Surv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 Health Survey (DH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 Health Survey (DH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00 househol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00 househol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00 househol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-April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gust 2006 -June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 2005-April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ing Child Development Outc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% of children not developing to their fulles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rp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ther evidence to inform policy makers of the need for specific country ECD policies &amp; programs, “Evidence for Ac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 ECD data to infant mortality and nutri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o data, no problem, no actio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” (A. Solari,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arable Domains &amp; Survey Item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ge Band: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36-47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752480"/>
          <a:ext cx="9144000" cy="4876920"/>
        </p:xfrm>
        <a:graphic>
          <a:graphicData uri="http://schemas.openxmlformats.org/drawingml/2006/table">
            <a:tbl>
              <a:tblPr/>
              <a:tblGrid>
                <a:gridCol w="1981080"/>
                <a:gridCol w="3548160"/>
                <a:gridCol w="3614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36-4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icarag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E. Language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urpose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es (NAME) s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tence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or more word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 request someth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/she wants to 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E.g.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an we go to the swing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AME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efly describ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n event 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t mo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 E.g. “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I went to the park with my mom and played with the ba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”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Recep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anguage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roblem solving (pla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es (NAME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ey instructions that involve </a:t>
                      </a:r>
                      <a:r>
                        <a:rPr b="1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ea typeface="Arial"/>
                        </a:rPr>
                        <a:t>2 or more ac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 (For example, if you ask him/her to take the milk out of the shelf and place it on the table, does he /she do it)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AME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s instructions that contain </a:t>
                      </a:r>
                      <a:r>
                        <a:rPr b="1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ea typeface="Arial"/>
                        </a:rPr>
                        <a:t>two or more ac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 E.g.: “Take the plate and the cup to the table and bring me the spoon”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ognitive De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Symbo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es (NAME) 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lay "make believe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t home, taking on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ifferent ro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like pretending to be a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other, fath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brother, uncle, grandmother, etc.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AME) 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lay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with others 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presentin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ifferent charact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other, fath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doctor, driver, teacher,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Results from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of children under 5 years with emerging delays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9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of children under 6 years with moderate delays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.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ays increase with age, and are more prevalent among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5.5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boys between 4-5 years old have emerging delays (21.3% of girls between 4-5 years old have emerging del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stic Regression Analysi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rty and Children with Emerging D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2590920"/>
          <a:ext cx="7772400" cy="24937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Level (“Quintile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(lowest inco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1 – 0,77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22 – 0,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97 – 0,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highest inco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8 – 0,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5"/>
          <p:cNvSpPr/>
          <p:nvPr/>
        </p:nvSpPr>
        <p:spPr>
          <a:xfrm>
            <a:off x="1139760" y="5486400"/>
            <a:ext cx="72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k of emerging delays increases in children livin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seholds with lower incomes, 53% differe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est  (V) and lowest (I) quint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iped Right Arrow 6"/>
          <p:cNvSpPr/>
          <p:nvPr/>
        </p:nvSpPr>
        <p:spPr>
          <a:xfrm>
            <a:off x="380880" y="5562720"/>
            <a:ext cx="533520" cy="6858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in Development Index??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Social-Emotional &amp; Cognitive Developm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9810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vidence is clear: good nutrition and social, emotional, language and cognitive development are critical for human development and quality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know how to measure early childhood stun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ext challenge is to develop “international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arable and feasible measur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child development”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rantham-McGreggor et al., 200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 nutrition and social-emotional development are the basic building blocks for higher level thinking abilities, human development and quality of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feasible to measu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ar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ild development outcomes through household surveys by interviewing their main caretaker, usually the m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ork is needed to develop feasible valid, reliable, and internationally comparable measures of early child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defining each child’s potential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no86"/>
          <p:cNvPicPr/>
          <p:nvPr/>
        </p:nvPicPr>
        <p:blipFill>
          <a:blip r:embed="rId1">
            <a:lum bright="12000"/>
          </a:blip>
          <a:srcRect l="14439" t="11752" r="7123" b="44877"/>
          <a:stretch/>
        </p:blipFill>
        <p:spPr>
          <a:xfrm>
            <a:off x="609480" y="2666880"/>
            <a:ext cx="2438640" cy="2210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http://www.paho.org/Images/DD/PIN/whd05_photo16.jpg"/>
          <p:cNvPicPr/>
          <p:nvPr/>
        </p:nvPicPr>
        <p:blipFill>
          <a:blip r:embed="rId2"/>
          <a:stretch/>
        </p:blipFill>
        <p:spPr>
          <a:xfrm>
            <a:off x="3352680" y="2743200"/>
            <a:ext cx="2438640" cy="2209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304920" y="6019920"/>
            <a:ext cx="8610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S. Greenspan, M.D. &amp; C. Breinbauer, M.D., M.P.H, Infant Mental Health Initi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Interdisciplinary Council on Developmental and Learning Disorders, IC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9" descr="http://www.paho.org/Images/DD/PIN/whd05_photo06.jpg"/>
          <p:cNvPicPr/>
          <p:nvPr/>
        </p:nvPicPr>
        <p:blipFill>
          <a:blip r:embed="rId3"/>
          <a:stretch/>
        </p:blipFill>
        <p:spPr>
          <a:xfrm>
            <a:off x="6095880" y="274320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Domain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gnitive (I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cial-Emo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e 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ss 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04920" y="4952880"/>
            <a:ext cx="86104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ations for internationally comparable &amp; feasible meas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and/or long instruments for each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application,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ain Develop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al-Emotional Domain starts ea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borns show visual preference for faces and rapid fac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Brain_exterior_interior02"/>
          <p:cNvPicPr/>
          <p:nvPr/>
        </p:nvPicPr>
        <p:blipFill>
          <a:blip r:embed="rId1"/>
          <a:stretch/>
        </p:blipFill>
        <p:spPr>
          <a:xfrm>
            <a:off x="1447920" y="3276720"/>
            <a:ext cx="6124320" cy="2962080"/>
          </a:xfrm>
          <a:prstGeom prst="rect">
            <a:avLst/>
          </a:prstGeom>
          <a:ln w="0">
            <a:noFill/>
          </a:ln>
        </p:spPr>
      </p:pic>
      <p:sp>
        <p:nvSpPr>
          <p:cNvPr id="66" name="Right Arrow Callout 4"/>
          <p:cNvSpPr/>
          <p:nvPr/>
        </p:nvSpPr>
        <p:spPr>
          <a:xfrm>
            <a:off x="152280" y="4038480"/>
            <a:ext cx="1752840" cy="106704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ight Arrow Callout 5"/>
          <p:cNvSpPr/>
          <p:nvPr/>
        </p:nvSpPr>
        <p:spPr>
          <a:xfrm rot="18647400">
            <a:off x="1166760" y="5049720"/>
            <a:ext cx="1752480" cy="1066680"/>
          </a:xfrm>
          <a:prstGeom prst="right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ight Arrow Callout 6"/>
          <p:cNvSpPr/>
          <p:nvPr/>
        </p:nvSpPr>
        <p:spPr>
          <a:xfrm rot="18647400">
            <a:off x="4016160" y="4997160"/>
            <a:ext cx="2016360" cy="1066680"/>
          </a:xfrm>
          <a:prstGeom prst="right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eft Arrow Callout 8"/>
          <p:cNvSpPr/>
          <p:nvPr/>
        </p:nvSpPr>
        <p:spPr>
          <a:xfrm rot="2148000">
            <a:off x="6441840" y="5013000"/>
            <a:ext cx="1828800" cy="990720"/>
          </a:xfrm>
          <a:prstGeom prst="leftArrowCallout">
            <a:avLst>
              <a:gd name="adj1" fmla="val 25002"/>
              <a:gd name="adj2" fmla="val 25000"/>
              <a:gd name="adj3" fmla="val 24997"/>
              <a:gd name="adj4" fmla="val 6498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5877360" y="63244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dapted from G. Dawson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of Social Motiv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 Brain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2057400"/>
            <a:ext cx="662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685800" y="2057400"/>
            <a:ext cx="8001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167520" y="1828800"/>
            <a:ext cx="2671560" cy="441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ra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914400" y="1981080"/>
            <a:ext cx="1981080" cy="914400"/>
          </a:xfrm>
          <a:prstGeom prst="rect">
            <a:avLst/>
          </a:prstGeom>
          <a:solidFill>
            <a:srgbClr val="aae2ca"/>
          </a:solidFill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914400" y="3733920"/>
            <a:ext cx="201312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tention to Social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3352680" y="3733920"/>
            <a:ext cx="222264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316560" y="4572000"/>
            <a:ext cx="2293920" cy="1066680"/>
          </a:xfrm>
          <a:prstGeom prst="rect">
            <a:avLst/>
          </a:prstGeom>
          <a:solidFill>
            <a:srgbClr val="ff99ff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cy (neural sp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316560" y="2971800"/>
            <a:ext cx="2293920" cy="990720"/>
          </a:xfrm>
          <a:prstGeom prst="rect">
            <a:avLst/>
          </a:prstGeom>
          <a:solidFill>
            <a:srgbClr val="ff99ff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zation and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AutoShape 12"/>
          <p:cNvCxnSpPr/>
          <p:nvPr/>
        </p:nvCxnSpPr>
        <p:spPr>
          <a:xfrm>
            <a:off x="5574960" y="4397400"/>
            <a:ext cx="741960" cy="784800"/>
          </a:xfrm>
          <a:prstGeom prst="straightConnector1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</p:cxnSp>
      <p:cxnSp>
        <p:nvCxnSpPr>
          <p:cNvPr id="82" name="AutoShape 13"/>
          <p:cNvCxnSpPr/>
          <p:nvPr/>
        </p:nvCxnSpPr>
        <p:spPr>
          <a:xfrm flipV="1">
            <a:off x="5574960" y="3477960"/>
            <a:ext cx="741960" cy="713520"/>
          </a:xfrm>
          <a:prstGeom prst="straightConnector1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</p:cxnSp>
      <p:cxnSp>
        <p:nvCxnSpPr>
          <p:cNvPr id="83" name="AutoShape 14"/>
          <p:cNvCxnSpPr/>
          <p:nvPr/>
        </p:nvCxnSpPr>
        <p:spPr>
          <a:xfrm>
            <a:off x="2895120" y="4266720"/>
            <a:ext cx="443880" cy="10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84" name="Line 15"/>
          <p:cNvSpPr/>
          <p:nvPr/>
        </p:nvSpPr>
        <p:spPr>
          <a:xfrm>
            <a:off x="1905120" y="2895480"/>
            <a:ext cx="0" cy="838440"/>
          </a:xfrm>
          <a:prstGeom prst="line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16"/>
          <p:cNvSpPr/>
          <p:nvPr/>
        </p:nvSpPr>
        <p:spPr>
          <a:xfrm>
            <a:off x="216000" y="2362320"/>
            <a:ext cx="622080" cy="1981080"/>
          </a:xfrm>
          <a:prstGeom prst="pie">
            <a:avLst/>
          </a:prstGeom>
          <a:noFill/>
          <a:ln cap="rnd" w="57240">
            <a:solidFill>
              <a:srgbClr val="92d05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7467480" y="3962520"/>
            <a:ext cx="0" cy="60948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149560" y="6296040"/>
            <a:ext cx="63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wson et al., 2005, Developmental Neuropsych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Emotions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hild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ly, language and cognition were thought to be autonomous faculties that develop independent of emo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span &amp; Shanker have demonstrated that language and cognition emerge from, and are inextricably tied to, increasingl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lex affect gesturing between a child and his or her careg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anker &amp; Greenspan (2007). The Developmental Pathways to pattern Recognition, Joint Attention, Language and Cognition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New Ideas in Psychology, 25: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280" y="1676160"/>
            <a:ext cx="3353040" cy="32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o-emo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mo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 mo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876920" cy="502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ention &amp;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posefu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ic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cal, Critical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Causal, Comparative, and Triangular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y-Area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ve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152280" y="1066680"/>
            <a:ext cx="335304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ical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0"/>
          <p:cNvSpPr/>
          <p:nvPr/>
        </p:nvSpPr>
        <p:spPr>
          <a:xfrm>
            <a:off x="4114800" y="152280"/>
            <a:ext cx="4876920" cy="1373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al , Integ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-Emotional , Language &amp; Cognitive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033"/>
          <p:cNvSpPr/>
          <p:nvPr/>
        </p:nvSpPr>
        <p:spPr>
          <a:xfrm>
            <a:off x="3124080" y="1905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34"/>
          <p:cNvSpPr/>
          <p:nvPr/>
        </p:nvSpPr>
        <p:spPr>
          <a:xfrm>
            <a:off x="3581280" y="2362320"/>
            <a:ext cx="381240" cy="5331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ed Attention and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ositive regulation.wmv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786240" y="6095880"/>
            <a:ext cx="81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tical link between nutrition and social-emoti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iped Right Arrow 6"/>
          <p:cNvSpPr/>
          <p:nvPr/>
        </p:nvSpPr>
        <p:spPr>
          <a:xfrm>
            <a:off x="152280" y="6019920"/>
            <a:ext cx="533520" cy="6094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Difficult_regulation.wmv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agement and Rel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ositive engagement.wmv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No engagement.wmv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9:42:14Z</dcterms:created>
  <dc:creator> </dc:creator>
  <dc:description/>
  <dc:language>en-US</dc:language>
  <cp:lastModifiedBy>Cecilia Breinbauer</cp:lastModifiedBy>
  <dcterms:modified xsi:type="dcterms:W3CDTF">2007-05-25T04:14:10Z</dcterms:modified>
  <cp:revision>122</cp:revision>
  <dc:subject/>
  <dc:title>PowerPoint Presentation</dc:title>
</cp:coreProperties>
</file>