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1B5-3E89-4578-BE1D-BD1E10EE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87EC-5FE6-41E7-B6DA-60BC35A6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5648-78A2-4098-BA4B-8AFEAC49F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al for Accra Agenda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68B-6E92-4D7B-95B9-C0EB3EB6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F3A6-963D-43D8-A919-B905732F7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32A-C22B-4964-875C-9E3533525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al for Accra Agenda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8353-4400-4B7E-9935-CAA05A47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4F1-26E5-42E7-85FD-329C7C09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200" y="3684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E53-6C8B-4B82-826B-6502699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20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824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EF8-669F-47FE-BB94-0B62C60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23640" y="1320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6080" y="1320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200" y="3684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23640" y="3684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6080" y="3684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3DA-6558-4C42-8F20-5AF53717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223-FDCF-4BFC-9063-19458BA7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47B-34AD-4B9B-AF95-D221B14D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A35-EC08-41DC-8B72-BC8FE892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D01-8506-46C0-91AE-6042CB4D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700-C235-425C-A697-A0F3D7BD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20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2C7-9188-4BE1-941A-09C9B55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8240" y="3684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00D-B47B-4449-A2D1-7483529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20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8240" y="1320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200" y="3684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492-4E51-4396-81F2-2492957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2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825-EBD9-46E2-8FB1-1A2A9AF9E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200400" y="0"/>
            <a:ext cx="2298600" cy="152280"/>
          </a:xfrm>
          <a:prstGeom prst="rect">
            <a:avLst/>
          </a:prstGeom>
          <a:solidFill>
            <a:srgbClr val="dad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arris@worldbank.or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2600" y="0"/>
            <a:ext cx="778536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ewWBIlogo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43560" y="5975280"/>
            <a:ext cx="4379760" cy="67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797960" y="0"/>
            <a:ext cx="1346040" cy="457200"/>
          </a:xfrm>
          <a:prstGeom prst="rect">
            <a:avLst/>
          </a:prstGeom>
          <a:solidFill>
            <a:srgbClr val="dad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1873080"/>
            <a:ext cx="8928000" cy="2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ing capacities for P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ve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, Public-Private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0000" y="1552320"/>
            <a:ext cx="8334360" cy="301932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txBody>
          <a:bodyPr anchor="ctr" anchorCtr="1">
            <a:normAutofit fontScale="96000"/>
          </a:bodyPr>
          <a:p>
            <a:pPr marL="5119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World Bank Institute has PPPs as one of six focus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BI is responsible for client learning in W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going renewal process which is seeing focu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areas, one of which is P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of partner institutions, Global Distance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(GDLN) c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business lines —structured learning, knowled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change, innovation-sharing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83960" y="355320"/>
            <a:ext cx="84819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The World Bank is stepping up efforts to build capacities for PPPs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74760" y="4761000"/>
            <a:ext cx="8316720" cy="171432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World Bank Group Global Expert Team on P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WBG global knowledge &amp; experience on P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taken over 20 assignments, advising and transferring experiences, most related to dealing with impacts of cr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1273320"/>
            <a:ext cx="9144000" cy="14256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7480" y="-7920"/>
            <a:ext cx="500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A new vision for WBI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1040" y="1929960"/>
            <a:ext cx="8599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knowledge being generated in “BRICs” and knowledge hubs in developing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-South” platform and learning critical to WBI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f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ail to wholes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development and delivery of structure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hip modular courses with world class partners, customized &amp; delivered through country/regional institutions &amp; use of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exchange via peer-to-peer practitioner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-to- peer practitioner networks;  multistakeholder consensus building &amp; pe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innovation-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marketplace on frontier challenges, wholesale &amp; franchise through country institutions; Innovation zones &amp; seco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46120" y="1349280"/>
            <a:ext cx="7996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00"/>
                </a:solidFill>
                <a:latin typeface="Arial"/>
              </a:rPr>
              <a:t>WBI as connector of global knowledge net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76120" y="1857240"/>
            <a:ext cx="8678880" cy="439740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0" y="8953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j0439613"/>
          <p:cNvPicPr/>
          <p:nvPr/>
        </p:nvPicPr>
        <p:blipFill>
          <a:blip r:embed="rId1"/>
          <a:stretch/>
        </p:blipFill>
        <p:spPr>
          <a:xfrm>
            <a:off x="7731000" y="0"/>
            <a:ext cx="1324080" cy="14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840" y="-7920"/>
            <a:ext cx="74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Structured learning models and approaches from other sectors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040" y="1929960"/>
            <a:ext cx="859968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76120" y="1363680"/>
            <a:ext cx="8678880" cy="516744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8953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j0439613"/>
          <p:cNvPicPr/>
          <p:nvPr/>
        </p:nvPicPr>
        <p:blipFill>
          <a:blip r:embed="rId1"/>
          <a:stretch/>
        </p:blipFill>
        <p:spPr>
          <a:xfrm>
            <a:off x="7731000" y="0"/>
            <a:ext cx="1324080" cy="14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333360" y="1349280"/>
            <a:ext cx="850572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Flagship learning prog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ill and package international best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ules customized to different country setting, developed with NVPs, donors, worldclass partners (Harvard, MIT, Lee Kuan Yew Sch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Are then customized and wholes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s of institutions – China network of 27 healt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– 30,000 municipal officials with TEC Monterrey, Brazil LED 18,000 with mass-media &amp;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tification – India Urban Management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Developing capacity-building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on broad review of capacity building architecture for urban sector in India as part of major government invest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South-South learning platform and trust f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s and platform to provide peer-to-peer contacts and knowledge exchange for specific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74400" y="1278000"/>
            <a:ext cx="8334360" cy="330840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txBody>
          <a:bodyPr anchor="ctr" anchorCtr="1">
            <a:normAutofit fontScale="94000"/>
          </a:bodyPr>
          <a:p>
            <a:pPr marL="501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Practition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PPI Days is center piece: the only global meeting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sector PPP practitioners: March 22-23, focusing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of PPPs following financial crisis, and “growt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ctors such as urb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DLN/VC events used for specific knowledge requ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regional activiti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ibbean PPP Forum/Trai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 2009, Anglophone and Francophone Africa PPP Fo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83960" y="225360"/>
            <a:ext cx="84819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WBI is developing a broad program of capacity building for PPPs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74760" y="4645080"/>
            <a:ext cx="8316720" cy="183024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Structur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re course on PPP fundamentals, to be developed with set of partner universities who will be “wholesale” hub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96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rban PPP training as part of broader India urban capacity building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10699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7840" y="-7920"/>
            <a:ext cx="74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d4d4d"/>
                </a:solidFill>
                <a:latin typeface="Arial"/>
              </a:rPr>
              <a:t>Partnerships are crucial to effective capacity building</a:t>
            </a:r>
            <a:endParaRPr b="1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1040" y="1929960"/>
            <a:ext cx="859968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76120" y="1363680"/>
            <a:ext cx="8678880" cy="5167440"/>
          </a:xfrm>
          <a:prstGeom prst="rect">
            <a:avLst/>
          </a:prstGeom>
          <a:noFill/>
          <a:ln cap="rnd" w="38160">
            <a:solidFill>
              <a:srgbClr val="00458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895320"/>
            <a:ext cx="9144000" cy="14292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j0439613"/>
          <p:cNvPicPr/>
          <p:nvPr/>
        </p:nvPicPr>
        <p:blipFill>
          <a:blip r:embed="rId1"/>
          <a:stretch/>
        </p:blipFill>
        <p:spPr>
          <a:xfrm>
            <a:off x="7731000" y="0"/>
            <a:ext cx="1324080" cy="145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33360" y="1349280"/>
            <a:ext cx="850572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Public good aspects to some capacity build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ns resources are more efficiently utilized if done in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Cross-regional learning and knowledge transfer is max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PP approaches and experiences in Asia, Europe, Africa, Latin America etc. means that we need to develop strong links both between PPP practitioners and learning institutes =&gt; collaborative effort from regional development banks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Arial"/>
              </a:rPr>
              <a:t>MP3IC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B, IADB and World Bank have begun collaboration through MP3IC, which covers range of activities including networking events (PPPI Days), development of diagnostics and development of lear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680" indent="-58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0000"/>
                </a:solidFill>
                <a:latin typeface="Arial"/>
              </a:rPr>
              <a:t>Global PP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built up from the global and regional meetings to form a “virtual” network for knowledge and learning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are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nt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ris@worldbank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25:19Z</dcterms:created>
  <dc:creator>wb174658</dc:creator>
  <dc:description/>
  <dc:language>en-US</dc:language>
  <cp:lastModifiedBy>dennisb</cp:lastModifiedBy>
  <dcterms:modified xsi:type="dcterms:W3CDTF">2010-08-02T18:57:30Z</dcterms:modified>
  <cp:revision>438</cp:revision>
  <dc:subject/>
  <dc:title>Slide 1</dc:title>
</cp:coreProperties>
</file>