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EE30-9757-4CC8-967D-5E986BC6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F05-99D6-4ABA-BB3D-DEB0CBD0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D514-41C3-4E26-AAA8-0A73224A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2E5-9123-4E1F-8575-5E844589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EBC7-1D3F-4689-92F1-8A5ED15C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A0E-0DA2-40BE-8954-CFDDB382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AA8-6356-44D3-93A5-7B3D0E41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800-492A-4633-8163-8A153CB1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28A-9C28-4C28-BA51-42BA5C41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AAB-C801-4E6E-B94B-61B25BF1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2DC3-B7F1-4207-9194-9F6DCEA7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B3B9-5901-47FE-B500-0D2294C1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9CE1-FBEB-40F7-8110-9F3B5FDF21D8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Anthropometric Failures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nutrition, early child interventions and emotional, and cognitive development potential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9621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 by: Antonio Giuffrida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al Programs Division - Regional Operations Department 3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DB - PAHO Workshop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Washington DC, 2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of May 2007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3" name="idblogo" descr=""/>
          <p:cNvPicPr/>
          <p:nvPr/>
        </p:nvPicPr>
        <p:blipFill>
          <a:blip r:embed="rId1"/>
          <a:stretch/>
        </p:blipFill>
        <p:spPr>
          <a:xfrm>
            <a:off x="3505320" y="3124080"/>
            <a:ext cx="2182680" cy="91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BC09-28FA-40BB-A315-DFA76D5D877D}" type="slidenum">
              <a:t>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me key messa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wide more than 200M children under 5 fail to reach their potential in cognitive development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d children are less likely to be productive in adulthoo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er years of schooling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learning per year of schooling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ing nutrition/ECD is an important step to reach MD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few years of life are particularly importa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A5D6-44EA-46B2-8F45-5139EBD6F5FC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ow poverty, poor health, nutrition and care affect child development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292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6019920"/>
            <a:ext cx="455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ource: Grantham-McGregor, et al. Lancet 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1D87-8341-40A5-A8A4-43830DF37CB9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ality of Life: Human Capital Capabilities Approach (CA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our understanding of linkages between nutrition/ECD and development change if we adopt a human capital CA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our understanding of the importance (i.e. returns) of nutrition/ECD intervention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we construct and measure differently a Human Development Potential Index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994-A5A2-4ABA-A7A9-0789C1BF7321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’s Capabilities Approac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should be evaluated in term of the “expansion of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pabilit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people to lead the kinds of life they value“ (Sen, 1999:18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pability perspec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volves the concentration on freedoms to achieve in general and the capabilities to function in particular” (Sen, 1995:266).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less formally: capability is a sort of freedom; the substantive freedom to achieve alternative functioning combinations (i.e. different lifestyles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6BA-37B7-4357-982F-D316650E82D2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: Nutrition/ECD and Develop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s to broaden economics beyond commodities and open it to more interdisciplinary cooperation (Gasper, 2002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ss that how people live (the category of functionings) is more important than what they earn or consum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9102-2841-4EB0-9003-EC08E407C599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: Importance of nutrition/ECD interven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hould ask whether: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they provide capability for choice; and/o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they provide capability for a good life; and/o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ey valued in themselves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tion/ECD interventions are important under all three dimensions !!!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us, a pure welfarist approach may be limit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BDF-DF74-4A4D-9914-26072845773C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: Measurement issu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goods are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e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freedom  to achieve, and cannot be taken as indicators of freedom themselves” Sen (1999:264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us we should consider, both: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imary goods the persons respectively holds;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levant characteristics that govern the conversion of primary good into the person’s ability to promote his/her end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5C3-9D0E-4F2A-8A94-ED55124E2D60}" type="slidenum">
              <a:t>8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7T16:12:20Z</dcterms:created>
  <dc:creator>Antonio Giuffrida</dc:creator>
  <dc:description/>
  <dc:language>en-US</dc:language>
  <cp:lastModifiedBy>Administrator</cp:lastModifiedBy>
  <cp:lastPrinted>2001-08-31T19:44:03Z</cp:lastPrinted>
  <dcterms:modified xsi:type="dcterms:W3CDTF">2007-05-25T13:01:00Z</dcterms:modified>
  <cp:revision>734</cp:revision>
  <dc:subject/>
  <dc:title>International Migration of Physicians and Nurses</dc:title>
</cp:coreProperties>
</file>