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C648-391F-4552-9679-A730CF97B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EA60-84E9-46FD-8938-FEEF4CA70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391F-7DC6-4DBA-9BF2-B1CD1C966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5B1D-BA8B-41BF-AE05-84A15E2A8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AA9F-6469-4D9B-815C-25EA9E89A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E18E-67DC-476B-8E20-681514772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1366-15A8-4AEF-8E08-1A420DC8C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7D9F-20C8-4814-BC4A-DA6CE544F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7AC8-D97D-41C9-AFCF-60BAF5355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9D58-B1E4-4D1E-BB56-34B228CC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F936-ADB0-452C-B178-276A1922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CDBE-8E99-47B6-89F4-5DBF5BE3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D891B-CCB8-488F-82C1-D11E7FE7E14B}" type="slidenum"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915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Anthropometric Failures: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nutrition, early child interventions and emotional, and cognitive development potential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3962160"/>
            <a:ext cx="91440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ents by: Antonio Giuffrida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cial Programs Division - Regional Operations Department 3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DB - PAHO Workshop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Washington DC, 25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of May 2007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43" name="idblogo" descr=""/>
          <p:cNvPicPr/>
          <p:nvPr/>
        </p:nvPicPr>
        <p:blipFill>
          <a:blip r:embed="rId1"/>
          <a:stretch/>
        </p:blipFill>
        <p:spPr>
          <a:xfrm>
            <a:off x="3505320" y="3124080"/>
            <a:ext cx="2182680" cy="91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AC76-5D59-4B3A-868E-6AA500BE27B0}" type="slidenum">
              <a:t>1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ome key messag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ldwide more than 200M children under 5 fail to reach their potential in cognitive development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advantaged children are less likely to be productive in adulthoo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wer years of schooling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s learning per year of schooling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ing nutrition/ECD is an important step to reach MD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irst few years of life are particularly importan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18AE-0C6F-411A-89B8-C13E728B58E7}" type="slidenum">
              <a:t>2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How poverty, poor health, nutrition and care affect child development 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8686800" cy="4292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838080" y="6019920"/>
            <a:ext cx="455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Source: Grantham-McGregor, et al. Lancet 200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E460-59F0-4BD6-8EC1-E05C1D542BCA}" type="slidenum">
              <a:t>3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Quality of Life: Human Capital Capabilities Approach (CA)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848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our understanding of linkages between nutrition/ECD and development change if we adopt a human capital CA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our understanding of the importance (i.e. returns) of nutrition/ECD interventions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uld we construct and measure differently a Human Development Potential Index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9331-8BB2-45E5-97E4-555D84BCAE04}" type="slidenum">
              <a:t>4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en’s Capabilities Approach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ment should be evaluated in term of the “expansion of th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apabiliti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people to lead the kinds of life they value“ (Sen, 1999:18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apability perspecti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volves the concentration on freedoms to achieve in general and the capabilities to function in particular” (Sen, 1995:266).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, less formally: capability is a sort of freedom; the substantive freedom to achieve alternative functioning combinations (i.e. different lifestyles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4977-4039-42E2-9C78-42C5422AE2EC}" type="slidenum">
              <a:t>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A: Nutrition/ECD and Developme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lps to broaden economics beyond commodities and open it to more interdisciplinary cooperation (Gasper, 2002)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ess that how people live (the category of functionings) is more important than what they earn or consume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3795-C92D-47E8-BE06-73EF1F4DD5CD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A: Importance of nutrition/ECD interven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should ask whether: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they provide capability for choice; and/or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they provide capability for a good life; and/or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they valued in themselves.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trition/ECD interventions are important under all three dimensions !!!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us, a pure welfarist approach may be limite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7131-0A0E-4762-8119-8CC6FC053237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A: Measurement issu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mary goods are th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ea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the freedom  to achieve, and cannot be taken as indicators of freedom themselves” Sen (1999:264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us we should consider, both: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imary goods the persons respectively holds;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elevant characteristics that govern the conversion of primary good into the person’s ability to promote his/her end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9A77-70FC-4902-88D1-EEEF5358B4A2}" type="slidenum">
              <a:t>8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7T16:12:20Z</dcterms:created>
  <dc:creator>Antonio Giuffrida</dc:creator>
  <dc:description/>
  <dc:language>en-US</dc:language>
  <cp:lastModifiedBy>Administrator</cp:lastModifiedBy>
  <cp:lastPrinted>2001-08-31T19:44:03Z</cp:lastPrinted>
  <dcterms:modified xsi:type="dcterms:W3CDTF">2007-05-25T13:01:00Z</dcterms:modified>
  <cp:revision>734</cp:revision>
  <dc:subject/>
  <dc:title>International Migration of Physicians and Nurses</dc:title>
</cp:coreProperties>
</file>