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C0830-C3C8-4DD9-BE69-AF94CACE8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B7D80-3D39-4541-8A63-AE25CA4C5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E38F4-1566-46DB-9C1C-4C6E00F49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DC6D0-6A67-46E6-8119-FEE82D5F5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717AB-1DC9-43B7-8407-E93553AD2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51915-4C39-466F-B3AE-2A205F49D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F1093-845D-49FB-A821-52F118150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CE915-E1CE-45FE-8B6D-BD679CEC0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9F6A5-E9A4-4F0C-BD1A-194A2659E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6DCE4-64BB-49D0-A8F4-F0AD000EA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5167-3033-4F54-8E28-B8BDCA545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6DB1-7C7D-4DFC-95D3-623DEACCB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2373-68DF-4C5B-A060-EC24DF67E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nglives.org.uk/" TargetMode="External"/><Relationship Id="rId2" Type="http://schemas.openxmlformats.org/officeDocument/2006/relationships/hyperlink" Target="http://www.ninosdelmilenio.org/" TargetMode="External"/><Relationship Id="rId3" Type="http://schemas.openxmlformats.org/officeDocument/2006/relationships/hyperlink" Target="mailto:scueto@grade.org.pe"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600" spc="-1" strike="noStrike">
                <a:solidFill>
                  <a:srgbClr val="000000"/>
                </a:solidFill>
                <a:latin typeface="Arial"/>
              </a:rPr>
              <a:t>Additional analysis of Nutritional Indicators and Children’s Development</a:t>
            </a:r>
            <a:endParaRPr b="0" lang="en-US" sz="3600" spc="-1" strike="noStrike">
              <a:solidFill>
                <a:srgbClr val="000000"/>
              </a:solidFill>
              <a:latin typeface="Arial"/>
            </a:endParaRPr>
          </a:p>
        </p:txBody>
      </p:sp>
      <p:sp>
        <p:nvSpPr>
          <p:cNvPr id="42" name="PlaceHolder 2"/>
          <p:cNvSpPr>
            <a:spLocks noGrp="1"/>
          </p:cNvSpPr>
          <p:nvPr>
            <p:ph/>
          </p:nvPr>
        </p:nvSpPr>
        <p:spPr>
          <a:xfrm>
            <a:off x="457200" y="3505320"/>
            <a:ext cx="8229600" cy="2087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antiago Cueto</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GRAD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ima,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600" spc="-1" strike="noStrike">
                <a:solidFill>
                  <a:srgbClr val="000000"/>
                </a:solidFill>
                <a:latin typeface="Arial"/>
              </a:rPr>
              <a:t>Neonatal Iron Status and Temperament*</a:t>
            </a:r>
            <a:endParaRPr b="0" lang="en-US" sz="3600" spc="-1" strike="noStrike">
              <a:solidFill>
                <a:srgbClr val="000000"/>
              </a:solidFill>
              <a:latin typeface="Arial"/>
            </a:endParaRPr>
          </a:p>
        </p:txBody>
      </p:sp>
      <p:sp>
        <p:nvSpPr>
          <p:cNvPr id="44" name="PlaceHolder 2"/>
          <p:cNvSpPr>
            <a:spLocks noGrp="1"/>
          </p:cNvSpPr>
          <p:nvPr>
            <p:ph type="subTitle"/>
          </p:nvPr>
        </p:nvSpPr>
        <p:spPr>
          <a:xfrm>
            <a:off x="1295280" y="3124080"/>
            <a:ext cx="6400800" cy="28958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Temperament: “Biologically rooted individual differences in behavior tendencies that are present early in life and are relatively stable across various kinds of situations and over the course of time.”</a:t>
            </a:r>
            <a:endParaRPr b="0" lang="en-US" sz="2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Based on Wachs, Pollitt, Cueto, Jacoby &amp; Creed-Kanashiro (2005). Relation of neonatal iron status to individual variability in neonatal temperament. </a:t>
            </a:r>
            <a:r>
              <a:rPr b="0" i="1" lang="es-PE" sz="1400" spc="-1" strike="noStrike">
                <a:solidFill>
                  <a:srgbClr val="000000"/>
                </a:solidFill>
                <a:latin typeface="Arial"/>
              </a:rPr>
              <a:t>Developmental Psychobiology, 46</a:t>
            </a:r>
            <a:r>
              <a:rPr b="0" lang="es-PE" sz="1400" spc="-1" strike="noStrike">
                <a:solidFill>
                  <a:srgbClr val="000000"/>
                </a:solidFill>
                <a:latin typeface="Arial"/>
              </a:rPr>
              <a:t>, 141-15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Neonatal Iron Status and Temperament: Main results</a:t>
            </a:r>
            <a:endParaRPr b="0" lang="en-US" sz="3200" spc="-1" strike="noStrike">
              <a:solidFill>
                <a:srgbClr val="000000"/>
              </a:solidFill>
              <a:latin typeface="Arial"/>
            </a:endParaRPr>
          </a:p>
        </p:txBody>
      </p:sp>
      <p:graphicFrame>
        <p:nvGraphicFramePr>
          <p:cNvPr id="46" name=""/>
          <p:cNvGraphicFramePr/>
          <p:nvPr/>
        </p:nvGraphicFramePr>
        <p:xfrm>
          <a:off x="457200" y="2133720"/>
          <a:ext cx="8229600" cy="3457440"/>
        </p:xfrm>
        <a:graphic>
          <a:graphicData uri="http://schemas.openxmlformats.org/presentationml/2006/ole">
            <p:oleObj progId="Word.Document.12" r:id="rId1" spid="">
              <p:embed/>
              <p:pic>
                <p:nvPicPr>
                  <p:cNvPr id="47" name="" descr=""/>
                  <p:cNvPicPr/>
                  <p:nvPr/>
                </p:nvPicPr>
                <p:blipFill>
                  <a:blip r:embed="rId2"/>
                  <a:stretch/>
                </p:blipFill>
                <p:spPr>
                  <a:xfrm>
                    <a:off x="457200" y="2133720"/>
                    <a:ext cx="8229600" cy="34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 and weight as predictors of achievement, grade repetition and dropout in rural Peru</a:t>
            </a:r>
            <a:endParaRPr b="0" lang="en-US" sz="3200" spc="-1" strike="noStrike">
              <a:solidFill>
                <a:srgbClr val="000000"/>
              </a:solidFill>
              <a:latin typeface="Arial"/>
            </a:endParaRPr>
          </a:p>
        </p:txBody>
      </p:sp>
      <p:graphicFrame>
        <p:nvGraphicFramePr>
          <p:cNvPr id="49" name=""/>
          <p:cNvGraphicFramePr/>
          <p:nvPr/>
        </p:nvGraphicFramePr>
        <p:xfrm>
          <a:off x="457200" y="1600200"/>
          <a:ext cx="8229600" cy="4525920"/>
        </p:xfrm>
        <a:graphic>
          <a:graphicData uri="http://schemas.openxmlformats.org/drawingml/2006/table">
            <a:tbl>
              <a:tblPr/>
              <a:tblGrid>
                <a:gridCol w="1650960"/>
                <a:gridCol w="1190520"/>
                <a:gridCol w="1003320"/>
                <a:gridCol w="1190880"/>
                <a:gridCol w="1000080"/>
                <a:gridCol w="1191960"/>
                <a:gridCol w="1001880"/>
              </a:tblGrid>
              <a:tr h="444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ea typeface="Arial"/>
                        </a:rPr>
                        <a:t>In high schoo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peated grad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ropped out</a:t>
                      </a:r>
                      <a:endParaRPr b="0" lang="en-US" sz="16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D</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90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ight for age</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2</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2</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3</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90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age</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4</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0</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1</a:t>
                      </a:r>
                      <a:r>
                        <a:rPr b="0" lang="en-US"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909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ight for age</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90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ody mass index</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7.1</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6.9</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5</a:t>
                      </a:r>
                      <a:r>
                        <a:rPr b="0" lang="en-US"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3</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 and weight: </a:t>
            </a:r>
            <a:r>
              <a:rPr b="0" lang="es-PE" sz="3200" spc="-1" strike="noStrike">
                <a:solidFill>
                  <a:srgbClr val="000000"/>
                </a:solidFill>
                <a:latin typeface="Arial"/>
              </a:rPr>
              <a:t>Hierarchical Linear Models Results*</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Achievement in reading comprehension and mathematics in 4th grade predicted achievement two years later, as well as (indirectly) gender (males, only for reading) and maternal language (Spanish). Achievement was also associated with grade in sch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Achievement and Spanish speaking predicted entering high school without repeating a gr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Dropping out was associated with gender (females p&lt;0.05), student age (+, p&lt;0.001) and Height for age z-score (+, p&lt;0.1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Based on Cueto, S. (2005). Height, weight and education achievement in rural Peru. Food and Nutrition Bulletin, 26(2), S251-S2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600" spc="-1" strike="noStrike">
                <a:solidFill>
                  <a:srgbClr val="000000"/>
                </a:solidFill>
                <a:latin typeface="Arial"/>
              </a:rPr>
              <a:t>Young Lives: An International Study of Childhood Poverty (I)</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r>
              <a:rPr b="1" lang="en-GB" sz="2400" spc="-1" strike="noStrike">
                <a:solidFill>
                  <a:srgbClr val="000000"/>
                </a:solidFill>
                <a:latin typeface="Arial"/>
              </a:rPr>
              <a:t> “</a:t>
            </a:r>
            <a:r>
              <a:rPr b="0" lang="en-GB" sz="2400" spc="-1" strike="noStrike">
                <a:solidFill>
                  <a:srgbClr val="000000"/>
                </a:solidFill>
                <a:latin typeface="Arial"/>
              </a:rPr>
              <a:t>To develop and document a strategy that uses evidence from longitudinal quantitative and qualitative research and policy analysis to influence the development and implementation of pro-poor policies in order to reduce childhood poverty in the study countries and, via dissemination of lessons learned, globa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ongitudinal study carried out in Ethiopia, India (Andra Pradesh), Peru and Vietn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Two cohorts: 2.000 children ages 6 to 17 months and 1.000 children ages 7.5 to 8.5 years in 2002; 2nd round of data is being collected now and will continue until 201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600" spc="-1" strike="noStrike">
                <a:solidFill>
                  <a:srgbClr val="000000"/>
                </a:solidFill>
                <a:latin typeface="Arial"/>
              </a:rPr>
              <a:t>Young Lives: Perspectives for analysis</a:t>
            </a: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Two rounds of data on several individual, family and community variables related to causes and consequences of growing up in poverty, including information on public and private progr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urveys include anthropometric and cognitive and achievement measures of children (Raven, vocabulary, and mathematics): opportunity to explore relations in different socioeconomic contexts and altitud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Reports published include information on effects of having a newborn on income diversification and potential income of FTA on children’s wellbeing.</a:t>
            </a:r>
            <a:endParaRPr b="0" lang="en-US" sz="24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More information on </a:t>
            </a:r>
            <a:r>
              <a:rPr b="0" lang="es-PE" sz="2400" spc="-1" strike="noStrike" u="sng">
                <a:solidFill>
                  <a:srgbClr val="009999"/>
                </a:solidFill>
                <a:uFillTx/>
                <a:latin typeface="Arial"/>
                <a:hlinkClick r:id="rId1"/>
              </a:rPr>
              <a:t>www.younglives.org.uk</a:t>
            </a:r>
            <a:r>
              <a:rPr b="0" lang="es-PE" sz="2400" spc="-1" strike="noStrike">
                <a:solidFill>
                  <a:srgbClr val="000000"/>
                </a:solidFill>
                <a:latin typeface="Arial"/>
              </a:rPr>
              <a:t> (including surveys and data from round 1) or </a:t>
            </a:r>
            <a:r>
              <a:rPr b="0" lang="es-PE" sz="2000" spc="-1" strike="noStrike" u="sng">
                <a:solidFill>
                  <a:srgbClr val="009999"/>
                </a:solidFill>
                <a:uFillTx/>
                <a:latin typeface="Arial"/>
                <a:hlinkClick r:id="rId2"/>
              </a:rPr>
              <a:t>www.ninosdelmilenio.org</a:t>
            </a:r>
            <a:r>
              <a:rPr b="0" lang="es-PE" sz="2000" spc="-1" strike="noStrike">
                <a:solidFill>
                  <a:srgbClr val="000000"/>
                </a:solidFill>
                <a:latin typeface="Arial"/>
              </a:rPr>
              <a:t> </a:t>
            </a:r>
            <a:r>
              <a:rPr b="0" lang="es-PE" sz="2200" spc="-1" strike="noStrike">
                <a:solidFill>
                  <a:srgbClr val="000000"/>
                </a:solidFill>
                <a:latin typeface="Arial"/>
              </a:rPr>
              <a:t>or write me</a:t>
            </a:r>
            <a:r>
              <a:rPr b="0" lang="es-PE" sz="2400" spc="-1" strike="noStrike">
                <a:solidFill>
                  <a:srgbClr val="000000"/>
                </a:solidFill>
                <a:latin typeface="Arial"/>
              </a:rPr>
              <a:t> </a:t>
            </a:r>
            <a:r>
              <a:rPr b="0" lang="es-PE" sz="2200" spc="-1" strike="noStrike" u="sng">
                <a:solidFill>
                  <a:srgbClr val="009999"/>
                </a:solidFill>
                <a:uFillTx/>
                <a:latin typeface="Arial"/>
                <a:hlinkClick r:id="rId3"/>
              </a:rPr>
              <a:t>scueto@grade.org.pe</a:t>
            </a:r>
            <a:r>
              <a:rPr b="0" lang="es-PE"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2:44:54Z</dcterms:created>
  <dc:creator>Santiago Cueto</dc:creator>
  <dc:description/>
  <dc:language>en-US</dc:language>
  <cp:lastModifiedBy>Santiago Cueto</cp:lastModifiedBy>
  <dcterms:modified xsi:type="dcterms:W3CDTF">2007-05-25T11:47:32Z</dcterms:modified>
  <cp:revision>14</cp:revision>
  <dc:subject/>
  <dc:title>Neonatal Iron Status and Temperament*</dc:title>
</cp:coreProperties>
</file>