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99cd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6DFC-85A1-4A8C-A64D-23D11C0E4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39A7-E3D9-4697-9E55-6126A2260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8572-40B6-4C02-97C6-5710D416C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0788-F862-42FF-9BCB-94C3296B6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D4D6-CBBF-44E6-A59C-62C6CE315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9915-F529-4389-8774-5971CE6E5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891F-9112-4859-B14A-42BEA5F69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D8D7-F379-4351-B3CE-1017D8CBC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E612-4143-4BD4-9387-E87881DC5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4C3-A33B-4CD5-BE96-7AD91019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5D9-C463-4C1C-8AF6-9BAE91B7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398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3988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F56-F448-4820-B346-4DB77554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520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1284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520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1284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7A4-7CA4-456A-A4F1-49D8B505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DB3-CB61-4B37-8216-B871A28A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64D-CA8D-4FD8-B857-16AFCEDC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3988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2C0-02B5-4256-AE03-B574A6D2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A61-41F3-4BEA-AAAB-64520A64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7D6-B9E9-44D5-991D-63DE61B1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3988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9BA-BEB4-4FE3-9FC0-7A1DBC4E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98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3988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935-FD29-460E-89BA-75026617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398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768-1DB5-4DAD-9A3B-9F4810E9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99c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91240"/>
            <a:ext cx="1295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8440" y="659124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09960"/>
            <a:ext cx="2362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9D61-45A3-49BB-9CFB-8413DA29E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220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logofinal power point"/>
          <p:cNvPicPr/>
          <p:nvPr/>
        </p:nvPicPr>
        <p:blipFill>
          <a:blip r:embed="rId3"/>
          <a:stretch/>
        </p:blipFill>
        <p:spPr>
          <a:xfrm>
            <a:off x="7467480" y="5562720"/>
            <a:ext cx="1524240" cy="936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"/>
          <p:cNvPicPr/>
          <p:nvPr/>
        </p:nvPicPr>
        <p:blipFill>
          <a:blip r:embed="rId4"/>
          <a:stretch/>
        </p:blipFill>
        <p:spPr>
          <a:xfrm>
            <a:off x="6629400" y="5486400"/>
            <a:ext cx="773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9cd"/>
                </a:solidFill>
                <a:latin typeface="Arial"/>
              </a:rPr>
              <a:t>A Strategic Alliance</a:t>
            </a:r>
            <a:endParaRPr b="1" lang="en-US" sz="36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7760" y="2819520"/>
            <a:ext cx="55623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IF Program to Promote Public Private Partnerships for Infrastructure in Latin America and the Carib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8-20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3048120" cy="34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Program Goals 2010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9144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isory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additional Advisory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and preparation of 3 new PPP capacity building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ledge 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 of Spanish cas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on PPP experiences from Latin America and the Caribbean to be held in Braz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i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fra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 with World Bank and Asian Development Bank to develop new global PPP learning mate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ool – value for money analysis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99cd"/>
                </a:solidFill>
                <a:latin typeface="Arial"/>
              </a:rPr>
              <a:t>Contacts</a:t>
            </a:r>
            <a:endParaRPr b="1" lang="en-US" sz="28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Bloom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ior Project Speciali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lateral Investmen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B@iadb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ío Ques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quesad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@iadb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99cd"/>
                </a:solidFill>
                <a:latin typeface="Arial"/>
              </a:rPr>
              <a:t>About the Program</a:t>
            </a:r>
            <a:endParaRPr b="1" lang="en-US" sz="2800" spc="-1" strike="noStrike">
              <a:solidFill>
                <a:srgbClr val="0399cd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Program Rationale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fficient capacity to plan and carry out PPP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dequate legal, regulatory, institutional environment for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t renegot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ntended fiscal 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156200"/>
            <a:ext cx="2895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99cd"/>
                </a:solidFill>
                <a:latin typeface="Arial"/>
              </a:rPr>
              <a:t>Program  Goal</a:t>
            </a:r>
            <a:endParaRPr b="1" lang="en-US" sz="28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9907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capacity to plan and carry out public private partnerships in infrastructure in Latin America and the Carib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Program Funding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3,000 (General Cooperation Fund of Sp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5,000,000 (Multilateral Investment F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isory 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nowledge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80880" y="22860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99cd"/>
                </a:solidFill>
                <a:latin typeface="Arial"/>
              </a:rPr>
              <a:t>Program Accomplishments</a:t>
            </a:r>
            <a:endParaRPr b="1" lang="en-US" sz="2800" spc="-1" strike="noStrike">
              <a:solidFill>
                <a:srgbClr val="0399cd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Advisory Services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PPP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284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uay – National PPP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284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Salvador – PPP Policy Se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284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uador – Municipal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284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entina – Bus System in Ro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2844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uguay – Urban Transport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Project Preparation Support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F Con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u – US$ 73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uay – US$ 6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xico – US$ 2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nidad and Tobago – US$ 75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IF contributions of  US$ 4,090,000 have leveraged an additional US$ 4 million in country con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486400" y="9907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Disseminating Knowledge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on hospital PPPs in Washington, D.C.,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frascop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easure capacity to implement PPPs and identify areas for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:  “Infrastructure Development for Sustainable Economic Growth:  Lessons Learned from the Spanish Experi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4178160"/>
            <a:ext cx="38862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nnis Allen Blumenfeld</cp:lastModifiedBy>
  <dcterms:modified xsi:type="dcterms:W3CDTF">2009-10-23T21:01:02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