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FB2A-E828-4D0F-B5DA-3977AF9A6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DA6E-8286-4986-AAE1-8D6F93FBE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44E5-3791-4BAB-85D3-3757D90A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3ED1-4FF8-4607-B532-90E314283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191C-6C4A-47D8-94DB-C3E8E5430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6658-D633-45AA-BD60-A4AD1190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D187-C4B9-4F8F-AB4E-CF41C8201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DA73-3E16-46F8-99F5-D96FD8E6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0174-2CA3-45B1-8B6D-51F2D59F8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A65-7BA8-499F-AB05-454BF689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603-8A61-42D2-A28E-8A4CF074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398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398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23C-BA7F-4CEF-B186-13A58958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2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1284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2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1284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A12-6BAF-4352-83F6-5F354A8E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890-B3DA-4DAA-A799-8E1CA46A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36D-2AB3-47EE-B1F4-63EBF9E6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398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71F-92E1-46AC-9B1A-E30B1B5C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90D-2964-4C1E-88B8-CBB7AB3A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CCC-BD69-4A88-A664-D69E291C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98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884-76D7-4380-B0D5-399753A3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98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398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59F-FA37-4D1D-BBB9-E614FC26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98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BDC-F241-47AF-9705-88A2A10D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91240"/>
            <a:ext cx="129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8440" y="659124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09960"/>
            <a:ext cx="2362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0CBF-28E6-4AF8-9E4E-503AAE1D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220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logofinal power point"/>
          <p:cNvPicPr/>
          <p:nvPr/>
        </p:nvPicPr>
        <p:blipFill>
          <a:blip r:embed="rId3"/>
          <a:stretch/>
        </p:blipFill>
        <p:spPr>
          <a:xfrm>
            <a:off x="7467480" y="5562720"/>
            <a:ext cx="1524240" cy="936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"/>
          <p:cNvPicPr/>
          <p:nvPr/>
        </p:nvPicPr>
        <p:blipFill>
          <a:blip r:embed="rId4"/>
          <a:stretch/>
        </p:blipFill>
        <p:spPr>
          <a:xfrm>
            <a:off x="6629400" y="5486400"/>
            <a:ext cx="773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9cd"/>
                </a:solidFill>
                <a:latin typeface="Arial"/>
              </a:rPr>
              <a:t>A Strategic Alliance</a:t>
            </a:r>
            <a:endParaRPr b="1" lang="en-US" sz="36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7760" y="2819520"/>
            <a:ext cx="55623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IF Program to Promote Public Private Partnerships for Infrastructure in Latin America and the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8-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04812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Program Goals 2010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9144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isory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additional Advisory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and preparation of 3 new PPP capacity building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ledge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 of Spanish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on PPP experiences from Latin America and the Caribbean to be held in Braz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i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fra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with World Bank and Asian Development Bank to develop new global PPP learning mate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ool – value for money analysis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9cd"/>
                </a:solidFill>
                <a:latin typeface="Arial"/>
              </a:rPr>
              <a:t>Contacts</a:t>
            </a:r>
            <a:endParaRPr b="1" lang="en-US" sz="28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Bloom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 Project Speciali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lateral Investmen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B@iadb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ío Qu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quesa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@iadb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9cd"/>
                </a:solidFill>
                <a:latin typeface="Arial"/>
              </a:rPr>
              <a:t>About the Program</a:t>
            </a:r>
            <a:endParaRPr b="1" lang="en-US" sz="2800" spc="-1" strike="noStrike">
              <a:solidFill>
                <a:srgbClr val="0399cd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Program Rationale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fficient capacity to plan and carry out PPP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legal, regulatory, institutional environment for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 renegot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ntended fiscal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156200"/>
            <a:ext cx="2895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9cd"/>
                </a:solidFill>
                <a:latin typeface="Arial"/>
              </a:rPr>
              <a:t>Program  Goal</a:t>
            </a:r>
            <a:endParaRPr b="1" lang="en-US" sz="28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9907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capacity to plan and carry out public private partnerships in infrastructure in Latin America and the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Program Funding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3,000 (General Cooperation Fund of Sp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5,000,000 (Multilateral Investment F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isory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ledge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80880" y="22860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9cd"/>
                </a:solidFill>
                <a:latin typeface="Arial"/>
              </a:rPr>
              <a:t>Program Accomplishments</a:t>
            </a:r>
            <a:endParaRPr b="1" lang="en-US" sz="2800" spc="-1" strike="noStrike">
              <a:solidFill>
                <a:srgbClr val="0399cd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Advisory Services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PPP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84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uay – National PPP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84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alvador – PPP Policy Se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84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uador – Municipal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84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entina – Bus System in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84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uguay – Urban Transport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Project Preparation Support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F Con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u – US$ 73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uay – US$ 6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o – US$ 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nidad and Tobago – US$ 7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F contributions of  US$ 4,090,000 have leveraged an additional US$ 4 million in country con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86400" y="9907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Disseminating Knowledge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on hospital PPPs in Washington, D.C.,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frascop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easure capacity to implement PPPs and identify areas for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:  “Infrastructure Development for Sustainable Economic Growth:  Lessons Learned from the Spanish Experi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178160"/>
            <a:ext cx="38862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nnis Allen Blumenfeld</cp:lastModifiedBy>
  <dcterms:modified xsi:type="dcterms:W3CDTF">2009-10-23T21:01:02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